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Text Box 2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dt" idx="3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4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Calibri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8003230-860F-4B2F-834C-6BBDF6AF00EA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BDBDB7E-7B31-40A3-9F3C-8FE86A0F62D5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EBEBCF9-7451-4F32-8F9E-BF0CC52ED65A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9C23812-0A8A-4B34-9063-1106DB368E3C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2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CD6F127-619E-4680-AC5E-3E6F019415E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9398D3E-6F67-4409-A676-006EE647E839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  <a:ea typeface="MS Gothic"/>
              </a:rPr>
              <a:t>predlžovanie RT – kvôli poruchám prístojo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DA5AB14-0143-494E-8AF2-D27832EB48F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9665A1E-4DE1-4350-A01C-DF836252F175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7156E02-140B-4E53-BB11-C2F00955428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87B4CFD-84C8-4FEB-8C3A-2FD6C11F08DE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  <a:ea typeface="MS Gothic"/>
              </a:rPr>
              <a:t>Tu je chyba, špecifické prežívanie nemôže byť horšie ako celkové, v čase 108 mes. je jedno úmrtie, ktoré v celkovom nie j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9D2D6AC-BA98-494F-86DA-0740D7513C4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A628390-ABE4-4690-8628-B179BF43B085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5F4DB96-368E-49E8-8037-1F3231C0A7D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C42E77A-2247-449D-9D03-A6BAE9736133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6F9407B-A7EB-4752-8968-E6F63A42C3B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BBD380F-E63A-4775-89A8-94EC6C5D533F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B6A3EDB-EF92-4975-AA71-2806944091D1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438605C-DA33-47E3-89F6-C71995B70563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9E23000-8A1A-45BD-A8C1-DFAB288DAA6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736B45A-6037-473C-A730-7A245727B17A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6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  <a:ea typeface="MS Gothic"/>
              </a:rPr>
              <a:t>prísny limit pre chudnutie – 8% - sonda, renálna – z extrarenálnych príč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B10AFDF-CBDE-4439-96B1-92C5158C9CCA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6715AB5-8489-4255-A187-6B28C0D4CF34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8A4011C-8D47-47B2-B126-37BC8F5ADDD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EDCAA8B-379D-4491-BBD9-405A55D107FF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0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  <a:ea typeface="MS Gothic"/>
              </a:rPr>
              <a:t>prísny limit pre chudnutie – 8% - sonda, renálna – z extrarenálnych príč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2D761FA-97BC-4CB2-BE89-4AD6C516ECC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C824AC4-D707-43E1-9639-906D8A847FFE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4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750546C-4C2D-4726-A82E-1FEE3FAD472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D4ED6DD-75C0-424B-8518-340E55E049F1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1DE3DE7-39E0-4165-ACB0-9A6AE68B550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EB4D2F6-1B42-4AC1-88A3-7D716428EEAA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  <a:ea typeface="MS Gothic"/>
              </a:rPr>
              <a:t>metaanalýza 5 random štúdií – bez prínosu IC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C946476-F6DD-4CF2-AAC3-DE131581CD2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F988D18-D688-4586-98F4-D6AA40CED45F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  <a:ea typeface="MS Gothic"/>
              </a:rPr>
              <a:t>plus dozimetrická výho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9C90829-A108-4C61-8DEA-C7C93DC7C41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9CEC0B3-4A98-487C-8750-10343B5F6B3B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B4D73DD-2765-49C8-AD4E-49AFFF781BF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CAB958F-F6CB-431F-BA87-D12484BA3BEA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D7A9016-74BB-477F-9D7D-BEB14ED83F3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706B7B5-EDF7-4A28-BCBC-5A3E260C15EC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7E745ED-62BB-4877-9C54-96E5ABFD0B9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Zástupný symbol čísla snímky 3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2B52D7C-8606-4387-9B5F-0678F28572C0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CAF782-5207-44EA-9216-EF231B631A5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1C2EDF-1799-40CC-A5D6-B022E78A4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37FEA3-AE90-421C-A098-60854FABD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58DDD1-A8ED-4EEF-A3F9-9A889030ECC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74AB70-795B-4C51-ABEE-95FA0A320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287433-0A80-4729-947B-236542EA3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EB0B6A-CE74-4B68-B78E-0BD8BE50F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0DD3E5-F781-42F1-AC9A-1F5CA14CC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25760D-FDE6-4E3F-B628-E84BC8823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0098C1-AEDB-45B1-93F1-5D6BBAFE3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C08289-87C7-4789-982F-031F83A3A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C4784F-738D-4385-AD5D-A2BDB8595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308640"/>
            <a:ext cx="28958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200" spc="-1" strike="noStrike">
                <a:solidFill>
                  <a:srgbClr val="898989"/>
                </a:solidFill>
                <a:latin typeface="Calibri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147CC1C-647D-478D-8E11-1B1387282480}" type="slidenum">
              <a:rPr b="0" lang="en-GB" sz="1200" spc="-1" strike="noStrike">
                <a:solidFill>
                  <a:srgbClr val="898989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1"/>
          <p:cNvSpPr/>
          <p:nvPr/>
        </p:nvSpPr>
        <p:spPr>
          <a:xfrm>
            <a:off x="685800" y="1600200"/>
            <a:ext cx="777240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alibri"/>
              </a:rPr>
              <a:t>Rádioterapia nádorov hlavy a krku  s cetuximabom s alebo bez indukčnej chemoterapie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Text Box 2"/>
          <p:cNvSpPr/>
          <p:nvPr/>
        </p:nvSpPr>
        <p:spPr>
          <a:xfrm>
            <a:off x="1371600" y="3886200"/>
            <a:ext cx="6400800" cy="20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GB" sz="2500" spc="-1" strike="noStrike">
                <a:solidFill>
                  <a:srgbClr val="898989"/>
                </a:solidFill>
                <a:latin typeface="Calibri"/>
              </a:rPr>
              <a:t>Marek Marinčák, Pavol Dubinský, Gabriela Barilíková, Pavol Matula, Daniela Nadzonová,  Matúš Zgola a Vladimír Vojtek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2500"/>
            </a:br>
            <a:r>
              <a:rPr b="0" i="1" lang="en-GB" sz="2500" spc="-1" strike="noStrike">
                <a:solidFill>
                  <a:srgbClr val="898989"/>
                </a:solidFill>
                <a:latin typeface="Calibri"/>
              </a:rPr>
              <a:t>Oddelenie radiačnej onkológie VOÚ, a.s.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Plánovanie rádioterapie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Text Box 2"/>
          <p:cNvSpPr/>
          <p:nvPr/>
        </p:nvSpPr>
        <p:spPr>
          <a:xfrm>
            <a:off x="250920" y="1600200"/>
            <a:ext cx="8713800" cy="49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Predpis celkovej dávky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MS Gothic"/>
              </a:rPr>
              <a:t>CRT: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MS Gothic"/>
              </a:rPr>
              <a:t>PTV1: 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  <a:ea typeface="MS Gothic"/>
              </a:rPr>
              <a:t>50 Gy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MS Gothic"/>
              </a:rPr>
              <a:t>PTV2: 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  <a:ea typeface="MS Gothic"/>
              </a:rPr>
              <a:t>70 Gy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MS Gothic"/>
              </a:rPr>
              <a:t>SIB IMRT: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MS Gothic"/>
              </a:rPr>
              <a:t>PTV1: profylaktické ožiarenie krku (CTV1 + 5 mm) 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  <a:ea typeface="MS Gothic"/>
              </a:rPr>
              <a:t>54 Gy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MS Gothic"/>
              </a:rPr>
              <a:t>PTV2: subklinické šírenie tumoru (CTV2 + 5 mm)   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  <a:ea typeface="MS Gothic"/>
              </a:rPr>
              <a:t>60 Gy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MS Gothic"/>
              </a:rPr>
              <a:t>PTV3: zjavný tumor (GTV+ 7 mm)                              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  <a:ea typeface="MS Gothic"/>
              </a:rPr>
              <a:t>67.5 Gy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Podaná liečba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Text Box 2"/>
          <p:cNvSpPr/>
          <p:nvPr/>
        </p:nvSpPr>
        <p:spPr>
          <a:xfrm>
            <a:off x="457200" y="1600200"/>
            <a:ext cx="8229600" cy="511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rádioterapia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1" marL="741240" indent="-2840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  <a:ea typeface="MS Gothic"/>
              </a:rPr>
              <a:t>podaná dávka nad 60 Gy: 47 pac.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lvl="1" marL="741240" indent="-2840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  <a:ea typeface="MS Gothic"/>
              </a:rPr>
              <a:t>predĺženie rádioterapie: medián o 3 dni ( 7 pac. 14.3% predĺženie o viac ako 10 dní )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‏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indukčná chemoterapia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1" marL="741240" indent="-2840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  <a:ea typeface="MS Gothic"/>
              </a:rPr>
              <a:t>bez: 29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741240" indent="-2840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  <a:ea typeface="MS Gothic"/>
              </a:rPr>
              <a:t>s:  20;   PF: 2  TPF:  18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741240" indent="-2840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  <a:ea typeface="MS Gothic"/>
              </a:rPr>
              <a:t>medián počtu cyklov 3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operácia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1" marL="741240" indent="-2840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  <a:ea typeface="MS Gothic"/>
              </a:rPr>
              <a:t>upfront homolaterálna disekcia krku: 2 pac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741240" indent="-2840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  <a:ea typeface="MS Gothic"/>
              </a:rPr>
              <a:t>záchranná resekcia recidívy: 10 pac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1"/>
          <p:cNvSpPr/>
          <p:nvPr/>
        </p:nvSpPr>
        <p:spPr>
          <a:xfrm>
            <a:off x="45720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elkové prežívani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Text Box 2"/>
          <p:cNvSpPr/>
          <p:nvPr/>
        </p:nvSpPr>
        <p:spPr>
          <a:xfrm>
            <a:off x="457200" y="2174760"/>
            <a:ext cx="266688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S (5r) = 29,5 %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edián = 20,8 mes. 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0" name="Picture 3" descr=""/>
          <p:cNvPicPr/>
          <p:nvPr/>
        </p:nvPicPr>
        <p:blipFill>
          <a:blip r:embed="rId1"/>
          <a:stretch/>
        </p:blipFill>
        <p:spPr>
          <a:xfrm>
            <a:off x="3276720" y="1752480"/>
            <a:ext cx="5019480" cy="402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Prežívanie špecificky na nádor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" name="Text Box 2"/>
          <p:cNvSpPr/>
          <p:nvPr/>
        </p:nvSpPr>
        <p:spPr>
          <a:xfrm>
            <a:off x="457200" y="2174760"/>
            <a:ext cx="3124080" cy="33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SS (5r) = 35 %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Medián = 23,4 mes.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30 pacientov zomrelo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na nádor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6 pacienti zomreli na pridružené ochorenia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3" name="Picture 3" descr=""/>
          <p:cNvPicPr/>
          <p:nvPr/>
        </p:nvPicPr>
        <p:blipFill>
          <a:blip r:embed="rId1"/>
          <a:stretch/>
        </p:blipFill>
        <p:spPr>
          <a:xfrm>
            <a:off x="3886200" y="1828800"/>
            <a:ext cx="4572000" cy="3662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Lokoregionálna kontrola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" name="Text Box 2"/>
          <p:cNvSpPr/>
          <p:nvPr/>
        </p:nvSpPr>
        <p:spPr>
          <a:xfrm>
            <a:off x="45720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5 – ročná miera LRC = 38%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recidíva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1240" indent="-284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MS Gothic"/>
              </a:rPr>
              <a:t>Lokálna  13 pac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1240" indent="-284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MS Gothic"/>
              </a:rPr>
              <a:t>lokálna aj regionálna  3 pac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1240" indent="-284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MS Gothic"/>
              </a:rPr>
              <a:t>Regionálna  8 pac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1240" indent="-284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MS Gothic"/>
              </a:rPr>
              <a:t>vzdialená 4 len MTS, 2 MTS a lokoreg. zlyhanie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5580000" y="5843520"/>
            <a:ext cx="293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Doba sledovania v meiacoch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" name="Text Box 4"/>
          <p:cNvSpPr/>
          <p:nvPr/>
        </p:nvSpPr>
        <p:spPr>
          <a:xfrm rot="16200000">
            <a:off x="3262320" y="3557520"/>
            <a:ext cx="293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Kumulatívne prežívani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8" name="Picture 5" descr=""/>
          <p:cNvPicPr/>
          <p:nvPr/>
        </p:nvPicPr>
        <p:blipFill>
          <a:blip r:embed="rId1"/>
          <a:stretch/>
        </p:blipFill>
        <p:spPr>
          <a:xfrm>
            <a:off x="4272120" y="2276640"/>
            <a:ext cx="4871880" cy="390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Prolongácia celkovej doby ožarovania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0" name="Picture 2" descr=""/>
          <p:cNvPicPr/>
          <p:nvPr/>
        </p:nvPicPr>
        <p:blipFill>
          <a:blip r:embed="rId1"/>
          <a:stretch/>
        </p:blipFill>
        <p:spPr>
          <a:xfrm>
            <a:off x="1835280" y="1773360"/>
            <a:ext cx="5991120" cy="480060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3"/>
          <p:cNvSpPr/>
          <p:nvPr/>
        </p:nvSpPr>
        <p:spPr>
          <a:xfrm>
            <a:off x="4716360" y="1989000"/>
            <a:ext cx="1224000" cy="216000"/>
          </a:xfrm>
          <a:prstGeom prst="rect">
            <a:avLst/>
          </a:prstGeom>
          <a:solidFill>
            <a:srgbClr val="f2f2f2"/>
          </a:solidFill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Prolongácia liečby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895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redľženie RT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 1 týždeň  štatisticky významne znižuje  LRC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 = 0,005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3" descr=""/>
          <p:cNvPicPr/>
          <p:nvPr/>
        </p:nvPicPr>
        <p:blipFill>
          <a:blip r:embed="rId1"/>
          <a:stretch/>
        </p:blipFill>
        <p:spPr>
          <a:xfrm>
            <a:off x="4038480" y="1905120"/>
            <a:ext cx="4343400" cy="3479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SS  versus cetuximab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Počet cyklov podávania Cetuximabu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štatisticky  významne ovplyvňuje  C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en-GB" sz="2800" spc="-1" strike="noStrike">
                <a:solidFill>
                  <a:srgbClr val="c0504d"/>
                </a:solidFill>
                <a:latin typeface="Calibri"/>
              </a:rPr>
              <a:t>P = 0,031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1- 5 cyklov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6 - 8 cyklov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3" descr=""/>
          <p:cNvPicPr/>
          <p:nvPr/>
        </p:nvPicPr>
        <p:blipFill>
          <a:blip r:embed="rId1"/>
          <a:stretch/>
        </p:blipFill>
        <p:spPr>
          <a:xfrm>
            <a:off x="4648320" y="2244600"/>
            <a:ext cx="4038480" cy="323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Prognostické faktory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Štádium III vs.  IV –         p= 0,427 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Fajčenie                            p= 0,955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HPV status                        P = 0,281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omorbidity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Prolongácia terapie         p = 0,005**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Možnosť salvage operáci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oxicita – akútna ≥G3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Text Box 2"/>
          <p:cNvSpPr/>
          <p:nvPr/>
        </p:nvSpPr>
        <p:spPr>
          <a:xfrm>
            <a:off x="457200" y="1600200"/>
            <a:ext cx="8229600" cy="48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dermatitída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1240" indent="-284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MS Gothic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MS Gothic"/>
              </a:rPr>
              <a:t>14.3% (7)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  <a:ea typeface="Arial"/>
              </a:rPr>
              <a:t>‏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MS Gothic"/>
              </a:rPr>
              <a:t>podiel z CRT  17.2% (5 pac. z 29 )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  <a:ea typeface="Arial"/>
              </a:rPr>
              <a:t>‏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MS Gothic"/>
              </a:rPr>
              <a:t>podiel IMRT   10%    (2 pac. z 20 )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  <a:ea typeface="Arial"/>
              </a:rPr>
              <a:t>‏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dysfágia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1240" indent="-284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MS Gothic"/>
              </a:rPr>
              <a:t>20.3% (10)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  <a:ea typeface="Arial"/>
              </a:rPr>
              <a:t>‏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1240" indent="-284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MS Gothic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MS Gothic"/>
              </a:rPr>
              <a:t>8% (16) pac. NG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mukozitída  34.7% (17)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Arial"/>
              </a:rPr>
              <a:t>‏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ná – kožný rush, renálna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1240" indent="-284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ombinácia ionizujúceho žiarenia a inhibícia EGFR: fáza III 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(Bonner et al: NEJM, 354, 2006)</a:t>
            </a:r>
            <a:r>
              <a:rPr b="0" i="1" lang="ar-SA" sz="2400" spc="-1" strike="noStrike">
                <a:solidFill>
                  <a:srgbClr val="000000"/>
                </a:solidFill>
                <a:latin typeface="Calibri"/>
                <a:ea typeface="Arial"/>
              </a:rPr>
              <a:t>‏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Text Box 2"/>
          <p:cNvSpPr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štádium III a IV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n=424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rádioterapia vs.             rádioterapia + cetuximab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primárny výsledok: lokoregionálna kontrola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Výsledky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LRK (2r.) + 9%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P (3r.)  +13%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medián prežívania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+ 20 mesiacov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3" name="Picture 3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2295360"/>
          </a:xfrm>
          <a:prstGeom prst="rect">
            <a:avLst/>
          </a:prstGeom>
          <a:ln w="9360">
            <a:solidFill>
              <a:srgbClr val="ff9900"/>
            </a:solidFill>
            <a:miter/>
          </a:ln>
        </p:spPr>
      </p:pic>
      <p:sp>
        <p:nvSpPr>
          <p:cNvPr id="54" name="Rectangle 4"/>
          <p:cNvSpPr/>
          <p:nvPr/>
        </p:nvSpPr>
        <p:spPr>
          <a:xfrm>
            <a:off x="457200" y="4114800"/>
            <a:ext cx="3124080" cy="2209680"/>
          </a:xfrm>
          <a:prstGeom prst="rect">
            <a:avLst/>
          </a:prstGeom>
          <a:noFill/>
          <a:ln w="1260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5" name="Picture 5" descr=""/>
          <p:cNvPicPr/>
          <p:nvPr/>
        </p:nvPicPr>
        <p:blipFill>
          <a:blip r:embed="rId2"/>
          <a:stretch/>
        </p:blipFill>
        <p:spPr>
          <a:xfrm>
            <a:off x="4648320" y="4191120"/>
            <a:ext cx="4038480" cy="2286000"/>
          </a:xfrm>
          <a:prstGeom prst="rect">
            <a:avLst/>
          </a:prstGeom>
          <a:ln w="9360">
            <a:solidFill>
              <a:srgbClr val="ff9900"/>
            </a:solidFill>
            <a:miter/>
          </a:ln>
        </p:spPr>
      </p:pic>
      <p:sp>
        <p:nvSpPr>
          <p:cNvPr id="56" name="Line 6"/>
          <p:cNvSpPr/>
          <p:nvPr/>
        </p:nvSpPr>
        <p:spPr>
          <a:xfrm>
            <a:off x="533520" y="1447920"/>
            <a:ext cx="8076960" cy="1440"/>
          </a:xfrm>
          <a:prstGeom prst="line">
            <a:avLst/>
          </a:prstGeom>
          <a:ln w="2844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oxicita – neskorá ≥G2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Xerostómia  32.7%  (16 pac.)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Arial"/>
              </a:rPr>
              <a:t>‏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Dysfágia   30.6%  (15 pac.)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Arial"/>
              </a:rPr>
              <a:t>‏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Osteorádionekróza  4.1%  (2 pac.)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Arial"/>
              </a:rPr>
              <a:t>‏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1"/>
          <p:cNvSpPr/>
          <p:nvPr/>
        </p:nvSpPr>
        <p:spPr>
          <a:xfrm>
            <a:off x="457200" y="190440"/>
            <a:ext cx="82296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Záver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Text Box 2"/>
          <p:cNvSpPr/>
          <p:nvPr/>
        </p:nvSpPr>
        <p:spPr>
          <a:xfrm>
            <a:off x="457200" y="1600200"/>
            <a:ext cx="8229600" cy="47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-     Konkomitantné podávanie cetuximabu s rádioterapiou predstavuje jednu zo štandartných možností liečby pokročilých karcinómov hlavy a krku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V retrospektívnom hodnotenom súbore pacientov sme podali aspoň 80% plánovanej kumulatívnej dávky cetuximabu vysokému podielu pacientov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Lokálna kontrola bola podmienená predovšetkým celkovou dobou rádioterapie.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nhibícia EGFR s rádioterapiou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826920" y="1844640"/>
            <a:ext cx="7550280" cy="453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Metaanalýza TPF + ChRT vs. ChR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1495440" y="1773360"/>
            <a:ext cx="6153120" cy="4019400"/>
          </a:xfrm>
          <a:prstGeom prst="rect">
            <a:avLst/>
          </a:prstGeom>
          <a:ln w="0">
            <a:noFill/>
          </a:ln>
        </p:spPr>
      </p:pic>
      <p:sp>
        <p:nvSpPr>
          <p:cNvPr id="61" name="Text Box 3"/>
          <p:cNvSpPr/>
          <p:nvPr/>
        </p:nvSpPr>
        <p:spPr>
          <a:xfrm>
            <a:off x="4572000" y="6237360"/>
            <a:ext cx="38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Calibri"/>
              </a:rPr>
              <a:t>Bölke et al., 3rd ESTRO forum, 2015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Line 4"/>
          <p:cNvSpPr/>
          <p:nvPr/>
        </p:nvSpPr>
        <p:spPr>
          <a:xfrm>
            <a:off x="755640" y="1413000"/>
            <a:ext cx="7704000" cy="144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1" descr=""/>
          <p:cNvPicPr/>
          <p:nvPr/>
        </p:nvPicPr>
        <p:blipFill>
          <a:blip r:embed="rId1"/>
          <a:stretch/>
        </p:blipFill>
        <p:spPr>
          <a:xfrm>
            <a:off x="900000" y="1484280"/>
            <a:ext cx="7566120" cy="4997520"/>
          </a:xfrm>
          <a:prstGeom prst="rect">
            <a:avLst/>
          </a:prstGeom>
          <a:ln w="0">
            <a:noFill/>
          </a:ln>
        </p:spPr>
      </p:pic>
      <p:sp>
        <p:nvSpPr>
          <p:cNvPr id="64" name="Text Box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DeCIDE: indukcia TPF + ChRT </a:t>
            </a:r>
            <a:r>
              <a:rPr b="0" i="1" lang="en-GB" sz="4000" spc="-1" strike="noStrike">
                <a:solidFill>
                  <a:srgbClr val="000000"/>
                </a:solidFill>
                <a:latin typeface="Calibri"/>
              </a:rPr>
              <a:t>vs.</a:t>
            </a: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 ChRT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1"/>
          <p:cNvSpPr/>
          <p:nvPr/>
        </p:nvSpPr>
        <p:spPr>
          <a:xfrm>
            <a:off x="457200" y="252360"/>
            <a:ext cx="82296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Kontraindikácia cisplatiny – možný výber pacientov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Alergia na platinu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Porucha funkcie obličiek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Myelosupresia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Porucha sluchu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Neuropatia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Kumulatívna dávka cisplatiny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Závažná kardiálna komorbidita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rombóza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Minerálová dysbalancia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P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Hodnotenie súboru pacientov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Text Box 2"/>
          <p:cNvSpPr/>
          <p:nvPr/>
        </p:nvSpPr>
        <p:spPr>
          <a:xfrm>
            <a:off x="457200" y="1844640"/>
            <a:ext cx="8229600" cy="42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retrospektívne hodnotenie: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lvl="1" marL="741240" indent="-284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MS Gothic"/>
              </a:rPr>
              <a:t>49 pacientov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1240" indent="-284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MS Gothic"/>
              </a:rPr>
              <a:t>20 s ICT a 29 bez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1240" indent="-284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MS Gothic"/>
              </a:rPr>
              <a:t>všetci: konformná alebo IMRT rádioterapia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1240" indent="-284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MS Gothic"/>
              </a:rPr>
              <a:t>cetuximab úvodne 400 mg/m2 potom 250 mg/m2 týždenne  počas rádioterapie 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selekcia pacientov: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lvl="1" marL="741240" indent="-284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MS Gothic"/>
              </a:rPr>
              <a:t>SCC ústnej dutiny, orofaryngu, hypofaryngu a laryngu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1240" indent="-284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MS Gothic"/>
              </a:rPr>
              <a:t>preferencia cetuximabu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1240" indent="-284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MS Gothic"/>
              </a:rPr>
              <a:t>preferencia a toxicita indukčnej chemoterapi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1240" indent="-284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MS Gothic"/>
              </a:rPr>
              <a:t>kontraindikácia podania cisplatiny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Štatistické spracovanie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" name="Text Box 2"/>
          <p:cNvSpPr/>
          <p:nvPr/>
        </p:nvSpPr>
        <p:spPr>
          <a:xfrm>
            <a:off x="457200" y="1844640"/>
            <a:ext cx="8229600" cy="42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medián sledovania: 49 mesiacov (6 – 114 )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Arial"/>
              </a:rPr>
              <a:t>‏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hodnotenie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MS Gothic"/>
              </a:rPr>
              <a:t>lokoregionálna kontrola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MS Gothic"/>
              </a:rPr>
              <a:t>celkové a špecifické prežívani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MS Gothic"/>
              </a:rPr>
              <a:t>akútna toxicita v súvislosti s rádioterapiou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MS Gothic"/>
              </a:rPr>
              <a:t>neskorá toxicita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Charakteristika súbor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998640" y="1341360"/>
          <a:ext cx="6476760" cy="4138560"/>
        </p:xfrm>
        <a:graphic>
          <a:graphicData uri="http://schemas.openxmlformats.org/drawingml/2006/table">
            <a:tbl>
              <a:tblPr/>
              <a:tblGrid>
                <a:gridCol w="4724280"/>
                <a:gridCol w="17524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čet pacientov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k: rozpäti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iá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 – 74           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6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kalizácia: orofarynx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</a:t>
                      </a: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rynx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</a:t>
                      </a: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ypofarynx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</a:t>
                      </a: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ústna dutin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Štádium</a:t>
                      </a: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  </a:t>
                      </a: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</a:t>
                      </a: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V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</a:t>
                      </a: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VB  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jčenie: nefajčiari a slabí fajčiar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lní fajčiar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3" name="Text Box 40"/>
          <p:cNvSpPr/>
          <p:nvPr/>
        </p:nvSpPr>
        <p:spPr>
          <a:xfrm>
            <a:off x="6621480" y="30369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zivatel</dc:creator>
  <dc:description/>
  <dc:language>en-US</dc:language>
  <cp:lastModifiedBy>Valued Acer Customer</cp:lastModifiedBy>
  <dcterms:modified xsi:type="dcterms:W3CDTF">2016-05-12T17:49:55Z</dcterms:modified>
  <cp:revision>1</cp:revision>
  <dc:subject/>
  <dc:title>Rádioterapia nádorov hlavy a krku  s cetuximabom s alebo bez in</dc:title>
</cp:coreProperties>
</file>