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000-AE42-4F8C-9148-1531F60E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252-7441-4B2F-B825-8906AD7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4B1-CB06-4448-A5A6-206CEC0F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B2E-5D05-4A30-A738-DC0C45EE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36B9-CCC9-454F-B3C4-9AC95D0E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F342-DD30-4256-A6E7-2E163FC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A62-56C3-4DA6-94C4-8B3895BC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59B-1D11-4BA0-88B8-AB005AE3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D0F3-51FD-4663-90F2-C274609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84A0-8119-49F5-A1F7-64E275D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DB75-4FBF-4DA9-8B08-A4081EB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0ED-887F-479B-906D-5C29972C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3E7-44A7-49F5-9AE3-C20A322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2FE-5EB6-41B6-8371-C6A17F2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F355-4B4A-46F4-94EE-61D1934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E85A-495D-4E46-956C-93F82DCF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3E9-F7F4-4090-874E-899AA6FD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7EA-6ECE-411E-870C-2635DC09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1C0-7F1B-4CD9-B60E-18F19AC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53E-FA83-4EEA-B973-78830B8A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697-75C5-45D4-8E5A-314B154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821-2918-4691-8776-F730228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86F-482B-4961-A7CD-B345C4A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DB4-8162-487B-A188-CBEF1415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5B17-D1B2-4510-AABC-819CCA0CB6B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219320" y="1981080"/>
            <a:ext cx="10179000" cy="4724640"/>
            <a:chOff x="-1219320" y="1981080"/>
            <a:chExt cx="10179000" cy="4724640"/>
          </a:xfrm>
        </p:grpSpPr>
        <p:sp>
          <p:nvSpPr>
            <p:cNvPr id="42" name="Freeform 3"/>
            <p:cNvSpPr/>
            <p:nvPr/>
          </p:nvSpPr>
          <p:spPr>
            <a:xfrm>
              <a:off x="3087360" y="3011400"/>
              <a:ext cx="5872320" cy="369396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-1219320" y="1981080"/>
              <a:ext cx="6726240" cy="472464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8697-09E2-43EC-9414-A41B500CBFD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cc66"/>
                </a:solidFill>
                <a:latin typeface="Arial"/>
              </a:rPr>
              <a:t>Stratégia optimalizácie </a:t>
            </a:r>
            <a:br>
              <a:rPr sz="4400"/>
            </a:br>
            <a:r>
              <a:rPr b="1" lang="sk-SK" sz="4400" spc="-1" strike="noStrike">
                <a:solidFill>
                  <a:srgbClr val="ffcc66"/>
                </a:solidFill>
                <a:latin typeface="Arial"/>
              </a:rPr>
              <a:t>IMRT plánov</a:t>
            </a:r>
            <a:r>
              <a:rPr b="1" lang="sk-SK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396252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P.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arko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J.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ibiková,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M.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Ki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k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Onkologické oddele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FN Trenč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6" descr="C:\Users\Markovci\Desktop\Prednaska Marko TN2016\TN Elizabeth.jpg"/>
          <p:cNvPicPr/>
          <p:nvPr/>
        </p:nvPicPr>
        <p:blipFill>
          <a:blip r:embed="rId1"/>
          <a:stretch/>
        </p:blipFill>
        <p:spPr>
          <a:xfrm>
            <a:off x="3962520" y="3395520"/>
            <a:ext cx="51814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6600"/>
                </a:solidFill>
                <a:latin typeface="Arial"/>
              </a:rPr>
              <a:t>Optimalizácia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PTV, OAR                Pridaná štruktúra hel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kvasnicova 1-vyrez"/>
          <p:cNvPicPr/>
          <p:nvPr/>
        </p:nvPicPr>
        <p:blipFill>
          <a:blip r:embed="rId1"/>
          <a:stretch/>
        </p:blipFill>
        <p:spPr>
          <a:xfrm>
            <a:off x="47520" y="662040"/>
            <a:ext cx="4164120" cy="266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kvasnicova 3-vyrez"/>
          <p:cNvPicPr/>
          <p:nvPr/>
        </p:nvPicPr>
        <p:blipFill>
          <a:blip r:embed="rId2"/>
          <a:stretch/>
        </p:blipFill>
        <p:spPr>
          <a:xfrm>
            <a:off x="4859280" y="662040"/>
            <a:ext cx="4176720" cy="262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33480" y="3552840"/>
            <a:ext cx="46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idaná ďalšia štruktúra hel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kvasnicova 5-vyrez"/>
          <p:cNvPicPr/>
          <p:nvPr/>
        </p:nvPicPr>
        <p:blipFill>
          <a:blip r:embed="rId3"/>
          <a:stretch/>
        </p:blipFill>
        <p:spPr>
          <a:xfrm>
            <a:off x="47520" y="4041720"/>
            <a:ext cx="4164120" cy="281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5105520" y="335268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a64d"/>
                </a:solidFill>
                <a:latin typeface="Arial"/>
              </a:rPr>
              <a:t>   </a:t>
            </a:r>
            <a:r>
              <a:rPr b="1" lang="sk-SK" sz="2400" spc="-1" strike="noStrike">
                <a:solidFill>
                  <a:srgbClr val="ffa64d"/>
                </a:solidFill>
                <a:latin typeface="Arial"/>
              </a:rPr>
              <a:t>Záver optimalizá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IB H&amp;N (PTV 1,2,3)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4896000" y="4149720"/>
            <a:ext cx="4140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228600"/>
            <a:ext cx="914400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Prekrývanie kritických orgánov s P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Napr. PTV prostaty s močovým mechúrom a rek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Sú nutné kompromisy pri optimalizácii D-V týchto štruktúr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Znižovať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pravdepodobnosť  neskorého poškodenia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O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6600"/>
                </a:solidFill>
                <a:latin typeface="Arial"/>
                <a:ea typeface="Arial"/>
              </a:rPr>
              <a:t>Problém prekrývania dávok PTV1,2,3 pri S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Systém rozoznáva iba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číselné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hodnoty  D-V ale nerozoz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že D v PTV2,3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je v optimalizácii vyššia ako v PT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(chvost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 optimalizácii nevidíme, či je poloha „hot spotu“ dávky v prekrývajúcom sa objeme PTV1-PTV2 alebo PTV1-PTV3 alebo len v PTV2,3 a mimo PTV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To je slabina optimalizačného algoritmu v TPS systé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BlokTextu 1"/>
          <p:cNvSpPr/>
          <p:nvPr/>
        </p:nvSpPr>
        <p:spPr>
          <a:xfrm>
            <a:off x="0" y="26028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rovnanie optimalizáci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ôvodné štruktúry                  Crop štruktú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05 Berec optimalizacia super vyrez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94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05a Optimalizacia - prekryvajuce struktury"/>
          <p:cNvPicPr/>
          <p:nvPr/>
        </p:nvPicPr>
        <p:blipFill>
          <a:blip r:embed="rId2"/>
          <a:stretch/>
        </p:blipFill>
        <p:spPr>
          <a:xfrm>
            <a:off x="0" y="1916280"/>
            <a:ext cx="4284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Dávky v help štruktúr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Znížiť nielen max. dávky, ale aj ostatné hodnoty D-V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ebo ide o zdravé tkan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„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Dávkové c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hvosty“ štruktúr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PTV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, OAR, help)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v grafe optimalizá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važne ide o rozhra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štruktúr, z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stí sa až pri analýze 3D dávkovej distribúc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60640"/>
            <a:ext cx="91440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Pri hodnotení 3D dávkovej distribúcie pozor na OAR v DVH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epočet DVH na rádiobiologicky ekviv. dáv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DVH – len „mechanické čísla“ D-V. Vždy analyzovať, či denná dávka na frakciu neprekročí 2,0 Gy. Ak áno, potom prepočet D na rádiobiologický ekvivalent a porovnať s ref. hodnota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(QUANTEC alebo aj iní autori)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BlokTextu 1"/>
          <p:cNvSpPr/>
          <p:nvPr/>
        </p:nvSpPr>
        <p:spPr>
          <a:xfrm>
            <a:off x="826920" y="189000"/>
            <a:ext cx="75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DVH – pôvodné PTV, AOR a crop štruktú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Berec DVH crop a non-crop vyrez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08 Berec 63 Gy na PTV1 vyrez"/>
          <p:cNvPicPr/>
          <p:nvPr/>
        </p:nvPicPr>
        <p:blipFill>
          <a:blip r:embed="rId2"/>
          <a:stretch/>
        </p:blipFill>
        <p:spPr>
          <a:xfrm>
            <a:off x="0" y="3573360"/>
            <a:ext cx="28004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Štatistika všetkých IMRT techník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6" name="Zástupný symbol obsahu 3" descr=""/>
          <p:cNvPicPr/>
          <p:nvPr/>
        </p:nvPicPr>
        <p:blipFill>
          <a:blip r:embed="rId1"/>
          <a:stretch/>
        </p:blipFill>
        <p:spPr>
          <a:xfrm>
            <a:off x="633240" y="1938240"/>
            <a:ext cx="78742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Štatistika liečených pacientov – krk + L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Zástupný symbol obsahu 3" descr=""/>
          <p:cNvPicPr/>
          <p:nvPr/>
        </p:nvPicPr>
        <p:blipFill>
          <a:blip r:embed="rId1"/>
          <a:stretch/>
        </p:blipFill>
        <p:spPr>
          <a:xfrm>
            <a:off x="635040" y="1930320"/>
            <a:ext cx="78739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Štatistika liečených pacientov – prostata + L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Zástupný symbol obsahu 3" descr=""/>
          <p:cNvPicPr/>
          <p:nvPr/>
        </p:nvPicPr>
        <p:blipFill>
          <a:blip r:embed="rId1"/>
          <a:stretch/>
        </p:blipFill>
        <p:spPr>
          <a:xfrm>
            <a:off x="635040" y="1930320"/>
            <a:ext cx="78739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Štatistika liečených pacientov – iné lokalit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2" name="Zástupný symbol obsahu 3"/>
          <p:cNvGraphicFramePr/>
          <p:nvPr/>
        </p:nvGraphicFramePr>
        <p:xfrm>
          <a:off x="635040" y="1930320"/>
          <a:ext cx="7873920" cy="42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Zástupný symbol obsahu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930320"/>
                    <a:ext cx="78739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Štatistika IMRT za rok 2015</a:t>
            </a:r>
            <a:br>
              <a:rPr sz="4000"/>
            </a:b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(jan.-okt.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Zástupný symbol obsahu 3"/>
          <p:cNvGraphicFramePr/>
          <p:nvPr/>
        </p:nvGraphicFramePr>
        <p:xfrm>
          <a:off x="635040" y="2133720"/>
          <a:ext cx="7873920" cy="41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Zástupný symbol obsahu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2133720"/>
                    <a:ext cx="787392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6600"/>
                </a:solidFill>
                <a:latin typeface="Arial"/>
              </a:rPr>
              <a:t>Dávkovo-objemový histogram (DVH)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je mocný nástroj</a:t>
            </a: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na hodnotenie ožarovacieho plánu. Charakterizuje každý zakreslený 3D objekt (PTV, kritické orgány) - aké dávky obdržia parciálne objemy PTV a kritických orgánov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0" y="23623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Klasické plánovanie - DVH je po výpočte plánu</a:t>
            </a:r>
            <a:br>
              <a:rPr sz="2400"/>
            </a:b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Inverzné plánovanie - hodnoty DVH vopred zadefinuje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                                     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v procese optimalizá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ptimalizácia – prebieha metódou „pokus-omyl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Optimalizácia-výpočet dávky-analýza plánu-optimalizácia-výpočet-analýza plánu...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Nová optimalizácia – do kópie posledného plá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228600"/>
            <a:ext cx="91440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cc66"/>
                </a:solidFill>
                <a:latin typeface="Arial"/>
              </a:rPr>
              <a:t>Záver</a:t>
            </a:r>
            <a:r>
              <a:rPr b="1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Rádioterapia je vždy o kompromise medzi ideálnou hodnotou dávky do nádora a prijateľnou hodnotou dávky do zdravých tkanív, aby nedošlo k vážnemu poškodeniu zdrav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Inverzná optimalizácia sa používa iba pre moderné ožarovacie techniky: IMRT, IGRT, RapidArc, atď, na ktoré treba mať moderné lineárne urýchľovače.</a:t>
            </a:r>
            <a:r>
              <a:rPr b="1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 príchodom technológií RapidArc, TrueB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a však mení stratégia optimalizácie plánov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 prihliadnutím na zvýšenie presnosti nastavenia pacienta, upresnenie dávkovej distribúc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 s možnosťou ďalšej eskalácie dávky do P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Markovci\Desktop\Prednaska Marko TN2016\Mojt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523880" y="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6600"/>
                </a:solidFill>
                <a:latin typeface="Arial"/>
              </a:rPr>
              <a:t>Ďakujeme za pozornos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  <a:ea typeface="Arial"/>
              </a:rPr>
              <a:t>Zakreslenie liečených objemov a ďalších štruktúr: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GTV, CTV, PTV, kritické orgány  – rad. onkológ + fyzik 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 PTV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zabrať len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nevyhnutnú časť kritických orgánov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napr. rect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m).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 prekrývajúce sa objemy vytvoriť tz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sk-SK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„crop“ štruktúry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máh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o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zlepši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ť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výsledky optimalizácie.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mo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žň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je to nová verzia Eclipse. 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„Crop“ sú nové štruktúry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bjemy PTV2,3 mimo prekrývania s PTV1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- objemy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AR, mimo prekrývania s PTV1,2,3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BlokTextu 1"/>
          <p:cNvSpPr/>
          <p:nvPr/>
        </p:nvSpPr>
        <p:spPr>
          <a:xfrm>
            <a:off x="3708360" y="126828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ôvod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štruktú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2 Berec crop PTV23+parotidy z3"/>
          <p:cNvPicPr/>
          <p:nvPr/>
        </p:nvPicPr>
        <p:blipFill>
          <a:blip r:embed="rId1"/>
          <a:stretch/>
        </p:blipFill>
        <p:spPr>
          <a:xfrm>
            <a:off x="324000" y="3500280"/>
            <a:ext cx="2867040" cy="335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4 Berec crop PTV23+parotidy z0"/>
          <p:cNvPicPr/>
          <p:nvPr/>
        </p:nvPicPr>
        <p:blipFill>
          <a:blip r:embed="rId2"/>
          <a:stretch/>
        </p:blipFill>
        <p:spPr>
          <a:xfrm>
            <a:off x="6012000" y="3429000"/>
            <a:ext cx="295596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3 Berec PTV123+parotidy z0"/>
          <p:cNvPicPr/>
          <p:nvPr/>
        </p:nvPicPr>
        <p:blipFill>
          <a:blip r:embed="rId3"/>
          <a:stretch/>
        </p:blipFill>
        <p:spPr>
          <a:xfrm>
            <a:off x="6012000" y="0"/>
            <a:ext cx="2950920" cy="3357720"/>
          </a:xfrm>
          <a:prstGeom prst="rect">
            <a:avLst/>
          </a:prstGeom>
          <a:ln w="0">
            <a:noFill/>
          </a:ln>
        </p:spPr>
      </p:pic>
      <p:sp>
        <p:nvSpPr>
          <p:cNvPr id="97" name="BlokTextu 1"/>
          <p:cNvSpPr/>
          <p:nvPr/>
        </p:nvSpPr>
        <p:spPr>
          <a:xfrm>
            <a:off x="3708360" y="47242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štruktú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0" descr="01 Berec PTV123+parotidy z3"/>
          <p:cNvPicPr/>
          <p:nvPr/>
        </p:nvPicPr>
        <p:blipFill>
          <a:blip r:embed="rId4"/>
          <a:stretch/>
        </p:blipFill>
        <p:spPr>
          <a:xfrm>
            <a:off x="324000" y="0"/>
            <a:ext cx="28368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Text Box 1028"/>
          <p:cNvSpPr/>
          <p:nvPr/>
        </p:nvSpPr>
        <p:spPr>
          <a:xfrm>
            <a:off x="0" y="45720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akreslenie pomocných „help“ štruktú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lúžia na redukciu dávky v zdravých tkaniv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Rôzne stratégie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i SIB – na každé PTV1,2,3 najmenej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help, 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k sú PTV s rôznou dávk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2-3 helpy pri H&amp;N bez ohľadu na dávku v PTV1,2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očas optimalizácie pridávať helpy na „hot spoty“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Dodržiavať zásady : „Objem nezakreslený = objem neliečen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ne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šetrený</a:t>
            </a:r>
            <a:r>
              <a:rPr b="1" lang="sk-SK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0" y="45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06668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Help štruktúry, postupné pridávanie</a:t>
            </a:r>
            <a:r>
              <a:rPr b="1" lang="sk-SK" sz="2800" spc="-1" strike="noStrike">
                <a:solidFill>
                  <a:srgbClr val="ffa6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SUCHY-1"/>
          <p:cNvPicPr/>
          <p:nvPr/>
        </p:nvPicPr>
        <p:blipFill>
          <a:blip r:embed="rId1"/>
          <a:stretch/>
        </p:blipFill>
        <p:spPr>
          <a:xfrm>
            <a:off x="228600" y="914400"/>
            <a:ext cx="266400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UCHY-2"/>
          <p:cNvPicPr/>
          <p:nvPr/>
        </p:nvPicPr>
        <p:blipFill>
          <a:blip r:embed="rId2"/>
          <a:stretch/>
        </p:blipFill>
        <p:spPr>
          <a:xfrm>
            <a:off x="3352680" y="914400"/>
            <a:ext cx="264024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UCHY-3"/>
          <p:cNvPicPr/>
          <p:nvPr/>
        </p:nvPicPr>
        <p:blipFill>
          <a:blip r:embed="rId3"/>
          <a:stretch/>
        </p:blipFill>
        <p:spPr>
          <a:xfrm>
            <a:off x="0" y="411480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SUCHY-4"/>
          <p:cNvPicPr/>
          <p:nvPr/>
        </p:nvPicPr>
        <p:blipFill>
          <a:blip r:embed="rId4"/>
          <a:stretch/>
        </p:blipFill>
        <p:spPr>
          <a:xfrm>
            <a:off x="4572000" y="4114800"/>
            <a:ext cx="4572000" cy="247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UCHY-5"/>
          <p:cNvPicPr/>
          <p:nvPr/>
        </p:nvPicPr>
        <p:blipFill>
          <a:blip r:embed="rId5"/>
          <a:stretch/>
        </p:blipFill>
        <p:spPr>
          <a:xfrm>
            <a:off x="6400800" y="914400"/>
            <a:ext cx="254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a64d"/>
                </a:solidFill>
                <a:latin typeface="Arial"/>
              </a:rPr>
              <a:t>Počiatočné podmienky optimalizácie IMRT, inverzné plánovanie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edpis liečebnej dávky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vopred počítame s max. počtom frakcií, aj keď v 1.sérii bude menej fr. </a:t>
            </a:r>
            <a:br>
              <a:rPr sz="24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Napr 28 fr a potom 2-3 fr pridať: plán optimalizovať na 31 frakcií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Zadanie ožarov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acej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techniky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: 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Iba p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čet ožarovacích polí, uhly gantry a lekárom predpísanú dávku do objemu PTV (1)  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ávk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Objem a Skóre – modul optimalizácie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Zadať pre každú zakreslenú štruktúr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PTV,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OAR,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help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38088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Dávka je v Gy,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bjem je v %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100% je celý orgán alebo PT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kóre je pomerné číslo 1-999, ktorým vzájomne "vážime" dôležitosť dosiahnutia zadanej hodnoty Dávka-Obj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ačíname s malými číslami (100-300), postupne meníme podľa vývoja optimalizáci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Ak sú vytvorené crop štruktúry, tieto použiť v optimalizácii namiesto pôvodných PTV2,3 a O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Program "silnejšie presadzuje" dosiahnutie hodnô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Dávka-Objem pre štruktúru s vyšším skóre (čo je č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na úkor ostatných štruktúr a ich hodnôt Dávka-Obje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0" y="17524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ké hodnoty v Gy pridať k predpísanej dávke do PTV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hodnoty individuálne alebo vytiahnuť z knižnic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80880" y="304920"/>
            <a:ext cx="83822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6600"/>
                </a:solidFill>
                <a:latin typeface="Arial"/>
                <a:ea typeface="Arial"/>
              </a:rPr>
              <a:t>Stratégia optimalizácie – interaktívny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Zadať medzné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hodnoty Dávka-Objem (D-V </a:t>
            </a:r>
            <a:r>
              <a:rPr b="1" lang="sk-SK" sz="2400" spc="-1" strike="noStrike">
                <a:solidFill>
                  <a:srgbClr val="ffcc66"/>
                </a:solidFill>
                <a:latin typeface="Arial"/>
                <a:ea typeface="Arial"/>
              </a:rPr>
              <a:t>constraint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84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Homogenita dávky v PTV počas optimalizá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etlačiť na pílu“.  Napr. v miechu ponechať do 43-44 Gy, inak možno nedosiahneme požadovanú homogenitu PT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66"/>
                </a:solidFill>
                <a:latin typeface="Arial"/>
              </a:rPr>
              <a:t>Rectum a iné kritické orgá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Okrem znižovania hodnôt „vpravo“ v DVH (malý V, veľká D), znížiť aj hodnoty v strede DVH (väčší V, menšia D)  a tým aj dopady na tkanivá – „endpoints“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09:51:06Z</dcterms:created>
  <dc:creator>NSP</dc:creator>
  <dc:description/>
  <dc:language>en-US</dc:language>
  <cp:lastModifiedBy>Doma</cp:lastModifiedBy>
  <dcterms:modified xsi:type="dcterms:W3CDTF">2016-05-13T17:33:56Z</dcterms:modified>
  <cp:revision>181</cp:revision>
  <dc:subject/>
  <dc:title>4 techniky</dc:title>
</cp:coreProperties>
</file>