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8.png" ContentType="image/png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7"/>
          </p:nvPr>
        </p:nvSpPr>
        <p:spPr>
          <a:xfrm>
            <a:off x="3851280" y="945036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CB97C-0F14-462D-948A-5BC6F3654B2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1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51280" y="945036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A8620-FB04-4723-B94F-945EED131DB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7800" cy="34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CFC-3919-4BCB-9DFA-4EC0B9FD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3C2-C7F7-4752-985D-0262854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FF7-790C-4B47-AA53-F11F2923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C31-F7EE-4919-86C5-7CB1F63D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24FB-3B5D-4AA5-BF08-1C38DC7E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03F-F2C2-44F3-822B-42DF3B1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402-F3CB-46AD-A296-E9F9539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26E2-8B2C-4E10-8007-EF49B98E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2675-2830-44A9-918E-F0691A91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6588-F7CF-4195-A376-C0D6BB12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5770-3672-4EA2-98DC-E7A4B21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8A6-616F-4861-B5ED-99BC1C2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1D99-2521-415D-97B8-7D6791F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7F93-A741-4E4B-8C47-1C0BEC8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C83-20E8-4553-AA2D-F73502B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B66-5FD9-4543-914C-9FD86C7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B1EB-5B18-492E-B833-B8E3A89F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DF8-D5C6-480E-80C5-7A172A6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615-4DA9-4771-A862-3073E7E3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8C3-CDA9-4CF0-BBA7-23EDFE0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1D4-95A3-4868-854B-CF54DA39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0A0-5B77-49E6-8A2E-9EDC4A1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CDB-CC30-4C0A-8E7D-27C3155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9F4-9BBD-4279-B283-8CDF161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A17-7EC3-4051-8A01-040B9888850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9D37-D688-4996-BDB6-B5554DE40704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197000"/>
            <a:ext cx="81309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Dôkazy validity súčasných modelov TCP/NTCP </a:t>
            </a:r>
            <a:br>
              <a:rPr sz="3600"/>
            </a:b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o fotónovej a protónovej terapii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- v 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primárnej liečbe a re-ožarovaní</a:t>
            </a: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</a:tabLst>
            </a:pPr>
            <a:r>
              <a:rPr b="0" lang="sk-SK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ula 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sk-SK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Koncik J, </a:t>
            </a:r>
            <a:r>
              <a:rPr b="0" lang="sk-SK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Zamečnik L., </a:t>
            </a:r>
            <a:r>
              <a:rPr b="0" lang="sk-SK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Petera 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 Centre of Oncology,  Kosice ,SR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2 Proton Therapy Centre Prague, C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3 FN KU  Hradec Králové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I.Grafická interpretacia BED=F(N</a:t>
            </a:r>
            <a:r>
              <a:rPr b="0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)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(acute vs late reac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064360" cy="5229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00720" y="2997360"/>
            <a:ext cx="863280" cy="431640"/>
          </a:xfrm>
          <a:prstGeom prst="wedgeRoundRectCallout">
            <a:avLst>
              <a:gd name="adj1" fmla="val -48898"/>
              <a:gd name="adj2" fmla="val 154046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516640"/>
            <a:ext cx="914400" cy="360360"/>
          </a:xfrm>
          <a:prstGeom prst="wedgeRoundRectCallout">
            <a:avLst>
              <a:gd name="adj1" fmla="val -46875"/>
              <a:gd name="adj2" fmla="val -20066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cu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65964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4437000"/>
            <a:ext cx="597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Grafická interpretacia BED=F(N</a:t>
            </a:r>
            <a:r>
              <a:rPr b="0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)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(acute vs late reac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79640" y="1413000"/>
            <a:ext cx="8064360" cy="522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00720" y="2852640"/>
            <a:ext cx="1150920" cy="360360"/>
          </a:xfrm>
          <a:prstGeom prst="wedgeRoundRectCallout">
            <a:avLst>
              <a:gd name="adj1" fmla="val -44898"/>
              <a:gd name="adj2" fmla="val 140750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5516640"/>
            <a:ext cx="914400" cy="360360"/>
          </a:xfrm>
          <a:prstGeom prst="wedgeRoundRectCallout">
            <a:avLst>
              <a:gd name="adj1" fmla="val -46875"/>
              <a:gd name="adj2" fmla="val -20066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cu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65964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4437000"/>
            <a:ext cx="597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508640"/>
            <a:ext cx="6048360" cy="1739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cute  effects  equal   BED=72 Gy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Tu  and  early effects  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Grafická interpretacia BED=F(N</a:t>
            </a:r>
            <a:r>
              <a:rPr b="0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)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(acute vs late reac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064720" cy="52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00720" y="2997360"/>
            <a:ext cx="863280" cy="431640"/>
          </a:xfrm>
          <a:prstGeom prst="wedgeRoundRectCallout">
            <a:avLst>
              <a:gd name="adj1" fmla="val -48898"/>
              <a:gd name="adj2" fmla="val 154046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5373720"/>
            <a:ext cx="1584360" cy="503280"/>
          </a:xfrm>
          <a:prstGeom prst="wedgeRoundRectCallout">
            <a:avLst>
              <a:gd name="adj1" fmla="val -37574"/>
              <a:gd name="adj2" fmla="val -199527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u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65964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4437000"/>
            <a:ext cx="597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628640"/>
            <a:ext cx="6048360" cy="2592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ate  effects  are equal  BED= 100 Gy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>
              <a:lnSpc>
                <a:spcPct val="100000"/>
              </a:lnSpc>
              <a:buClr>
                <a:srgbClr val="333399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Prediction  NTCP in SBRT 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odel LQ-L (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Gurrero et al. </a:t>
            </a: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)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54400"/>
            <a:ext cx="4608360" cy="79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5832720" cy="65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42920" y="4365720"/>
                <a:ext cx="352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445000"/>
                <a:ext cx="223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52960" y="2492280"/>
            <a:ext cx="3191040" cy="3816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1547640" y="3860280"/>
            <a:ext cx="151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>
              <a:lnSpc>
                <a:spcPct val="100000"/>
              </a:lnSpc>
              <a:buClr>
                <a:srgbClr val="333399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Príklad výpočtu </a:t>
            </a: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  NTCP in 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BRT</a:t>
            </a: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  3F/12,5 Gy/65% (retro)</a:t>
            </a: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843200"/>
            <a:ext cx="5796000" cy="3260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880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04384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I.  DVH in SBRT 3F/ 18Gy/80% PTV      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            (TD=57,7Gy)         NSCLC I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58920" y="1773360"/>
            <a:ext cx="6913440" cy="5084640"/>
            <a:chOff x="1258920" y="1773360"/>
            <a:chExt cx="6913440" cy="508464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691344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939120" y="4155120"/>
              <a:ext cx="1281600" cy="414000"/>
            </a:xfrm>
            <a:prstGeom prst="wedgeRoundRectCallout">
              <a:avLst>
                <a:gd name="adj1" fmla="val -78787"/>
                <a:gd name="adj2" fmla="val 22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Arial"/>
                </a:rPr>
                <a:t>Ribs 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920" y="5087160"/>
              <a:ext cx="1281600" cy="414000"/>
            </a:xfrm>
            <a:prstGeom prst="wedgeRoundRectCallout">
              <a:avLst>
                <a:gd name="adj1" fmla="val -29240"/>
                <a:gd name="adj2" fmla="val 1856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Arial"/>
                </a:rPr>
                <a:t>Heard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2600" y="3223080"/>
              <a:ext cx="1048680" cy="414000"/>
            </a:xfrm>
            <a:prstGeom prst="wedgeRoundRectCallout">
              <a:avLst>
                <a:gd name="adj1" fmla="val -277"/>
                <a:gd name="adj2" fmla="val -20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TV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0" y="3119400"/>
              <a:ext cx="1281600" cy="414000"/>
            </a:xfrm>
            <a:prstGeom prst="wedgeRoundRectCallout">
              <a:avLst>
                <a:gd name="adj1" fmla="val -75907"/>
                <a:gd name="adj2" fmla="val 49854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7720" y="3119400"/>
              <a:ext cx="1281600" cy="414000"/>
            </a:xfrm>
            <a:prstGeom prst="wedgeRoundRectCallout">
              <a:avLst>
                <a:gd name="adj1" fmla="val 10300"/>
                <a:gd name="adj2" fmla="val -13979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TV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827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d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ľ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p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ô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vodn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é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o modelu 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LQ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: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5746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987640" y="3860640"/>
            <a:ext cx="1297080" cy="720720"/>
          </a:xfrm>
          <a:prstGeom prst="wedgeRoundRectCallout">
            <a:avLst>
              <a:gd name="adj1" fmla="val 134699"/>
              <a:gd name="adj2" fmla="val -649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b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368360" cy="647640"/>
          </a:xfrm>
          <a:prstGeom prst="wedgeRoundRectCallout">
            <a:avLst>
              <a:gd name="adj1" fmla="val -3828"/>
              <a:gd name="adj2" fmla="val -1678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5084640"/>
            <a:ext cx="1511280" cy="505080"/>
          </a:xfrm>
          <a:prstGeom prst="wedgeRoundRectCallout">
            <a:avLst>
              <a:gd name="adj1" fmla="val -87708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ung 4,4 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0805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Podľa  modifikovaného  modelu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LQ-L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40360" y="4292640"/>
            <a:ext cx="1152720" cy="609480"/>
          </a:xfrm>
          <a:prstGeom prst="wedgeRoundRectCallout">
            <a:avLst>
              <a:gd name="adj1" fmla="val -94902"/>
              <a:gd name="adj2" fmla="val -179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bs 60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5229360"/>
            <a:ext cx="1584360" cy="504720"/>
          </a:xfrm>
          <a:prstGeom prst="wedgeRoundRectCallout">
            <a:avLst>
              <a:gd name="adj1" fmla="val -3407"/>
              <a:gd name="adj2" fmla="val 112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ung  3,5 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373720"/>
            <a:ext cx="1512720" cy="504720"/>
          </a:xfrm>
          <a:prstGeom prst="wedgeRoundRectCallout">
            <a:avLst>
              <a:gd name="adj1" fmla="val -61962"/>
              <a:gd name="adj2" fmla="val 97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eart 0 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61704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I. 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Predi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kcia 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fra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ktúry pozorovaná po 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 11 m.</a:t>
            </a:r>
            <a:r>
              <a:rPr b="1" lang="cs-CZ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292720" y="1795320"/>
            <a:ext cx="3095640" cy="2390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311280" cy="2230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5280" y="1805040"/>
            <a:ext cx="4392720" cy="4173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15200" y="5562720"/>
            <a:ext cx="914400" cy="533160"/>
          </a:xfrm>
          <a:prstGeom prst="wedgeRoundRectCallout">
            <a:avLst>
              <a:gd name="adj1" fmla="val -73092"/>
              <a:gd name="adj2" fmla="val -46726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Rib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60 %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II. Model NTCP  pre  re-treatmen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704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 NTCP   - (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atula, Konči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pre odha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siduálnej dávky“ pri re - ožarovaní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vyfitovaného z retrospektivnych studi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Čo sa „udialo“ v translačnom výskume  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   a vývoji  SW Biogray  za posledné 2 roky ?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704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mplementácia rádiobiologických poznatkov 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u LQ-L v SRS/SBR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 Gurrero et a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u pre odhad „reziduálnej dávky“                 pri re-ožarovaní               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Matula,Konči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resnenie modelu pre TCP/PFS u GB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Roma , F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HK 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4.   modelu pre protónovú terapiu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PTC Prah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Residual tolerance doses  in BED</a:t>
            </a:r>
            <a:r>
              <a:rPr b="1" lang="sk-SK" sz="32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(%)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during re-treatment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(sources:  F.Stewart, Sminia, Meyer)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2743200"/>
          <a:ext cx="8736120" cy="3112920"/>
        </p:xfrm>
        <a:graphic>
          <a:graphicData uri="http://schemas.openxmlformats.org/drawingml/2006/table">
            <a:tbl>
              <a:tblPr/>
              <a:tblGrid>
                <a:gridCol w="1725840"/>
                <a:gridCol w="2184120"/>
                <a:gridCol w="2005200"/>
                <a:gridCol w="282096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ssue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 </a:t>
                      </a:r>
                      <a:br>
                        <a:rPr sz="2400"/>
                      </a:b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onths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 - dose </a:t>
                      </a:r>
                      <a:br>
                        <a:rPr sz="2400"/>
                      </a:b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% BED</a:t>
                      </a:r>
                      <a:r>
                        <a:rPr b="1" lang="sk-SK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. dose (I+II.) </a:t>
                      </a:r>
                      <a:br>
                        <a:rPr sz="2400"/>
                      </a:b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% BED</a:t>
                      </a:r>
                      <a:r>
                        <a:rPr b="1" lang="sk-SK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n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90 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nal cord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in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dd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 *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 *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II. Simulácia rezervy pri re-treatmente </a:t>
            </a:r>
            <a:br>
              <a:rPr sz="3600"/>
            </a:b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(z NTD cum modif. Poisson)  pridať tabuľka tolerancii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2600" y="1800360"/>
            <a:ext cx="7566120" cy="503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859280" y="3905280"/>
                <a:ext cx="3241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</m:e>
                    </m:nary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763640" y="29718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x = počet dní pauzy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= inflexný bod  krivk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05360"/>
            <a:ext cx="142560" cy="7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3284640"/>
            <a:ext cx="360360" cy="720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II. Simulácia rezervy pri re-treatmente </a:t>
            </a:r>
            <a:br>
              <a:rPr sz="3600"/>
            </a:b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(z NTD cum modif. Poisson)  pridať tabuľka tolerancii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59280" y="3905280"/>
                <a:ext cx="3241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</m:e>
                    </m:nary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763640" y="29718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= inflexný bod  krivk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x = počet dní pauzy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4005360"/>
            <a:ext cx="142560" cy="7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3284640"/>
            <a:ext cx="360360" cy="720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Poisson%20retreatment%20170" descr=""/>
          <p:cNvPicPr/>
          <p:nvPr/>
        </p:nvPicPr>
        <p:blipFill>
          <a:blip r:embed="rId2"/>
          <a:stretch/>
        </p:blipFill>
        <p:spPr>
          <a:xfrm>
            <a:off x="103320" y="176040"/>
            <a:ext cx="8937360" cy="6504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14400" y="17524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x = počet dní pauzy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9900"/>
                </a:solidFill>
                <a:latin typeface="Times New Roman"/>
              </a:rPr>
              <a:t>= inflexný bod  krivk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495680" y="2657520"/>
                <a:ext cx="381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</m:e>
                    </m:nary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3505320" y="2895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188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II.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Casus  GBM – re-treatment po 1 roku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74780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1. séria 25F/2Gy=50 Gy </a:t>
            </a:r>
            <a:br>
              <a:rPr sz="2800"/>
            </a:b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2. re-ožarovanie 13F/2Gy= 26Gy</a:t>
            </a:r>
            <a:r>
              <a:rPr b="0" lang="sk-SK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(po 1 r.)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2" name="RETREAMENT170" descr=""/>
          <p:cNvPicPr/>
          <p:nvPr/>
        </p:nvPicPr>
        <p:blipFill>
          <a:blip r:embed="rId1"/>
          <a:stretch/>
        </p:blipFill>
        <p:spPr>
          <a:xfrm>
            <a:off x="1523880" y="1666800"/>
            <a:ext cx="6934320" cy="5191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3809880"/>
            <a:ext cx="1371600" cy="381240"/>
          </a:xfrm>
          <a:prstGeom prst="wedgeRoundRectCallout">
            <a:avLst>
              <a:gd name="adj1" fmla="val 39004"/>
              <a:gd name="adj2" fmla="val 72500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No regener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4724280"/>
            <a:ext cx="1447560" cy="304920"/>
          </a:xfrm>
          <a:prstGeom prst="wedgeRoundRectCallout">
            <a:avLst>
              <a:gd name="adj1" fmla="val 111731"/>
              <a:gd name="adj2" fmla="val 117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NTCP=5,5 %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III.modul :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Ako zlepšiť TCP (= PFS)  u GBM ?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(59 pct  - podnet  z FN KU HK)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383360" cy="2630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32400" y="1905120"/>
            <a:ext cx="4611600" cy="2895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5028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r.1. 59 pct HK                        Obr.2. PFS= F(LQD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FS(1r.)= 32,8 %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edian= 7,85 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III.M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ulticentrická štúdia (Italy) *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697800" cy="4551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59497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* P.Pedicini et al. Clinical radiobiology of glioblastoma multiforme   Strahlentherapie und Oncologie  10, 2014 p.925-93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Vyfitované parametre PFS pre GB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1911240"/>
            <a:ext cx="4824360" cy="1517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3457440" cy="3309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2808360" cy="1249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39640" y="5024520"/>
            <a:ext cx="316872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Umiestnenie výsledkov PFS(1y)  z HK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do výstupov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eta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- štúdie </a:t>
            </a:r>
            <a:r>
              <a:rPr b="1" lang="sk-SK" sz="32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(Italy)</a:t>
            </a:r>
            <a:r>
              <a:rPr b="1" lang="sk-SK" sz="32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5126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1447920" y="441936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62520" y="441936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516720" y="4941720"/>
            <a:ext cx="21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629400" y="4952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Závery k modelu PFS pre GBM</a:t>
            </a:r>
            <a:r>
              <a:rPr b="1" lang="sk-SK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účasné modely TCP(=PFS) umožňuj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 klinických dát  vyfitovať parametre  modelu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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- radiosenzitivit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-  doubling tim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– čas do  nástupu proliferácie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N  - počtu klonogénov  v (1 cc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stanovenie  ich  95% C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oskytuje návod na zvýšenie TCP/PF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333399"/>
                </a:solidFill>
                <a:latin typeface="Times New Roman"/>
              </a:rPr>
              <a:t>Cieľ  príspevku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704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monštrovať validitu modelov na príkladoch predikcie TCP/NTCP 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linick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výsledk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) s modelom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“LQ-L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pre FSRT/SBRT  u Ca pl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s modelom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had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„reziduálnej dávky“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 re-ožarovaní mozg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) s modelom TCP pre zvýšeni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PFS u GB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) s modelom  NTCP u protónovej terap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pri  RBE=1,1  versus  RBE variabílne !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IV. Modelovanie TCP/NTCP </a:t>
            </a:r>
            <a:br>
              <a:rPr sz="4000"/>
            </a:b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v protónovej terapii  </a:t>
            </a:r>
            <a:br>
              <a:rPr sz="4000"/>
            </a:b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 (na základe výzvy k spolupráci  z PTC Praha ) 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809880" cy="3811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4800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Pozorovaný fenomén :</a:t>
            </a:r>
            <a:br>
              <a:rPr sz="3200"/>
            </a:b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Bragg krivka  s RBE = 1.1   vs.  RBE variabílne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sk-SK" sz="2400" spc="-1" strike="noStrike">
                <a:solidFill>
                  <a:srgbClr val="333399"/>
                </a:solidFill>
                <a:latin typeface="Times New Roman"/>
              </a:rPr>
              <a:t>(RBE </a:t>
            </a:r>
            <a:r>
              <a:rPr b="0" lang="sk-SK" sz="2400" spc="-1" strike="noStrike" baseline="-25000">
                <a:solidFill>
                  <a:srgbClr val="333399"/>
                </a:solidFill>
                <a:latin typeface="Times New Roman"/>
              </a:rPr>
              <a:t>max</a:t>
            </a:r>
            <a:r>
              <a:rPr b="0" lang="sk-SK" sz="2400" spc="-1" strike="noStrike">
                <a:solidFill>
                  <a:srgbClr val="333399"/>
                </a:solidFill>
                <a:latin typeface="Times New Roman"/>
              </a:rPr>
              <a:t> = 1.24 , RBE </a:t>
            </a:r>
            <a:r>
              <a:rPr b="0" lang="sk-SK" sz="2400" spc="-1" strike="noStrike" baseline="-25000">
                <a:solidFill>
                  <a:srgbClr val="333399"/>
                </a:solidFill>
                <a:latin typeface="Times New Roman"/>
              </a:rPr>
              <a:t>min</a:t>
            </a:r>
            <a:r>
              <a:rPr b="0" lang="sk-SK" sz="2400" spc="-1" strike="noStrike">
                <a:solidFill>
                  <a:srgbClr val="333399"/>
                </a:solidFill>
                <a:latin typeface="Times New Roman"/>
              </a:rPr>
              <a:t> = 1.07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47640" y="1835280"/>
            <a:ext cx="691200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IV. Carabe model 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 NTCP v   protónovej terapii</a:t>
            </a: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.  s konštantným R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 s variabilnym RBE (Cara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971640" y="4869000"/>
                <a:ext cx="72007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B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B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26920" y="3357720"/>
                <a:ext cx="6553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B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435640" y="2852640"/>
            <a:ext cx="865080" cy="505080"/>
          </a:xfrm>
          <a:prstGeom prst="wedgeRoundRectCallout">
            <a:avLst>
              <a:gd name="adj1" fmla="val -140824"/>
              <a:gd name="adj2" fmla="val 81759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= 1,1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95640" y="5877000"/>
            <a:ext cx="914400" cy="609480"/>
          </a:xfrm>
          <a:prstGeom prst="wedgeRoundRectCallout">
            <a:avLst>
              <a:gd name="adj1" fmla="val -45138"/>
              <a:gd name="adj2" fmla="val -102606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=1,24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3080" y="6021360"/>
            <a:ext cx="914400" cy="503280"/>
          </a:xfrm>
          <a:prstGeom prst="wedgeRoundRectCallout">
            <a:avLst>
              <a:gd name="adj1" fmla="val -154689"/>
              <a:gd name="adj2" fmla="val -15157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=1,07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38080" y="109440"/>
            <a:ext cx="7467840" cy="6639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971800" y="1143000"/>
            <a:ext cx="48769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22 pct. s Ca prostaty   z PTC Praha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716360" y="4005360"/>
            <a:ext cx="1944720" cy="504720"/>
          </a:xfrm>
          <a:prstGeom prst="wedgeRoundRectCallout">
            <a:avLst>
              <a:gd name="adj1" fmla="val 57754"/>
              <a:gd name="adj2" fmla="val 138680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NTCP</a:t>
            </a:r>
            <a:r>
              <a:rPr b="1" i="1" lang="sk-SK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k-SK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= 18,5 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991480" cy="4800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Korelácia vypočítaných NTCP  s incidenciou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rektálnych komplikácii podľa RTOG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Diskusia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961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ádiobiologické modelovanie TCP/NTCP pre rôz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dality RT disponuje silným  potenciál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formácii  a závislostí pre odhaleni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možných chýb vo fyzikálnych pláno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optimalizáciu plánov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Validita modelov je priamo závislá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od valididity  klinických výstupov“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Záv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.     Model LQ-L pre hypoF v SBRT zreálnil výpočty BED a NTCP pri d/f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y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Fenomén  sa  prejavu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i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  3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&gt;=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5F  je  nevýznamn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I.   Odhad  „reziduálnej dávky“ pri re-ožarovaní  je možno v súčasnosti exaktne kvantifikovať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Záv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II. PFS u GBM možno z 30 % zlepšiť  význam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výšením  TD  pri  dodržaní akceptovateľnej NTCP 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V.  Pri plánovaní protónovej terapie nutné nahradiť RBE=1,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ariabílnym RB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ýskyt neskorých účinkov protónovej  je porovnateľný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 výsledkami z fotónovej terapie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103040"/>
            <a:ext cx="779292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3333cc"/>
                </a:solidFill>
                <a:latin typeface="Tahoma"/>
              </a:rPr>
              <a:t>Overall message</a:t>
            </a:r>
            <a:r>
              <a:rPr b="0" lang="sk-SK" sz="4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In spite of  advanced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„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golden tool" of good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still remains - radiobiolo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of. J. Overgaard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ESMO/ECCO/ESTRO Congr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tockholm 201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Materiál a metód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704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áta báza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ádiobiologických parametrov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  a OaR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implementovaných d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W Biogray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 literárnych zdrojov QUANTEC, EBM et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e-ožarovanie“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( modelu Matula,Končik)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/PF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u GB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modelu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.Pedicini et a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rotónov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terapi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odel Carabe et. a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Rádiobiologické modelovanie </a:t>
            </a:r>
            <a:br>
              <a:rPr sz="36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podľa </a:t>
            </a: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prim. M. Konečného,CSc.,  MOÚ Brno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63640" y="1744560"/>
            <a:ext cx="676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Modelovanie v BioGray z DVH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165560" cy="35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93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3640" y="1773360"/>
            <a:ext cx="3600720" cy="1079280"/>
          </a:xfrm>
          <a:prstGeom prst="wedgeRectCallout">
            <a:avLst>
              <a:gd name="adj1" fmla="val -112828"/>
              <a:gd name="adj2" fmla="val 2064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VH exportované  z TPS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asociované s dátami v BioGra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805360"/>
            <a:ext cx="3384720" cy="792360"/>
          </a:xfrm>
          <a:prstGeom prst="wedgeRectCallout">
            <a:avLst>
              <a:gd name="adj1" fmla="val 145449"/>
              <a:gd name="adj2" fmla="val -1532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CP/NTCP z  DVH       a dát protokolu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0438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TCP/NTCP  </a:t>
            </a:r>
            <a:br>
              <a:rPr sz="2800"/>
            </a:b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a nové  parametre: 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lang="sk-SK" sz="1600" spc="-1" strike="noStrike">
                <a:solidFill>
                  <a:srgbClr val="333399"/>
                </a:solidFill>
                <a:latin typeface="Times New Roman"/>
              </a:rPr>
              <a:t>parc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, V</a:t>
            </a:r>
            <a:r>
              <a:rPr b="1" lang="sk-SK" sz="2400" spc="-1" strike="noStrike" baseline="-25000">
                <a:solidFill>
                  <a:srgbClr val="333399"/>
                </a:solidFill>
                <a:latin typeface="Times New Roman"/>
              </a:rPr>
              <a:t>eff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, D</a:t>
            </a:r>
            <a:r>
              <a:rPr b="1" lang="sk-SK" sz="2400" spc="-1" strike="noStrike" baseline="-25000">
                <a:solidFill>
                  <a:srgbClr val="333399"/>
                </a:solidFill>
                <a:latin typeface="Times New Roman"/>
              </a:rPr>
              <a:t>max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, D</a:t>
            </a:r>
            <a:r>
              <a:rPr b="1" lang="sk-SK" sz="2400" spc="-1" strike="noStrike" baseline="-25000">
                <a:solidFill>
                  <a:srgbClr val="333399"/>
                </a:solidFill>
                <a:latin typeface="Times New Roman"/>
              </a:rPr>
              <a:t>med</a:t>
            </a:r>
            <a:r>
              <a:rPr b="1" lang="sk-SK" sz="2400" spc="-1" strike="noStrike">
                <a:solidFill>
                  <a:srgbClr val="333399"/>
                </a:solidFill>
                <a:latin typeface="Times New Roman"/>
              </a:rPr>
              <a:t>,EUD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601040" cy="5468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67640" y="2060640"/>
            <a:ext cx="1206360" cy="779400"/>
          </a:xfrm>
          <a:prstGeom prst="wedgeRectCallout">
            <a:avLst>
              <a:gd name="adj1" fmla="val -63814"/>
              <a:gd name="adj2" fmla="val 107027"/>
            </a:avLst>
          </a:prstGeom>
          <a:solidFill>
            <a:srgbClr val="00e4a8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xx" sz="1600" spc="-1" strike="noStrike">
                <a:solidFill>
                  <a:srgbClr val="000000"/>
                </a:solidFill>
                <a:latin typeface="Times New Roman"/>
              </a:rPr>
              <a:t>Partial volume simulatio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4343400"/>
            <a:ext cx="1043280" cy="603360"/>
          </a:xfrm>
          <a:prstGeom prst="wedgeRectCallout">
            <a:avLst>
              <a:gd name="adj1" fmla="val -108449"/>
              <a:gd name="adj2" fmla="val 108685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xx" sz="1600" spc="-1" strike="noStrike">
                <a:solidFill>
                  <a:srgbClr val="000000"/>
                </a:solidFill>
                <a:latin typeface="Times New Roman"/>
              </a:rPr>
              <a:t>Calculated from DVH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334120"/>
            <a:ext cx="175248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989000"/>
            <a:ext cx="1550880" cy="1049400"/>
          </a:xfrm>
          <a:prstGeom prst="wedgeRectCallout">
            <a:avLst>
              <a:gd name="adj1" fmla="val 189407"/>
              <a:gd name="adj2" fmla="val 73148"/>
            </a:avLst>
          </a:prstGeom>
          <a:solidFill>
            <a:srgbClr val="00e4a8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xx" sz="1600" spc="-1" strike="noStrike">
                <a:solidFill>
                  <a:srgbClr val="000000"/>
                </a:solidFill>
                <a:latin typeface="Times New Roman"/>
              </a:rPr>
              <a:t>Benefit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xx" sz="1600" spc="-1" strike="noStrike">
                <a:solidFill>
                  <a:srgbClr val="000000"/>
                </a:solidFill>
                <a:latin typeface="Times New Roman"/>
              </a:rPr>
              <a:t>PROSTATE </a:t>
            </a:r>
            <a:br>
              <a:rPr sz="1600"/>
            </a:br>
            <a:r>
              <a:rPr b="1" lang="zxx" sz="1600" spc="-1" strike="noStrike">
                <a:solidFill>
                  <a:srgbClr val="000000"/>
                </a:solidFill>
                <a:latin typeface="Times New Roman"/>
              </a:rPr>
              <a:t>vs. RECTU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657600"/>
            <a:ext cx="1550880" cy="658800"/>
          </a:xfrm>
          <a:prstGeom prst="wedgeRectCallout">
            <a:avLst>
              <a:gd name="adj1" fmla="val 15402"/>
              <a:gd name="adj2" fmla="val 193615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xx" sz="1500" spc="-1" strike="noStrike">
                <a:solidFill>
                  <a:srgbClr val="000000"/>
                </a:solidFill>
                <a:latin typeface="Times New Roman"/>
              </a:rPr>
              <a:t>Tumour: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xx" sz="1500" spc="-1" strike="noStrike">
                <a:solidFill>
                  <a:srgbClr val="000000"/>
                </a:solidFill>
                <a:latin typeface="Times New Roman"/>
              </a:rPr>
              <a:t>PROSTATE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805360"/>
            <a:ext cx="1116000" cy="648000"/>
          </a:xfrm>
          <a:prstGeom prst="wedgeRectCallout">
            <a:avLst>
              <a:gd name="adj1" fmla="val 25249"/>
              <a:gd name="adj2" fmla="val -98773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Tissue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xx" sz="18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ýsledky  - dôkazy validity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704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47280" indent="-64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BRT  u Ca plúc NSCLC I.a  (3F/12,5Gy/6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redikcia  zlomeniny rebra  vs. klin. pozorovan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I.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estovani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NTCP   -  pre odha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„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siduálnej dávky“ pri re - ožarovaní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mozg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II. Spresnenie modelu PFS  v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3D 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T   u GB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 meta-analýzy a dát (559 pct.) s FN KU – HK (59 pct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V.  Predikcia NTCP v protónovej terapii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úbor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pct.  s Ca prostaty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(22 pct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z  PTC Prah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I. SF (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exper.data</a:t>
            </a: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) versus  LQ model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962000"/>
            <a:ext cx="424476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Krivky prežívajúcej frakcie SF pri vyšších d/fr prechádzajú do 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neárnej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ávislos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ôsledok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D a NTCP chybne predikovali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vyššie komplikáci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než sú pozorované v stereo - rádioterapi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>
              <a:lnSpc>
                <a:spcPct val="100000"/>
              </a:lnSpc>
              <a:buClr>
                <a:srgbClr val="333399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Prediction  NTCP in SBRT 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odel LQ-L (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Gurrero et al. </a:t>
            </a: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)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2354400"/>
            <a:ext cx="4608360" cy="798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5832720" cy="65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42920" y="4365720"/>
                <a:ext cx="352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132000" y="5445000"/>
                <a:ext cx="223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52960" y="2492280"/>
            <a:ext cx="319104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547640" y="3860280"/>
            <a:ext cx="151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ycock_M</dc:creator>
  <dc:description/>
  <dc:language>en-US</dc:language>
  <cp:lastModifiedBy>CPCE</cp:lastModifiedBy>
  <dcterms:modified xsi:type="dcterms:W3CDTF">2016-05-11T13:58:02Z</dcterms:modified>
  <cp:revision>247</cp:revision>
  <dc:subject/>
  <dc:title>Introduction</dc:title>
</cp:coreProperties>
</file>