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824-CA27-4E54-8075-1DA5CD79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A39-08C5-4531-8D54-8B4781CF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B44-2B0A-4F30-AF85-784A12E7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D99-8545-4DD4-8D4D-4CDE8DE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6845-E8D4-4206-9873-3D87E27E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0C05-CBE3-4CF8-A71A-57DFC07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A35-2867-40D1-9D6D-9BE84B3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709-17AE-4A8D-8D11-AC0C9197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CEC-56C8-4937-9EEF-E55F8D6E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D9A1-B07B-411C-8CBF-56B4F4C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EE69-D428-4557-A2B7-E77BB09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6F6-670A-4A4F-A36E-5BD22D90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16E-5DBF-47FD-B1BE-5568C1A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1D2-1F28-497F-8212-B72676B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FC4B-1579-4201-AE5F-918754E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024-C4E3-4A05-8DFC-C4DBD43D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FF8B-549F-48C3-A515-7DB6278C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1382-4E9D-475B-A8B2-C564A848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CB09-7C6B-4136-948F-B212D073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5C84-4961-435C-B627-D6A55DA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E8A8-127E-4FA1-ADE2-FDFFE8A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B6C7-CC32-439C-8FA7-5868032A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070-F188-40EB-A964-1954EF00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0D81-A120-41D2-B7F4-9475F3A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13F2-3CC4-46FD-AA44-61939AE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E0A3-2807-4915-9F21-0A3D42E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8ACE-86BE-4471-994C-ECF5FB3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695A-0573-4A55-8BA7-E824F154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FC75-C626-416B-B2EF-D8C4DF90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8D74-094F-478B-8B05-1330743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38B0-7096-45C3-B370-EA5EF6BC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D314-B15A-4BFF-8523-4E8E79B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C2AD-27C1-4E3B-9227-B8194096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DAA-BED3-4FBE-BBEB-C6E7531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36BA-295C-405B-B069-3F29A85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D971-CDCA-44A5-9281-ECBBAD9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F893-CCD5-463F-B011-353F7AA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9F4B-F5DD-4403-82A1-F57C98F2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3FC3-DF80-4D95-9A1C-55A56F9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15BC-6802-4CD5-9567-08F355A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A8F0-CC24-41EA-844C-6852A027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AD56-027F-494A-97D7-9CE70878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F494-6B5C-4C42-A027-938CB03E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16DC-CB01-4AE4-8831-E13FAF6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EB9-FB71-4DDB-87FC-DE4BFEE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846D-DAA0-4969-9F21-473734B4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BE63-4807-4685-8423-EAAB6C25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02345-8912-405A-9C8E-C8F2DA1E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CBF7-5576-4B7F-B2E9-EA89563A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CFFA-0DAA-4E11-A20C-36AB16A0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5238-E2AA-4D7F-9F32-0EB2C56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7ACD-AFFC-4C5E-8E94-0C5A440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EA73-C6A2-468C-A4DA-E7BE7289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3D54-84BC-4478-951A-F84EC7B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D4CB-8240-4D76-8B21-0A95066A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675-0750-4A82-9B9E-4B8A235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C6D6-B255-46BD-8970-F1692137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968F-A58B-407D-9A60-E6DB5ECC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DFC4-967A-4075-8315-E32ABAE8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0EED-8B14-4C0E-A6EB-058E212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C60F2-3659-4A98-8232-C5A8DBC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CDB1-E3FF-4534-A5DA-D6848B13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F6AD-A9F3-47F2-A686-FEC3000C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B620-4E11-4F6A-9F66-3A028A6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19D5-8915-42F6-9E75-9B15A43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BD9F-249A-4090-BCE5-2E231AD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FC7-977E-4284-BFC4-C48A200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E750C-8E4F-4D2F-948F-85A0A50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24C7-FE20-4AF7-8502-4A1CAE79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E63E-1DE5-4E37-B9D2-F4E16CC7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1ED-7852-477B-B23C-1269B8F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CCD-1E83-47AA-B578-0BC977A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D59-7039-44B6-9D49-B0233628E07E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9159-DA2B-4061-A058-CB9F32EFBFBA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E751-EF21-40BF-BFBC-E3DDF2477C35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3BD9-7C71-43CB-963B-619F5B19BC75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811-439A-4374-9A54-C3062E80EC3E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C9C-3743-4423-9AD1-E11D699D19B7}" type="slidenum">
              <a:rPr b="0" lang="sk-SK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84200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d0d0d"/>
                </a:solidFill>
                <a:latin typeface="Tw Cen MT Condensed"/>
              </a:rPr>
              <a:t>KARCINÓM ANÁLNEHO KANÁLA, NAŠE SKÚSENOSTI S LIEČBO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Tw Cen MT"/>
              </a:rPr>
              <a:t>MUDr. Zuzana Dolinská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Tw Cen MT"/>
              </a:rPr>
              <a:t>NOÚ Bratislav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CELKOVO Z 50 PAC.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v observácii v NOÚ 23 pacientov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zomrelo 15 pacientov                                       (14 z 45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žije 34 pacientov                                             (30 z 45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nemáme informácie o 1 pac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zomreli 1-66 m. po liečbe       median 16 mesiacov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EPIDERMOIDNÝ KARCINÓM C20, C21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0 rokov           (2006-2015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50 pacientov     (39- 83 r.)    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Ženy 42x...........priemerný vek 60 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Muži  8x............priemerný vek 47 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Histologicky epidermoidný (skvamocelulárny)  Ca G1-3,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bazaloidný typ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Pred liečbou: CT, MRI, TRUS, rektoskopia, kolonoskopia, histológi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LOKALITA OCHORENIA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Perianálne 3x            2x ortovoltážna RT, radikálna liečb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 elektrónová RT, paliatívna liečba 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ektum 2x                 neoadj. RTCHT...Dixon..4mm rezi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Dixon T3N1...adjuv. RTCHT...opakované lokorecidív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Análny kanál 45x  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adikálna RTCHT    35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adikálna RT            7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paliatívna liečba      3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OPERÁCIA PRED R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 Mil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2x axiálna sigmostómi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0, R1 lokálne resekci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Excízie na histologizáciu, exkochleáci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 resectio intersfincterica sec. Ruli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RÁDIOTERAPIA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adikálna RT................... 55- 60 Gy, 1,8- 2,0 Gy/frakci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paliatívna liečba............ 5x5Gy, 17x3Gy, 10x4 G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T nedokončili 2 pacienti              1xpaliat, 1xRTCH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KONKOMITANTNÁ CHT 35X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MMC a 5FU                                30 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cDDP; cDDP+ 5FU ; 5FU           5x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Neindikovaná  6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Odmietol        1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Paliat.             3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CHT nebola indikovaná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pri paliatívnej liečb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pri perianálnych ochoreniach na koži aleb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Tw Cen MT"/>
              </a:rPr>
              <a:t>pri komplikáciách: febrility, komorbidita 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OPERÁCIA PO LIEČBE 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Miles   5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- 4x observ. ( pT0, 1 LU+, pT2, pT2)      3,8,2,28m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- 1x zomrel (nedokončená RT pT4)         8m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Sigmostomia terminalis 1x    observ.               4m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TOXICITA LIEČBY 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hematologickou, gastrointestinálnou a kožnou toxicito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Iné:    1xI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krvácanie, hemosubstitúci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kaválová sep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kardiomyopatia EF 35%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hypacusis (po cDDP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osteitída SI spojeni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1xstenóza an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d0d0d"/>
                </a:solidFill>
                <a:latin typeface="Tw Cen MT Condensed"/>
              </a:rPr>
              <a:t>DUPLEX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Malígny melanó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Ca pankreas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adenoCa sigm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RCC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Ca ovari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Ca mamma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w Cen MT"/>
              </a:rPr>
              <a:t>Ca kož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15:37:17Z</dcterms:created>
  <dc:creator>Zuzka</dc:creator>
  <dc:description/>
  <dc:language>en-US</dc:language>
  <cp:lastModifiedBy>Prezentace</cp:lastModifiedBy>
  <dcterms:modified xsi:type="dcterms:W3CDTF">2016-05-13T12:07:50Z</dcterms:modified>
  <cp:revision>49</cp:revision>
  <dc:subject/>
  <dc:title>Epidermoidný karcinóm análneho kanála, naše skúsenosti s liečbou</dc:title>
</cp:coreProperties>
</file>