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7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C71A-BC96-4EF6-9A42-DB64E64C4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953C-B230-4161-9B82-97CB670F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A90FF-0A48-467A-A942-85648197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55BC71-421C-4479-B60B-A4022649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500871-E2A2-4834-8BA0-DDE954B3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708748-429A-40A7-A701-BB723ED6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A109E4-1CA5-4EB9-AC2C-E1170AE0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0EDB7A-6C9C-4CC2-B2AE-30C41CA9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1BCF6-6765-4087-BF83-5ED8396D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5098D6-6BD6-4DE2-ADBD-2E9114A8A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E919F0-EB8F-4665-A147-7E1C33394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28B1-B964-4C33-877A-83AAE00D0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BD3B-46AF-4AFA-898F-655A6CCCF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4124-2B27-48B0-9848-9A119EECA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956B-457C-44E1-82A8-C88A6FC1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2DA1-373F-469F-8C47-B7C7B726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C6CB-F409-4810-B04E-598A4989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A4DE-1829-46B3-BD7B-258108BE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547A-0CB5-4A9C-8D85-C07497E6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B6CB-ADA0-43A1-B7D5-5605EB82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3EC5-8796-49DE-A9D1-A1305D99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E4F5-4D74-4B61-B475-A26F1D1A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B401-1275-4628-ABDD-9078F0DF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78A8-0BBF-46FE-972A-3D735BCC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E498-95F1-4771-92AF-A4DE87717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651E4-5286-4EE2-88CA-A4A694D81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2EF61-4858-4CB0-9765-53BBBD39C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EA1C9-1C65-47D8-8D72-A4A5F1CD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F31CB-2258-4D07-8234-62C6F5A2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28F44-500F-4F5B-9370-27DFAF07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3D66B-5486-4CD5-8892-7F3AEC84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9476-AB11-494F-95DD-8F3AFF15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23314-02E0-46B3-AD1F-CB5D04CF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4FE7A-4099-40BA-9269-B73FCB8D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64499-03D2-41F3-8A25-77AEA0B1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9CC99-4538-4252-BCFB-EBD399E7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45D2E-91E4-498F-ACB4-E725EF45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22A26-F681-40D2-A6CB-5DC41084E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988D3-17D0-4773-923D-929B67FB4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95675-E54D-481A-A166-4E3D62F9F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E7D81-1D4C-4396-B380-20A05328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FF5A8-23A4-4EC6-860F-574828AF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FFE0-D94A-4EDE-959A-1EAC9A81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15566-E0DA-4F02-B5B0-D1E5F005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4248E-B005-4257-8A3C-8CA29FE2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E57FA-A3C6-402F-8AA5-EDADAC57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1A6E2-D6D5-4749-B939-511BDAFB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0A1C7-ABF3-4F44-A5E5-6B7C0BDC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156DF-C7A2-4D5D-BC62-C06DDC7C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DBC20-26A9-4ADA-ADF0-F0F2956B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1B808-4793-4FB2-B7DC-24E63F80F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3133D-F117-4498-AA5D-5B56B14DA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553C5-C808-46AB-81C6-90A3878EA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EF11-EA66-4EB3-8533-574A019F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88418-E0E8-4C77-99E5-F308AE36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8195E-A17B-4EE1-9221-7460604E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F2F36-D95E-4E03-B472-D1A1E646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2D540-E992-4B7F-9165-32DF34F3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5E286-0551-4DFC-8E83-7570D37C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6E342-58A5-413D-A842-08ED6F20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01272-0597-4120-AB53-7E26244D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833AD-23BC-425C-9A56-44562450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DF810-4820-4207-AF36-0878A7BD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224C2-2AB5-4B81-856F-72BA56EE1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3B5B-B7E8-4F30-B51F-078128C3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F975F-5610-4EAF-9E2B-80FD04B9F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037D3-F148-4696-8A9C-60B9F8D14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4462B-3152-40F6-9A5A-C0E569EF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7A237-3FE8-4A74-BF10-7A178D8C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D7A30-A5BC-4A1C-92E7-2187DAD6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C08AF-A564-482E-A594-B8BC6ABA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43D9F-A0E3-4C02-96BA-C781EE5D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45647-6104-466F-8C5E-D9BCD478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73BA6-F352-4A83-8810-063BE957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78BB7-5325-42DD-8E58-D1315E80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1C80-B427-4C36-A513-24BFE83E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AC8B1-0D04-4B59-AE0F-95A884C7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865C7-CE3D-4FAB-92D0-4A6548A44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7A1D4-8CB2-4775-A775-2FFAF8DAE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2F20C-DC3B-4285-99A0-4414266FD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43BA5-72E0-4380-9B3D-17C7AD44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BEFDC-16B4-40D5-B104-98B231AC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B5E27-C388-419F-8A38-863C64FA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F6183-0F7F-4986-8B87-0D9EE24F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BFA15-D43C-4739-936A-CAF2838E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5C665-90BD-4E01-B862-6C7EEEE5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3A7E-C9E8-4AE1-A600-CCDE0F88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275A0-C06E-4205-8820-7013F2A0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4DCA0-2084-4C68-91E1-45B793B1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AFB7A-18D3-4F47-BE1D-24D506DC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91C37-0F16-43A6-AB32-E5DEAC843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80F93-49F7-45EC-8FC8-039CA67DD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BF5D8-C696-4632-A6A7-D491A96EF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383B9-659A-4C61-9757-C1E5C8C2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2581C-1F97-4A81-9BDA-65A97114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42AC9-CC59-4280-B8D1-4B182828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00773-FECD-4A56-9085-314C93EE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E016-6809-4F49-BED0-3F8CF6F4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74A54-074D-4F6C-A8B2-70926520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14223-EAE6-4E86-B088-5A23B74B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6A7BB-0F4E-45E4-8746-74F8B72B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720DB-E055-488D-A65C-F45A3E0C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3A033-EE60-4370-8856-207876F3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8275D-1388-4853-BC08-C9355649C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25468-FB79-4A15-B554-652B59EF0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658A3-9ADD-4158-8C28-F7B3D29A8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6F5F50-D0D1-41E0-89CC-4154BD13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010B96-BA63-4CDB-8654-15E2B32C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vná spojnica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Rovná spojnica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E51A-12C0-4D58-B8CF-AF6741F1F873}" type="slidenum">
              <a:rPr b="0" lang="sk-SK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grpSp>
        <p:nvGrpSpPr>
          <p:cNvPr id="8" name="Rovná spojnica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Rovná spojnica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Rovná spojnica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Rovná spojnica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ovná spojnica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Rovná spojnica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66AF-367E-453F-B312-2A2B6A68F8F7}" type="slidenum">
              <a:rPr b="0" lang="sk-SK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Rovná spojnica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Rovná spojnica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Rovná spojnica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Rovná spojnica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Rovná spojnica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Rovná spojnica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9D34-BF29-403D-8319-376460A0648E}" type="slidenum">
              <a:rPr b="0" lang="sk-SK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Rovná spojnica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Rovná spojnica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4e7e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E5FB-40E5-4325-B19C-2D2ACABD0623}" type="slidenum">
              <a:rPr b="0" lang="sk-SK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Rovná spojnica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Rovná spojnica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6895-1F18-4CA9-95E9-9D147378888C}" type="slidenum">
              <a:rPr b="0" lang="sk-SK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7BCC-9B37-40AF-BB2E-55B8F1890A43}" type="slidenum">
              <a:rPr b="0" lang="sk-SK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Rovná spojnica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Rovná spojnica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AD62-4000-489C-9A91-D76C4E11E1B2}" type="slidenum">
              <a:rPr b="0" lang="sk-SK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2DA7-2274-4FEE-A8F1-CD9A4EE587AE}" type="slidenum">
              <a:rPr b="0" lang="sk-SK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3514-A1AE-44B4-B9ED-AB220110E590}" type="slidenum">
              <a:rPr b="0" lang="sk-SK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Nadpis 1" descr=""/>
          <p:cNvPicPr/>
          <p:nvPr/>
        </p:nvPicPr>
        <p:blipFill>
          <a:blip r:embed="rId1"/>
          <a:stretch/>
        </p:blipFill>
        <p:spPr>
          <a:xfrm>
            <a:off x="212760" y="4780080"/>
            <a:ext cx="8748720" cy="14875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9b3687"/>
                </a:solidFill>
                <a:latin typeface="Franklin Gothic Book"/>
              </a:rPr>
              <a:t>Priatelová I., Janíčková N., </a:t>
            </a:r>
            <a:endParaRPr b="0" lang="en-US" sz="1900" spc="-1" strike="noStrike">
              <a:solidFill>
                <a:srgbClr val="b13f9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9b3687"/>
                </a:solidFill>
                <a:latin typeface="Franklin Gothic Book"/>
              </a:rPr>
              <a:t>Matula P., Jasenčák M., </a:t>
            </a:r>
            <a:endParaRPr b="0" lang="en-US" sz="1900" spc="-1" strike="noStrike">
              <a:solidFill>
                <a:srgbClr val="b13f9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9b3687"/>
                </a:solidFill>
                <a:latin typeface="Franklin Gothic Book"/>
              </a:rPr>
              <a:t>VOÚ,a.s.</a:t>
            </a:r>
            <a:endParaRPr b="0" lang="en-US" sz="19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Marec 2010 – september 2012: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     </a:t>
            </a: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- 3x12 Gy na 60% izodózu – 2 nádory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     </a:t>
            </a: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- 3x12,5 Gy na 65% izodózu – 3 nádory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     </a:t>
            </a: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- 8x7,5 Gy na 90% izodózu – 1 nádor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Október 2012 – doteraz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     </a:t>
            </a: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- 5x11 Gy na 80% izodózu  - 14 nádorov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     </a:t>
            </a: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- 3x18 Gy na 80% izodózu  - 5 nádorov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     </a:t>
            </a: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- 8x7,5 Gy na 80% izodózu -  3 nádory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Pacient v supinačnej polohe s rukami nad hlavou, imobilizácia – vákuová podložka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422" name="Picture 2" descr="F:\od fyzikov\kriscak\2013-08-23-1601.jpg"/>
          <p:cNvPicPr/>
          <p:nvPr/>
        </p:nvPicPr>
        <p:blipFill>
          <a:blip r:embed="rId2"/>
          <a:stretch/>
        </p:blipFill>
        <p:spPr>
          <a:xfrm>
            <a:off x="2268360" y="2781360"/>
            <a:ext cx="436428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Zobrazenie pre plánovanie rádioterapie:  2 mm CT rezy s i.v.  kontrastom 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4DCT– umožňuje stanovenie individuálnych okrajov na pokrytie pohybu tumoru pri dýchaní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ITV (internal target volume) – vznikne na základe fúzie respiračných fáz (0-90%)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PTV : ITV + 5 mm v každom smere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2" descr=""/>
          <p:cNvPicPr/>
          <p:nvPr/>
        </p:nvPicPr>
        <p:blipFill>
          <a:blip r:embed="rId2"/>
          <a:stretch/>
        </p:blipFill>
        <p:spPr>
          <a:xfrm>
            <a:off x="2378160" y="1554120"/>
            <a:ext cx="4540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Nadpis 1" descr=""/>
          <p:cNvPicPr/>
          <p:nvPr/>
        </p:nvPicPr>
        <p:blipFill>
          <a:blip r:embed="rId1"/>
          <a:stretch/>
        </p:blipFill>
        <p:spPr>
          <a:xfrm>
            <a:off x="195120" y="328680"/>
            <a:ext cx="8436240" cy="12985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2" descr=""/>
          <p:cNvPicPr/>
          <p:nvPr/>
        </p:nvPicPr>
        <p:blipFill>
          <a:blip r:embed="rId2"/>
          <a:stretch/>
        </p:blipFill>
        <p:spPr>
          <a:xfrm>
            <a:off x="304920" y="1646280"/>
            <a:ext cx="868680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Techniky mnohých koplanárnych alebo nonkoplanárnych MLC tvarovaných polí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DVH – dáva kvantitatívnu informáciu o tom, aký veľký objem orgánu bude ožiarený akou veľkou dávkou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Verifikácia polohy pacienta pri každej frakcii pomocou conebeam CT a IGRT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Snímky z IGRT pri nastavení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2"/>
          <a:stretch/>
        </p:blipFill>
        <p:spPr>
          <a:xfrm>
            <a:off x="1042920" y="2333520"/>
            <a:ext cx="3457800" cy="34322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2" descr=""/>
          <p:cNvPicPr/>
          <p:nvPr/>
        </p:nvPicPr>
        <p:blipFill>
          <a:blip r:embed="rId3"/>
          <a:stretch/>
        </p:blipFill>
        <p:spPr>
          <a:xfrm>
            <a:off x="4859280" y="2349360"/>
            <a:ext cx="3446640" cy="33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Hodnotili sme lokálnu kontrolu a progresiu: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 </a:t>
            </a: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-  15 pacientov - bez progresie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 </a:t>
            </a: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- 1 pacient - progresia v mieste SBRT 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 </a:t>
            </a: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- 3 pacienti - progresia lokálna inde v pľúcach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 </a:t>
            </a: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- 8 pacientov - diseminácia základného ochorenia 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Medián lokálnej kontroly je 22,9 mesiaca , keď sme vylúčili pacientov, ktorí mali lokálnu progresiu inde v pľúcach, teda nie v mieste SBRT, je lokálna kontrola 24,7 mesiaca 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439" name="Zástupný symbol obsahu 3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3456000" cy="3429000"/>
          </a:xfrm>
          <a:prstGeom prst="rect">
            <a:avLst/>
          </a:prstGeom>
          <a:ln w="0">
            <a:noFill/>
          </a:ln>
        </p:spPr>
      </p:pic>
      <p:pic>
        <p:nvPicPr>
          <p:cNvPr id="440" name="Obrázok 6" descr=""/>
          <p:cNvPicPr/>
          <p:nvPr/>
        </p:nvPicPr>
        <p:blipFill>
          <a:blip r:embed="rId3"/>
          <a:stretch/>
        </p:blipFill>
        <p:spPr>
          <a:xfrm>
            <a:off x="4788000" y="3429000"/>
            <a:ext cx="3313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Lokálna kontrola v našom súbore bola signifikantne  lepšia u pacientov s periférnym nádorom  a menším počtom frakcií s vyššou dávkou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443" name="Obrázok 3" descr=""/>
          <p:cNvPicPr/>
          <p:nvPr/>
        </p:nvPicPr>
        <p:blipFill>
          <a:blip r:embed="rId2"/>
          <a:stretch/>
        </p:blipFill>
        <p:spPr>
          <a:xfrm>
            <a:off x="684360" y="3357720"/>
            <a:ext cx="3384360" cy="27352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2" descr=""/>
          <p:cNvPicPr/>
          <p:nvPr/>
        </p:nvPicPr>
        <p:blipFill>
          <a:blip r:embed="rId3"/>
          <a:stretch/>
        </p:blipFill>
        <p:spPr>
          <a:xfrm>
            <a:off x="4643280" y="3341520"/>
            <a:ext cx="3384720" cy="27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Karcinómy pľúc patria medzi najčastejšie sa vyskytujúce malignity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15-20% NSCLC tvoria včasné štádiá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Zlatý štandard chirurgická resekcia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SBRT - alternatíva pre pacientov, ktorí nemôžu alebo nechcú podstúpiť operáciu 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Celkové prežívanie v našom súbore je 23,4 mesiaca, celkové prežívanie špecifické pre nádor je 32,4 mes.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447" name="Picture 2" descr=""/>
          <p:cNvPicPr/>
          <p:nvPr/>
        </p:nvPicPr>
        <p:blipFill>
          <a:blip r:embed="rId2"/>
          <a:stretch/>
        </p:blipFill>
        <p:spPr>
          <a:xfrm>
            <a:off x="684360" y="2924280"/>
            <a:ext cx="3879720" cy="33130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3" descr=""/>
          <p:cNvPicPr/>
          <p:nvPr/>
        </p:nvPicPr>
        <p:blipFill>
          <a:blip r:embed="rId3"/>
          <a:stretch/>
        </p:blipFill>
        <p:spPr>
          <a:xfrm>
            <a:off x="4500720" y="2924280"/>
            <a:ext cx="4146480" cy="33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SBRT je vhodnou liečebnou modalitou pre pacientov s včasným NSCLC, ktorí majú kontraidikáciu operačného riešenia, alebo ho odmietajú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Zvlášť pre periférne lokalizované lézie, čo sa potvrdilo aj v našom súbore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V porovnaní s konvenčnou rádioterapiou SBRT dodáva podstatne vyššiu dávku žiarenia v oblasti tumoru -</a:t>
            </a:r>
            <a:r>
              <a:rPr b="0" lang="sk-SK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lokálna kontrola &gt; 80%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Nadpis 3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SBRT je všeobecne dobre tolerovaná a to aj staršími a komorbídnymi pacientami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Nižšie prežívanie súvisí s najmä s pridruženými ochoreniami (CHOBPCH a kardiovaskulárne choroby)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Vhodná aj na liečbu málopočetných pľúcnych metastáz pri kontrolovanom základnom ochorení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Nadpis 1" descr=""/>
          <p:cNvPicPr/>
          <p:nvPr/>
        </p:nvPicPr>
        <p:blipFill>
          <a:blip r:embed="rId1"/>
          <a:stretch/>
        </p:blipFill>
        <p:spPr>
          <a:xfrm>
            <a:off x="255600" y="2846520"/>
            <a:ext cx="843768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Vysoko konformná technika hypofrakcionovanej rádioterapie, pri ktorej sa pri zohľadnení dýchacích pohybov v malom počte frakcií aplikuje biologicky efektívna dávka vyššia ako 100 Gy.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Nutnosťou je vysoká presnosť zamerania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Technika mnohých polí na dosiahnutie prudkého dávkového spádu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Zobrazenie tumoru pri každej frakcii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NSCLC s veľkosťou tumoru do 5 cm bez uzlinových a vzdialených mts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Pľúcne metastázy pri kontrolovanom primárnom nádore, bez mts v iných orgánoch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Kontraindikácia chirurgického riešenia alebo odmietnutie výkonu pacientom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WHO výkonnostný stav &lt; alebo=2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Pacienti bez aktívnej intersticiálnej pneumonitídy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Závisí od rôznych okolností: lokalizácia ložiska, prítomnosť rizikových štruktúr, celkový stav pacienta, liečebný zámer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Rôzne pracoviská – rôzne frakcionačné režimy a rôzna celková dávka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Dávka na jednotlivú frakciu 10-20 Gy/3 frakcie – periférne TU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5-8 frakcií s nižšou dávkou na frakciu – centrálne TU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Miecha, srdce, samotné pľúca, hlavné bronchy a trachea, pažerák, veľké cievy, rebrá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Dávkové limity pre kritické orgány pri vybraných frakcionáciách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324000" y="3573360"/>
          <a:ext cx="8569080" cy="3295800"/>
        </p:xfrm>
        <a:graphic>
          <a:graphicData uri="http://schemas.openxmlformats.org/drawingml/2006/table">
            <a:tbl>
              <a:tblPr/>
              <a:tblGrid>
                <a:gridCol w="1714320"/>
                <a:gridCol w="1712880"/>
                <a:gridCol w="1714680"/>
                <a:gridCol w="1712880"/>
                <a:gridCol w="17143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Riziková štruktú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3x18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5x1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8x7,5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12x5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Miech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Pažerá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Plexus brachiali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rd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rachea a hlavné bronc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Včasná: do 3 mesiacov po liečbe - postradiačná pneumonitída a pneumónia, ezofagitída, pleurálna efúzia, dýchavica, akútna perikarditída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Neskorá: pľúcna fibróza, fraktúra rebier, srdcové zlyhanie, striktúry pažeráka, fistuly pažeráka, poškodenie plexus brachialis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Zvyčajne G1-2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27 pacientov (október 2010 – marec 2016)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    </a:t>
            </a: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- 9 žien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    </a:t>
            </a: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- 18 mužov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Medián veku 67,4 roka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Lokalizácia: 21 periférnych TU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                          </a:t>
            </a: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6 centrálnych TU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Primárny TU 14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MTS 13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Počet lézií: 1 – 26 pct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                         </a:t>
            </a: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2 – 1 pct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Hodnotenie 3 mesiace po liečbe: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     </a:t>
            </a: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- CR 1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     </a:t>
            </a: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- PR 13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     </a:t>
            </a: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- SD 13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     </a:t>
            </a:r>
            <a:r>
              <a:rPr b="0" lang="sk-SK" sz="2800" spc="-1" strike="noStrike">
                <a:solidFill>
                  <a:srgbClr val="b13f9a"/>
                </a:solidFill>
                <a:latin typeface="Franklin Gothic Book"/>
              </a:rPr>
              <a:t>- Ešte nehodnotení 1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3T09:40:52Z</dcterms:created>
  <dc:creator>Ivka</dc:creator>
  <dc:description/>
  <dc:language>en-US</dc:language>
  <cp:lastModifiedBy>Toncis</cp:lastModifiedBy>
  <dcterms:modified xsi:type="dcterms:W3CDTF">2016-05-10T15:35:15Z</dcterms:modified>
  <cp:revision>130</cp:revision>
  <dc:subject/>
  <dc:title>Stereotaktická rádioterapia karcinómu pľúc – praktické skúsenosti</dc:title>
</cp:coreProperties>
</file>