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4BB-EDAF-433E-80F0-CE2E7CE2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227-1E0D-447A-B71B-BB3E1D62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36D-D9FA-4F11-888F-5851D142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7BB-4FCA-48E2-9E4A-7BE4DC3B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9B9-647A-4D28-932F-835FEFB0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B2D-33A0-404C-AB7E-DA090A2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85C-67D3-45AE-B82E-A9BD58A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F8B-C1CB-4865-9275-2DE4A57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8B7-0368-432D-BF94-7EF48B82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FD9-7BCE-41DF-A4A6-423272E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1C0-7F76-4ED3-B90F-FFEBDCF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FFC-1A84-41BA-9D11-4C72EDB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C212-8C3B-4DD9-AF4E-554E54C38AC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vanie skorých reakcií recta pri hypofrakcionácií </a:t>
            </a:r>
            <a:br>
              <a:rPr sz="5400"/>
            </a:br>
            <a:r>
              <a:rPr b="0" lang="sk-SK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prostat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398160" cy="23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ka Šimková, Pavol Mat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tav fyzikálnych v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dra jadrovej a subjadrovej fyz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chodoslovenský onkologický ústav a. 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ok 3" descr=""/>
          <p:cNvPicPr/>
          <p:nvPr/>
        </p:nvPicPr>
        <p:blipFill>
          <a:blip r:embed="rId1"/>
          <a:stretch/>
        </p:blipFill>
        <p:spPr>
          <a:xfrm>
            <a:off x="750960" y="475632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4" descr=""/>
          <p:cNvPicPr/>
          <p:nvPr/>
        </p:nvPicPr>
        <p:blipFill>
          <a:blip r:embed="rId2"/>
          <a:stretch/>
        </p:blipFill>
        <p:spPr>
          <a:xfrm>
            <a:off x="9109080" y="5057640"/>
            <a:ext cx="281304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ledk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417840" y="1565280"/>
            <a:ext cx="63057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081240" y="763560"/>
            <a:ext cx="67294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74680" y="1301760"/>
            <a:ext cx="5027400" cy="4030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6006960" y="1301760"/>
            <a:ext cx="50562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v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iobiologické modelovanie akútnej toxicity je v dobrej korelácií s pozorovaným výskyto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kyt akútnej toxicity je spojený so vznikom neskorých reakcií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íženie výskytu akútnej toxicity o 10% pri znížení počtu frakcii týždenne (4F/týždeň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nos rádiobiologického modelovan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ožnosť kvantifikovania predikcie skorých a neskorých účinkov ako i predpoveď lokálnej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ovej kontro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dikcia skorých a neskorých postradiačných komplikác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nížiť možné komplikácie  úpravou  ožarovacieho protokolu ( izodózový plán resp. frakcionácia 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400" y="2606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Ďakujem za pozornosť. </a:t>
            </a:r>
            <a:r>
              <a:rPr b="0" lang="sk-SK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áci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iobiologické modelovanie toxicity zdravých tkanív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kcia postradiačných komplikáci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ť zlepšenia kvality života pacientov počas a po ukončení rádioterap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rázok 3" descr=""/>
          <p:cNvPicPr/>
          <p:nvPr/>
        </p:nvPicPr>
        <p:blipFill>
          <a:blip r:embed="rId1"/>
          <a:stretch/>
        </p:blipFill>
        <p:spPr>
          <a:xfrm>
            <a:off x="5673600" y="4002120"/>
            <a:ext cx="49784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diobiologické modely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árno – kvadratický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ožnosť porovnávať rôzne „izoefektívne režimy“ pre nádory a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avé tkanivá pri rôznych frakcionačných schém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Lymana, Kutchera a Burmana (LK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pis závislostí tolerancie tkanív a orgánov od dávky a veľkos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iareného objem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ázok 3" descr=""/>
          <p:cNvPicPr/>
          <p:nvPr/>
        </p:nvPicPr>
        <p:blipFill>
          <a:blip r:embed="rId1"/>
          <a:stretch/>
        </p:blipFill>
        <p:spPr>
          <a:xfrm>
            <a:off x="8077320" y="1690560"/>
            <a:ext cx="4114800" cy="3000600"/>
          </a:xfrm>
          <a:prstGeom prst="rect">
            <a:avLst/>
          </a:prstGeom>
          <a:ln w="0">
            <a:noFill/>
          </a:ln>
        </p:spPr>
      </p:pic>
      <p:pic>
        <p:nvPicPr>
          <p:cNvPr id="51" name="Obrázok 5" descr=""/>
          <p:cNvPicPr/>
          <p:nvPr/>
        </p:nvPicPr>
        <p:blipFill>
          <a:blip r:embed="rId2"/>
          <a:stretch/>
        </p:blipFill>
        <p:spPr>
          <a:xfrm>
            <a:off x="2421000" y="4189320"/>
            <a:ext cx="59418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árno – kvadratický mod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Zástupný symbol obsahu 2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515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KB mod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Zástupný symbol obsahu 2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515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ita zdravých tkanív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Zástupný symbol obsahu 2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515600" cy="435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7332840" y="3719520"/>
          <a:ext cx="4360680" cy="2592360"/>
        </p:xfrm>
        <a:graphic>
          <a:graphicData uri="http://schemas.openxmlformats.org/drawingml/2006/table">
            <a:tbl>
              <a:tblPr/>
              <a:tblGrid>
                <a:gridCol w="1120680"/>
                <a:gridCol w="3240000"/>
              </a:tblGrid>
              <a:tr h="1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žiad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1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ne hnačky a kŕč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revné pohyby 5 – krát den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ny rektálny výtok alebo krváca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rne hnačky a koli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yb čriev viac ako 5 – krát den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merná rektálna mukóza alebo prerušované krváca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cha alebo krváca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žadujúce chirurgický zákro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62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d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króza, perforácia. fistu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ýz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pacientov liečených v období december 2015 až september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k 52 až 8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á dávka 52,8 Gy/16F alebo 56 Gy/16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nie údajov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anie DVH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ádiobiologické modelovanie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štatistické spracovanie údajov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rovnanie dvoch frakcionačných režimov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cky zistená akútna toxicita recta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0 – 14 paciento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1 – 13 paciento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2 – 43 paciento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 3 – 5 paciento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rázok 1" descr=""/>
          <p:cNvPicPr/>
          <p:nvPr/>
        </p:nvPicPr>
        <p:blipFill>
          <a:blip r:embed="rId1"/>
          <a:stretch/>
        </p:blipFill>
        <p:spPr>
          <a:xfrm>
            <a:off x="671400" y="1378080"/>
            <a:ext cx="5497560" cy="4108320"/>
          </a:xfrm>
          <a:prstGeom prst="rect">
            <a:avLst/>
          </a:prstGeom>
          <a:ln w="0">
            <a:noFill/>
          </a:ln>
        </p:spPr>
      </p:pic>
      <p:pic>
        <p:nvPicPr>
          <p:cNvPr id="62" name="Obrázok 3" descr=""/>
          <p:cNvPicPr/>
          <p:nvPr/>
        </p:nvPicPr>
        <p:blipFill>
          <a:blip r:embed="rId2"/>
          <a:stretch/>
        </p:blipFill>
        <p:spPr>
          <a:xfrm>
            <a:off x="7650000" y="574560"/>
            <a:ext cx="327204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Obrázok 4" descr=""/>
          <p:cNvPicPr/>
          <p:nvPr/>
        </p:nvPicPr>
        <p:blipFill>
          <a:blip r:embed="rId1"/>
          <a:stretch/>
        </p:blipFill>
        <p:spPr>
          <a:xfrm>
            <a:off x="223920" y="1353960"/>
            <a:ext cx="5871960" cy="4534200"/>
          </a:xfrm>
          <a:prstGeom prst="rect">
            <a:avLst/>
          </a:prstGeom>
          <a:ln w="0">
            <a:noFill/>
          </a:ln>
        </p:spPr>
      </p:pic>
      <p:pic>
        <p:nvPicPr>
          <p:cNvPr id="64" name="Obrázok 5" descr=""/>
          <p:cNvPicPr/>
          <p:nvPr/>
        </p:nvPicPr>
        <p:blipFill>
          <a:blip r:embed="rId2"/>
          <a:stretch/>
        </p:blipFill>
        <p:spPr>
          <a:xfrm>
            <a:off x="6375240" y="1353960"/>
            <a:ext cx="5486400" cy="4462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8200" y="198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vnanie predikcie NTCP(acute)  pre 5F vs.4F/tyž. 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1000" y="5994360"/>
            <a:ext cx="114300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i  5F/týžd.     NTCP (rectum) =  32 %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Pri 4F/týžd.    NTCP(rectum) = 18 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18:41:16Z</dcterms:created>
  <dc:creator>Lenka Goceliaková</dc:creator>
  <dc:description/>
  <dc:language>en-US</dc:language>
  <cp:lastModifiedBy>Lenka Goceliaková</cp:lastModifiedBy>
  <dcterms:modified xsi:type="dcterms:W3CDTF">2016-10-13T18:22:18Z</dcterms:modified>
  <cp:revision>30</cp:revision>
  <dc:subject/>
  <dc:title>Modelovanie skorých reakcií recta pri hypofrakcionácií  Ca prostaty</dc:title>
</cp:coreProperties>
</file>