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11.wmf" ContentType="image/x-wmf"/>
  <Override PartName="/ppt/media/image7.png" ContentType="image/png"/>
  <Override PartName="/ppt/media/image22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18.jpeg" ContentType="image/jpeg"/>
  <Override PartName="/ppt/media/image2.wmf" ContentType="image/x-wmf"/>
  <Override PartName="/ppt/media/image23.jpeg" ContentType="image/jpeg"/>
  <Override PartName="/ppt/media/image17.wmf" ContentType="image/x-wmf"/>
  <Override PartName="/ppt/media/image3.wmf" ContentType="image/x-wmf"/>
  <Override PartName="/ppt/media/image15.jpeg" ContentType="image/jpeg"/>
  <Override PartName="/ppt/media/image1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4465-57E5-45D6-832C-1CEAECC4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BA3A-FF58-4A45-9499-612976E5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EBB-D535-4AF8-8756-83F6211B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D8E-219A-438F-A6A6-05BE2BD3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0406-DE74-457C-860E-49257BA1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BB06-B94F-4B62-9D81-DF1D9521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B7A7-A321-4DE5-B188-D7FC101C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048-B527-41CC-8649-AB15F60A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F343-6536-49CA-BDF4-63862546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4E99-6520-4A40-8262-CA5A2AEA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4B62-43A7-49FC-B423-70D70B3C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E6C4-A41D-4279-8E6B-172E4D5A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107B-C1B1-4053-8456-D173D83DAFE9}" type="slidenum"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3300"/>
                </a:solidFill>
                <a:latin typeface="Times New Roman"/>
              </a:rPr>
              <a:t>Ako stanoviť tolerančné reziduálne dávky na OaR </a:t>
            </a:r>
            <a:br>
              <a:rPr sz="4000"/>
            </a:br>
            <a:r>
              <a:rPr b="1" lang="sk-SK" sz="4000" spc="-1" strike="noStrike">
                <a:solidFill>
                  <a:srgbClr val="003300"/>
                </a:solidFill>
                <a:latin typeface="Times New Roman"/>
              </a:rPr>
              <a:t>pri re – ožarovaní ?  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3300"/>
                </a:solidFill>
                <a:latin typeface="Times New Roman"/>
              </a:rPr>
              <a:t>P. Matula, J. Končik, M.Jasenča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3300"/>
                </a:solidFill>
                <a:latin typeface="Times New Roman"/>
              </a:rPr>
              <a:t>VOÚ a.s., Košice</a:t>
            </a:r>
            <a:r>
              <a:rPr b="0" lang="sk-SK" sz="3200" spc="-1" strike="noStrike">
                <a:solidFill>
                  <a:srgbClr val="ffcc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3339-F643-4AF8-A420-966098DD1E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cc"/>
                </a:solidFill>
                <a:latin typeface="Times New Roman"/>
              </a:rPr>
              <a:t>3 modality re-ožarovania  mozgu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99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300"/>
                </a:solidFill>
                <a:latin typeface="Times New Roman"/>
              </a:rPr>
              <a:t>Pri konvenčnej  komformnej RT (CRT)*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300"/>
                </a:solidFill>
                <a:latin typeface="Times New Roman"/>
              </a:rPr>
              <a:t>Pri stereo – frakcionovanej  RT  ( SBRT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799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300"/>
                </a:solidFill>
                <a:latin typeface="Times New Roman"/>
              </a:rPr>
              <a:t>Pri stereo - chirurgii  (SRS)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336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33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33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00"/>
                </a:solidFill>
                <a:latin typeface="Times New Roman"/>
              </a:rPr>
              <a:t>R. Mayer et al.:</a:t>
            </a:r>
            <a:r>
              <a:rPr b="1" lang="sk-SK" sz="2000" spc="-1" strike="noStrike">
                <a:solidFill>
                  <a:srgbClr val="ffffcc"/>
                </a:solidFill>
                <a:latin typeface="Times New Roman"/>
              </a:rPr>
              <a:t> ...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FBC5-F2DB-4CBC-972B-91B12E2B4C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3333cc"/>
                </a:solidFill>
                <a:latin typeface="Times New Roman"/>
              </a:rPr>
              <a:t>1. Prehľad dát re - ožarovania konvenčnou RT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1654200"/>
            <a:ext cx="8893080" cy="4906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372360" y="6021360"/>
            <a:ext cx="1655640" cy="576360"/>
          </a:xfrm>
          <a:prstGeom prst="wedgeRoundRectCallout">
            <a:avLst>
              <a:gd name="adj1" fmla="val -39935"/>
              <a:gd name="adj2" fmla="val -97935"/>
              <a:gd name="adj3" fmla="val 16667"/>
            </a:avLst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cc00"/>
                </a:solidFill>
                <a:latin typeface="Times New Roman"/>
              </a:rPr>
              <a:t>NT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645000"/>
            <a:ext cx="0" cy="2089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27640" y="5734080"/>
            <a:ext cx="432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659640" y="3644640"/>
            <a:ext cx="0" cy="2089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3645000"/>
            <a:ext cx="432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5CF1-0085-4BF7-98FA-BA9BD6EC77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3333cc"/>
                </a:solidFill>
                <a:latin typeface="Times New Roman"/>
              </a:rPr>
              <a:t>2. Dáta z frakcionovanej stereo-SRT</a:t>
            </a:r>
            <a:r>
              <a:rPr b="1" lang="sk-SK" sz="40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72360" y="1052640"/>
            <a:ext cx="1706400" cy="753840"/>
          </a:xfrm>
          <a:prstGeom prst="wedgeRoundRectCallout">
            <a:avLst>
              <a:gd name="adj1" fmla="val -64699"/>
              <a:gd name="adj2" fmla="val 80949"/>
              <a:gd name="adj3" fmla="val 16667"/>
            </a:avLst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Times New Roman"/>
              </a:rPr>
              <a:t>NT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722920" y="2133720"/>
            <a:ext cx="1440" cy="3959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96000" y="6093000"/>
            <a:ext cx="5047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300720" y="2133720"/>
            <a:ext cx="0" cy="3959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24360" y="2133720"/>
            <a:ext cx="648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16B1-3F78-4098-A455-A56FC90EE7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8847360" cy="3240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3333cc"/>
                </a:solidFill>
                <a:latin typeface="Times New Roman"/>
              </a:rPr>
              <a:t>3. Dáta z re-ožarovania  pri  SRS</a:t>
            </a:r>
            <a:r>
              <a:rPr b="1" lang="sk-SK" sz="40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257800" y="5333400"/>
            <a:ext cx="1366920" cy="863640"/>
          </a:xfrm>
          <a:prstGeom prst="wedgeRoundRectCallout">
            <a:avLst>
              <a:gd name="adj1" fmla="val -48842"/>
              <a:gd name="adj2" fmla="val 121504"/>
              <a:gd name="adj3" fmla="val 16667"/>
            </a:avLst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Times New Roman"/>
              </a:rPr>
              <a:t>NT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3640" y="3573360"/>
            <a:ext cx="0" cy="1224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03640" y="4797360"/>
            <a:ext cx="5050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508720" y="3573360"/>
            <a:ext cx="0" cy="1224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03640" y="3573360"/>
            <a:ext cx="5050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B45-6D2B-456B-98E3-FEDBF9121B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959280" cy="5516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2705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3333cc"/>
                </a:solidFill>
                <a:latin typeface="Times New Roman"/>
              </a:rPr>
              <a:t>Záver 1.</a:t>
            </a:r>
            <a:r>
              <a:rPr b="1" lang="sk-SK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67080" y="1341000"/>
            <a:ext cx="462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300"/>
                </a:solidFill>
                <a:latin typeface="Times New Roman"/>
              </a:rPr>
              <a:t>Pri re-iradiacii C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300"/>
                </a:solidFill>
                <a:latin typeface="Times New Roman"/>
              </a:rPr>
              <a:t>NTD</a:t>
            </a:r>
            <a:r>
              <a:rPr b="1" lang="sk-SK" sz="3200" spc="-1" strike="noStrike" baseline="-25000">
                <a:solidFill>
                  <a:srgbClr val="003300"/>
                </a:solidFill>
                <a:latin typeface="Times New Roman"/>
              </a:rPr>
              <a:t>cum</a:t>
            </a:r>
            <a:r>
              <a:rPr b="1" lang="sk-SK" sz="3200" spc="-1" strike="noStrike">
                <a:solidFill>
                  <a:srgbClr val="003300"/>
                </a:solidFill>
                <a:latin typeface="Times New Roman"/>
              </a:rPr>
              <a:t> = 80 </a:t>
            </a:r>
            <a:r>
              <a:rPr b="1" lang="sk-SK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÷</a:t>
            </a:r>
            <a:r>
              <a:rPr b="1" lang="sk-SK" sz="3200" spc="-1" strike="noStrike">
                <a:solidFill>
                  <a:srgbClr val="003300"/>
                </a:solidFill>
                <a:latin typeface="Times New Roman"/>
              </a:rPr>
              <a:t>100 G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CNTD = 170 </a:t>
            </a:r>
            <a:r>
              <a:rPr b="1" lang="sk-SK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÷</a:t>
            </a: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 190 %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Indukované rádio-nekrózy  neboli pozorované 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340000" y="2923920"/>
            <a:ext cx="0" cy="158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2997360"/>
            <a:ext cx="1368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A54A-21B0-4203-AB89-93C01E6DDD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cc"/>
                </a:solidFill>
                <a:latin typeface="Times New Roman"/>
              </a:rPr>
              <a:t>Záver 2.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266720" y="18288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Korelácia  medzi NTD =F(time gap) a incidenciou  rádio-nekróz  pri SBRT nebola potvrdená!</a:t>
            </a:r>
            <a:r>
              <a:rPr b="0" lang="sk-SK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8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00"/>
                </a:solidFill>
                <a:latin typeface="Times New Roman"/>
              </a:rPr>
              <a:t>Pauza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&gt; 1 rok u</a:t>
            </a:r>
            <a:r>
              <a:rPr b="0" lang="sk-SK" sz="2800" spc="-1" strike="noStrike">
                <a:solidFill>
                  <a:srgbClr val="0033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neoplyv</a:t>
            </a:r>
            <a:r>
              <a:rPr b="0" lang="sk-SK" sz="2800" spc="-1" strike="noStrike">
                <a:solidFill>
                  <a:srgbClr val="003300"/>
                </a:solidFill>
                <a:latin typeface="Times New Roman"/>
              </a:rPr>
              <a:t>ň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uje  rezidu</a:t>
            </a:r>
            <a:r>
              <a:rPr b="0" lang="sk-SK" sz="2800" spc="-1" strike="noStrike">
                <a:solidFill>
                  <a:srgbClr val="003300"/>
                </a:solidFill>
                <a:latin typeface="Times New Roman"/>
              </a:rPr>
              <a:t>á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lnu d</a:t>
            </a:r>
            <a:r>
              <a:rPr b="0" lang="sk-SK" sz="2800" spc="-1" strike="noStrike">
                <a:solidFill>
                  <a:srgbClr val="003300"/>
                </a:solidFill>
                <a:latin typeface="Times New Roman"/>
              </a:rPr>
              <a:t>á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vku </a:t>
            </a:r>
            <a:r>
              <a:rPr b="0" lang="sk-SK" sz="2800" spc="-1" strike="noStrike">
                <a:solidFill>
                  <a:srgbClr val="0033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100 G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8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00"/>
                </a:solidFill>
                <a:latin typeface="Times New Roman"/>
              </a:rPr>
              <a:t>O =  bez  mozg. nekróz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8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⌂ </a:t>
            </a:r>
            <a:r>
              <a:rPr b="0" lang="sk-SK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=  s nekrózam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           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5200" y="1844640"/>
            <a:ext cx="3297240" cy="4105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V="1">
            <a:off x="2340000" y="1989000"/>
            <a:ext cx="0" cy="2376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CC7E-51C2-43DB-9091-E226192A0E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3280" y="1916280"/>
            <a:ext cx="4017960" cy="4392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580000" y="2276640"/>
            <a:ext cx="2879640" cy="28080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cc"/>
                </a:solidFill>
                <a:latin typeface="Times New Roman"/>
              </a:rPr>
              <a:t>Záver 3.</a:t>
            </a:r>
            <a:r>
              <a:rPr b="1" lang="sk-SK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343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Potvrdila sa korelácia  medzi ožiareným objemom mozgu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                 </a:t>
            </a: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a NTD</a:t>
            </a:r>
            <a:r>
              <a:rPr b="1" lang="sk-SK" sz="2800" spc="-1" strike="noStrike" baseline="-25000">
                <a:solidFill>
                  <a:srgbClr val="003300"/>
                </a:solidFill>
                <a:latin typeface="Times New Roman"/>
              </a:rPr>
              <a:t>cumula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Objemový faktor hrá významnú úlohu !!! p=0,0116*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2060640"/>
          <a:ext cx="3457440" cy="353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2060640"/>
                    <a:ext cx="345744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5724360" y="2349360"/>
            <a:ext cx="2303640" cy="251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155B-80AB-4F5B-AEC0-2B6E52310F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3333cc"/>
                </a:solidFill>
                <a:latin typeface="Times New Roman"/>
              </a:rPr>
              <a:t>Zhrnutie</a:t>
            </a:r>
            <a:r>
              <a:rPr b="1" lang="sk-SK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sk-SK" sz="40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Rádionekró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z</a:t>
            </a: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y mozgu boli pozorované pri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                          </a:t>
            </a:r>
            <a:r>
              <a:rPr b="1" lang="sk-SK" sz="3600" spc="-1" strike="noStrike">
                <a:solidFill>
                  <a:srgbClr val="003300"/>
                </a:solidFill>
                <a:latin typeface="Times New Roman"/>
              </a:rPr>
              <a:t>NTD</a:t>
            </a:r>
            <a:r>
              <a:rPr b="1" lang="sk-SK" sz="3600" spc="-1" strike="noStrike" baseline="-25000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&gt;</a:t>
            </a:r>
            <a:r>
              <a:rPr b="1" lang="sk-SK" sz="3600" spc="-1" strike="noStrike">
                <a:solidFill>
                  <a:srgbClr val="003300"/>
                </a:solidFill>
                <a:latin typeface="Times New Roman"/>
              </a:rPr>
              <a:t>100 </a:t>
            </a: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Gy</a:t>
            </a:r>
            <a:r>
              <a:rPr b="1" lang="sk-SK" sz="3600" spc="-1" strike="noStrike">
                <a:solidFill>
                  <a:srgbClr val="003300"/>
                </a:solidFill>
                <a:latin typeface="Times New Roman"/>
              </a:rPr>
              <a:t> !!!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Modalita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NTCP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3300"/>
                </a:solidFill>
                <a:latin typeface="Symbol"/>
                <a:ea typeface="Symbol"/>
              </a:rPr>
              <a:t>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5%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 *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1. 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RT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NTD (80  - 102 G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2.  FSRT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NTD (90 – 140 G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3.  SRS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NTD (112 – 137 Gy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* šetrenie OaR optimalizovanejšími DVH u FSRT a S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666880"/>
            <a:ext cx="7315200" cy="0"/>
          </a:xfrm>
          <a:prstGeom prst="line">
            <a:avLst/>
          </a:prstGeom>
          <a:ln w="190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3352680"/>
            <a:ext cx="7315200" cy="0"/>
          </a:xfrm>
          <a:prstGeom prst="line">
            <a:avLst/>
          </a:prstGeom>
          <a:ln w="190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4800600"/>
            <a:ext cx="7315200" cy="0"/>
          </a:xfrm>
          <a:prstGeom prst="line">
            <a:avLst/>
          </a:prstGeom>
          <a:ln w="1908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3D46-76C1-4B7A-B841-070154436A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3333cc"/>
                </a:solidFill>
                <a:latin typeface="Times New Roman"/>
              </a:rPr>
              <a:t>Dávkovo-volumová závislosť mozgu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sk-SK" sz="4000" spc="-1" strike="noStrike">
                <a:solidFill>
                  <a:srgbClr val="ff9933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9640" y="1001880"/>
            <a:ext cx="7766280" cy="558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629400" y="5410080"/>
            <a:ext cx="1873080" cy="648000"/>
          </a:xfrm>
          <a:prstGeom prst="wedgeRoundRectCallout">
            <a:avLst>
              <a:gd name="adj1" fmla="val -75930"/>
              <a:gd name="adj2" fmla="val 5393"/>
              <a:gd name="adj3" fmla="val 16667"/>
            </a:avLst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3300"/>
                </a:solidFill>
                <a:latin typeface="Times New Roman"/>
              </a:rPr>
              <a:t>NTCP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FEFE-4452-47F8-9618-2F9514395B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Times New Roman"/>
              </a:rPr>
              <a:t> „</a:t>
            </a:r>
            <a:r>
              <a:rPr b="1" lang="sk-SK" sz="2800" spc="-1" strike="noStrike">
                <a:solidFill>
                  <a:srgbClr val="3333cc"/>
                </a:solidFill>
                <a:latin typeface="Times New Roman"/>
              </a:rPr>
              <a:t>Poisson“ model pre D</a:t>
            </a:r>
            <a:r>
              <a:rPr b="1" lang="sk-SK" sz="2800" spc="-1" strike="noStrike" baseline="-25000">
                <a:solidFill>
                  <a:srgbClr val="3333cc"/>
                </a:solidFill>
                <a:latin typeface="Times New Roman"/>
              </a:rPr>
              <a:t>residual</a:t>
            </a:r>
            <a:r>
              <a:rPr b="1" lang="sk-SK" sz="2800" spc="-1" strike="noStrike">
                <a:solidFill>
                  <a:srgbClr val="3333cc"/>
                </a:solidFill>
                <a:latin typeface="Times New Roman"/>
              </a:rPr>
              <a:t> na OaR  (mozog)</a:t>
            </a:r>
            <a:r>
              <a:rPr b="1" lang="sk-SK" sz="3600" spc="-1" strike="noStrike">
                <a:solidFill>
                  <a:srgbClr val="ffcc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7346880" cy="531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419640" y="3181320"/>
                <a:ext cx="29527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residual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λ</m:t>
                        </m:r>
                      </m:e>
                    </m:nary>
                    <m:r>
                      <m:t xml:space="preserve">)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A753-B138-40B3-8D05-8ED53436A5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cc"/>
                </a:solidFill>
                <a:latin typeface="Times New Roman"/>
              </a:rPr>
              <a:t>Úvod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300"/>
                </a:solidFill>
                <a:latin typeface="Times New Roman"/>
              </a:rPr>
              <a:t>K najtraumatizujúcejším udalostiam v praxi onkológa či fyzika patria recidívy ochorenia po komplexnej liečb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jednou z možných modalít následnej liečby pri zlýhaní je </a:t>
            </a:r>
            <a:r>
              <a:rPr b="1" lang="sk-SK" sz="2800" spc="-1" strike="noStrike" u="sng">
                <a:solidFill>
                  <a:srgbClr val="003300"/>
                </a:solidFill>
                <a:uFillTx/>
                <a:latin typeface="Times New Roman"/>
              </a:rPr>
              <a:t>re-ožarovani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jeho vyhodnocovanie v odbornej  literatúre  ale nepatrí medzi „atraktívne“ tém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032B-C5D6-4CF0-9A24-D10861597F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Times New Roman"/>
              </a:rPr>
              <a:t> „</a:t>
            </a:r>
            <a:r>
              <a:rPr b="1" lang="sk-SK" sz="2800" spc="-1" strike="noStrike">
                <a:solidFill>
                  <a:srgbClr val="3333cc"/>
                </a:solidFill>
                <a:latin typeface="Times New Roman"/>
              </a:rPr>
              <a:t>Poisson“ model pre D</a:t>
            </a:r>
            <a:r>
              <a:rPr b="1" lang="sk-SK" sz="2800" spc="-1" strike="noStrike" baseline="-25000">
                <a:solidFill>
                  <a:srgbClr val="3333cc"/>
                </a:solidFill>
                <a:latin typeface="Times New Roman"/>
              </a:rPr>
              <a:t>residual</a:t>
            </a:r>
            <a:r>
              <a:rPr b="1" lang="sk-SK" sz="2800" spc="-1" strike="noStrike">
                <a:solidFill>
                  <a:srgbClr val="3333cc"/>
                </a:solidFill>
                <a:latin typeface="Times New Roman"/>
              </a:rPr>
              <a:t> na OaR  (mozog)</a:t>
            </a:r>
            <a:r>
              <a:rPr b="1" lang="sk-SK" sz="3600" spc="-1" strike="noStrike">
                <a:solidFill>
                  <a:srgbClr val="ffcc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7272360" cy="413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276720" y="2311560"/>
                <a:ext cx="496728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residual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λ</m:t>
                        </m:r>
                      </m:e>
                    </m:nary>
                    <m:r>
                      <m:t xml:space="preserve">)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258920" y="5516640"/>
            <a:ext cx="72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Times New Roman"/>
              </a:rPr>
              <a:t>Kde   x = počet dní pauzy medzi sériami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sk-SK" sz="28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1" lang="sk-SK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3333cc"/>
                </a:solidFill>
                <a:latin typeface="Times New Roman"/>
              </a:rPr>
              <a:t>=  sklon krivky v inf. bod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7046-7324-4DAE-A75B-DC24238E9B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cc"/>
                </a:solidFill>
                <a:latin typeface="Times New Roman"/>
              </a:rPr>
              <a:t>Fitovanie D residual</a:t>
            </a:r>
            <a:r>
              <a:rPr b="0" lang="sk-SK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00"/>
                </a:solidFill>
                <a:latin typeface="Times New Roman"/>
              </a:rPr>
              <a:t>Pre každý OaR krivka D</a:t>
            </a:r>
            <a:r>
              <a:rPr b="0" lang="sk-SK" sz="2800" spc="-1" strike="noStrike" baseline="-25000">
                <a:solidFill>
                  <a:srgbClr val="003300"/>
                </a:solidFill>
                <a:latin typeface="Times New Roman"/>
              </a:rPr>
              <a:t>residual</a:t>
            </a:r>
            <a:r>
              <a:rPr b="0" lang="sk-SK" sz="2800" spc="-1" strike="noStrike">
                <a:solidFill>
                  <a:srgbClr val="003300"/>
                </a:solidFill>
                <a:latin typeface="Times New Roman"/>
              </a:rPr>
              <a:t> je fitovaná  z klinických dát podľa odhadnutých CNTD  od  110-190%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00"/>
                </a:solidFill>
                <a:latin typeface="Times New Roman"/>
              </a:rPr>
              <a:t>OaR s najnižšou regeneráciou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lang="sk-SK" sz="2400" spc="-1" strike="noStrike">
                <a:solidFill>
                  <a:srgbClr val="003300"/>
                </a:solidFill>
                <a:latin typeface="Times New Roman"/>
              </a:rPr>
              <a:t>(obličky, mechúr, srdce</a:t>
            </a:r>
            <a:r>
              <a:rPr b="0" lang="sk-SK" sz="2800" spc="-1" strike="noStrike">
                <a:solidFill>
                  <a:srgbClr val="003300"/>
                </a:solidFill>
                <a:latin typeface="Times New Roman"/>
              </a:rPr>
              <a:t> 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76720" y="3645000"/>
            <a:ext cx="3810240" cy="228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81CC-A885-45B8-B9BC-FB03E6012F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3333cc"/>
                </a:solidFill>
                <a:latin typeface="Times New Roman"/>
              </a:rPr>
              <a:t>II. časť </a:t>
            </a:r>
            <a:br>
              <a:rPr sz="4000"/>
            </a:br>
            <a:r>
              <a:rPr b="1" lang="sk-SK" sz="4000" spc="-1" strike="noStrike">
                <a:solidFill>
                  <a:srgbClr val="3333cc"/>
                </a:solidFill>
                <a:latin typeface="Times New Roman"/>
              </a:rPr>
              <a:t>Re-iradiácia u miechy?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3300"/>
                </a:solidFill>
                <a:latin typeface="Times New Roman"/>
              </a:rPr>
              <a:t>Najčastejšie dotazy z pracovísk ČR a S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0" lang="sk-SK" sz="2800" spc="-1" strike="noStrike">
                <a:solidFill>
                  <a:srgbClr val="003300"/>
                </a:solidFill>
                <a:latin typeface="Times New Roman"/>
              </a:rPr>
              <a:t>Ako  stanoviť  reziduálnu dávku na miechu 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00"/>
                </a:solidFill>
                <a:latin typeface="Times New Roman"/>
              </a:rPr>
              <a:t>Čo bolo zdrojom z literatúry ?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3645000"/>
            <a:ext cx="749016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D738-67BD-4AFF-91A8-F34F2A8A66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4913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cc00"/>
                </a:solidFill>
                <a:latin typeface="Times New Roman"/>
              </a:rPr>
              <a:t>Re-ožarovanie miechy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673760" cy="4843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11720" y="6248520"/>
            <a:ext cx="62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Times New Roman"/>
              </a:rPr>
              <a:t>P. Sminia et al: Re-Irradiation of the human spinal cord, 200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C31E-68B4-43E9-A788-3769B60937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cc"/>
                </a:solidFill>
                <a:latin typeface="Times New Roman"/>
              </a:rPr>
              <a:t>Záver I.</a:t>
            </a:r>
            <a:r>
              <a:rPr b="1" lang="sk-SK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006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Legend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sk-SK" sz="2000" spc="-1" strike="noStrike">
                <a:solidFill>
                  <a:srgbClr val="003300"/>
                </a:solidFill>
                <a:latin typeface="Times New Roman"/>
              </a:rPr>
              <a:t>%BED</a:t>
            </a:r>
            <a:r>
              <a:rPr b="1" lang="sk-SK" sz="2000" spc="-1" strike="noStrike" baseline="-25000">
                <a:solidFill>
                  <a:srgbClr val="003300"/>
                </a:solidFill>
                <a:latin typeface="Times New Roman"/>
              </a:rPr>
              <a:t>II. </a:t>
            </a:r>
            <a:r>
              <a:rPr b="1" lang="sk-SK" sz="2000" spc="-1" strike="noStrike">
                <a:solidFill>
                  <a:srgbClr val="003300"/>
                </a:solidFill>
                <a:latin typeface="Times New Roman"/>
              </a:rPr>
              <a:t>= F(%BED</a:t>
            </a:r>
            <a:r>
              <a:rPr b="1" lang="sk-SK" sz="2000" spc="-1" strike="noStrike" baseline="-25000">
                <a:solidFill>
                  <a:srgbClr val="003300"/>
                </a:solidFill>
                <a:latin typeface="Times New Roman"/>
              </a:rPr>
              <a:t>I</a:t>
            </a:r>
            <a:r>
              <a:rPr b="1" lang="sk-SK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3300"/>
                </a:solidFill>
                <a:latin typeface="Times New Roman"/>
              </a:rPr>
              <a:t>.......... bez obnov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3300"/>
                </a:solidFill>
                <a:latin typeface="Times New Roman"/>
              </a:rPr>
              <a:t>- - - - -</a:t>
            </a:r>
            <a:r>
              <a:rPr b="1" lang="sk-SK" sz="1800" spc="-1" strike="noStrike">
                <a:solidFill>
                  <a:srgbClr val="003300"/>
                </a:solidFill>
                <a:latin typeface="Times New Roman"/>
              </a:rPr>
              <a:t> pri obnov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Záver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00"/>
                </a:solidFill>
                <a:latin typeface="Times New Roman"/>
              </a:rPr>
              <a:t>V II. sérii po 1-2 r. je prípustná kumulatívna BED do výšky 140% iniciálnej  tolerancie miechy  43 Gy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NTD</a:t>
            </a:r>
            <a:r>
              <a:rPr b="1" lang="sk-SK" sz="2800" spc="-1" strike="noStrike" baseline="-25000">
                <a:solidFill>
                  <a:srgbClr val="003300"/>
                </a:solidFill>
                <a:latin typeface="Times New Roman"/>
              </a:rPr>
              <a:t> kum.. </a:t>
            </a: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= 60 Gy 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4102200" cy="4376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V="1">
            <a:off x="3348000" y="4869000"/>
            <a:ext cx="0" cy="1008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32000" y="4869000"/>
            <a:ext cx="20160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25C6-554F-434B-8BF7-6C71DD591F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cc"/>
                </a:solidFill>
                <a:latin typeface="Times New Roman"/>
              </a:rPr>
              <a:t>Záver II.</a:t>
            </a:r>
            <a:r>
              <a:rPr b="1" lang="sk-SK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2060640"/>
            <a:ext cx="3809880" cy="40323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k-SK" sz="2000" spc="-1" strike="noStrike">
                <a:solidFill>
                  <a:srgbClr val="003300"/>
                </a:solidFill>
                <a:latin typeface="Times New Roman"/>
              </a:rPr>
              <a:t>Výška  kumulatívnej dávky BED nezávisí od časového odstupu sérií !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3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1" lang="sk-SK" sz="3200" spc="-1" strike="noStrike">
                <a:solidFill>
                  <a:srgbClr val="003300"/>
                </a:solidFill>
                <a:latin typeface="Times New Roman"/>
              </a:rPr>
              <a:t>%BED</a:t>
            </a:r>
            <a:r>
              <a:rPr b="1" lang="sk-SK" sz="3200" spc="-1" strike="noStrike" baseline="-25000">
                <a:solidFill>
                  <a:srgbClr val="003300"/>
                </a:solidFill>
                <a:latin typeface="Times New Roman"/>
              </a:rPr>
              <a:t>cum</a:t>
            </a:r>
            <a:r>
              <a:rPr b="1" lang="sk-SK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003300"/>
                </a:solidFill>
                <a:latin typeface="Symbol"/>
                <a:ea typeface="Symbol"/>
              </a:rPr>
              <a:t></a:t>
            </a:r>
            <a:r>
              <a:rPr b="1" lang="sk-SK" sz="3200" spc="-1" strike="noStrike">
                <a:solidFill>
                  <a:srgbClr val="003300"/>
                </a:solidFill>
                <a:latin typeface="Times New Roman"/>
              </a:rPr>
              <a:t> 140 %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         </a:t>
            </a: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resp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CNTD       </a:t>
            </a:r>
            <a:r>
              <a:rPr b="1" lang="en-US" sz="2800" spc="-1" strike="noStrike" baseline="-25000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003300"/>
                </a:solidFill>
                <a:latin typeface="Symbol"/>
                <a:ea typeface="Symbol"/>
              </a:rPr>
              <a:t></a:t>
            </a: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 60Gy 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90A5-FA57-4DDB-9F9D-8884FE9C242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3333cc"/>
                </a:solidFill>
                <a:latin typeface="Times New Roman"/>
              </a:rPr>
              <a:t>Re-ožarovanie miechy - zhrnutie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spcBef>
                <a:spcPts val="601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Miecha patrí medzi tkanivá s potenciálom regeneráci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860400" indent="-285840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00"/>
                </a:solidFill>
                <a:latin typeface="Times New Roman"/>
              </a:rPr>
              <a:t>do ½ roku  o 30 %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860400" indent="-285840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00"/>
                </a:solidFill>
                <a:latin typeface="Times New Roman"/>
              </a:rPr>
              <a:t>1-2 r. do 60 - 70 %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84120" indent="-384120">
              <a:spcBef>
                <a:spcPts val="601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Kumulatívna BED</a:t>
            </a:r>
            <a:r>
              <a:rPr b="1" lang="sk-SK" sz="2400" spc="-1" strike="noStrike" baseline="-25000">
                <a:solidFill>
                  <a:srgbClr val="003300"/>
                </a:solidFill>
                <a:latin typeface="Times New Roman"/>
              </a:rPr>
              <a:t>med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 (konv. do NTD</a:t>
            </a:r>
            <a:r>
              <a:rPr b="1" lang="sk-SK" sz="2400" spc="-1" strike="noStrike" baseline="-25000">
                <a:solidFill>
                  <a:srgbClr val="003300"/>
                </a:solidFill>
                <a:latin typeface="Times New Roman"/>
              </a:rPr>
              <a:t>med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) by ale nemala presiahnuť 140% tolerovateľnej (počiatočnej) dávk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860400" indent="-285840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00"/>
                </a:solidFill>
                <a:latin typeface="Times New Roman"/>
              </a:rPr>
              <a:t>miecha </a:t>
            </a:r>
            <a:r>
              <a:rPr b="1" lang="sk-SK" sz="2000" spc="-1" strike="noStrike" baseline="-25000">
                <a:solidFill>
                  <a:srgbClr val="003300"/>
                </a:solidFill>
                <a:latin typeface="Times New Roman"/>
              </a:rPr>
              <a:t>cerv/thor.</a:t>
            </a:r>
            <a:r>
              <a:rPr b="1" lang="sk-SK" sz="2000" spc="-1" strike="noStrike">
                <a:solidFill>
                  <a:srgbClr val="003300"/>
                </a:solidFill>
                <a:latin typeface="Times New Roman"/>
              </a:rPr>
              <a:t>: </a:t>
            </a:r>
            <a:r>
              <a:rPr b="1" lang="sk-SK" sz="2000" spc="-1" strike="noStrike">
                <a:solidFill>
                  <a:srgbClr val="003300"/>
                </a:solidFill>
                <a:latin typeface="Symbol"/>
                <a:ea typeface="Symbol"/>
              </a:rPr>
              <a:t></a:t>
            </a:r>
            <a:r>
              <a:rPr b="1" lang="sk-SK" sz="2000" spc="-1" strike="noStrike">
                <a:solidFill>
                  <a:srgbClr val="003300"/>
                </a:solidFill>
                <a:latin typeface="Times New Roman"/>
              </a:rPr>
              <a:t>=2Gy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860400" indent="-285840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00"/>
                </a:solidFill>
                <a:latin typeface="Times New Roman"/>
              </a:rPr>
              <a:t>pri  NTD </a:t>
            </a:r>
            <a:r>
              <a:rPr b="1" lang="sk-SK" sz="2000" spc="-1" strike="noStrike">
                <a:solidFill>
                  <a:srgbClr val="003300"/>
                </a:solidFill>
                <a:latin typeface="Symbol"/>
                <a:ea typeface="Symbol"/>
              </a:rPr>
              <a:t></a:t>
            </a:r>
            <a:r>
              <a:rPr b="1" lang="sk-SK" sz="2000" spc="-1" strike="noStrike">
                <a:solidFill>
                  <a:srgbClr val="003300"/>
                </a:solidFill>
                <a:latin typeface="Times New Roman"/>
              </a:rPr>
              <a:t>50 Gy </a:t>
            </a:r>
            <a:r>
              <a:rPr b="1" lang="sk-SK" sz="2000" spc="-1" strike="noStrike">
                <a:solidFill>
                  <a:srgbClr val="003300"/>
                </a:solidFill>
                <a:latin typeface="Symbol"/>
                <a:ea typeface="Symbol"/>
              </a:rPr>
              <a:t></a:t>
            </a:r>
            <a:r>
              <a:rPr b="1" lang="sk-SK" sz="2000" spc="-1" strike="noStrike">
                <a:solidFill>
                  <a:srgbClr val="003300"/>
                </a:solidFill>
                <a:latin typeface="Times New Roman"/>
              </a:rPr>
              <a:t> NTCP = 5%/5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84120" indent="-384120">
              <a:spcBef>
                <a:spcPts val="601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Časový interval I. a II. série -  štatisticky  nevýznamný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4120" indent="-384120">
              <a:spcBef>
                <a:spcPts val="601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Objemový faktor - zanedbateľný (sériová štruktúra!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EE1-2D70-4D06-A5FA-CA986634749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cc"/>
                </a:solidFill>
                <a:latin typeface="Times New Roman"/>
              </a:rPr>
              <a:t>Odporúčania do prax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Používať BED/NTD namiesto T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NTD</a:t>
            </a:r>
            <a:r>
              <a:rPr b="1" lang="sk-SK" sz="2400" spc="-1" strike="noStrike" baseline="-25000">
                <a:solidFill>
                  <a:srgbClr val="003300"/>
                </a:solidFill>
                <a:latin typeface="Times New Roman"/>
              </a:rPr>
              <a:t>mozog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=BED/2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Dokumentovať DVH z I. série CR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Vytvoriť „sumačný plán“ a „sumačné DVH“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Vypočítať NTD</a:t>
            </a:r>
            <a:r>
              <a:rPr b="1" lang="sk-SK" sz="2800" spc="-1" strike="noStrike" baseline="-25000">
                <a:solidFill>
                  <a:srgbClr val="003300"/>
                </a:solidFill>
                <a:latin typeface="Times New Roman"/>
              </a:rPr>
              <a:t>cumul.</a:t>
            </a: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=&gt; </a:t>
            </a: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 NTCP=F(DVH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Odporúčané limity pre NTD2</a:t>
            </a:r>
            <a:r>
              <a:rPr b="1" lang="sk-SK" sz="2800" spc="-1" strike="noStrike" baseline="-25000">
                <a:solidFill>
                  <a:srgbClr val="003300"/>
                </a:solidFill>
                <a:latin typeface="Times New Roman"/>
              </a:rPr>
              <a:t>cumul.</a:t>
            </a: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u mozgu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sk-SK" sz="2000" spc="-1" strike="noStrike">
                <a:solidFill>
                  <a:srgbClr val="0033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100 Gy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u miechy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sk-SK" sz="2000" spc="-1" strike="noStrike">
                <a:solidFill>
                  <a:srgbClr val="003300"/>
                </a:solidFill>
                <a:latin typeface="Symbol"/>
                <a:ea typeface="Symbol"/>
              </a:rPr>
              <a:t>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 60 Gy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936F-336B-4D84-9C2F-FE07933BC4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cc"/>
                </a:solidFill>
                <a:latin typeface="Times New Roman"/>
              </a:rPr>
              <a:t>Implementácia výsledkov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300"/>
                </a:solidFill>
                <a:latin typeface="Times New Roman"/>
              </a:rPr>
              <a:t>Poznatky z prác o re-iradiacii boli zahrnuté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003300"/>
                </a:solidFill>
                <a:latin typeface="Times New Roman"/>
              </a:rPr>
              <a:t>do parametrov tkanív -BioGra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300"/>
                </a:solidFill>
                <a:latin typeface="Times New Roman"/>
              </a:rPr>
              <a:t>Na základe DVH a NTD z I. série a parametrov re-ožarovania môžeme predvídať NTCP (pravdepodobnosť výskytu mozgových radionekróz</a:t>
            </a:r>
            <a:r>
              <a:rPr b="1" lang="sk-SK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2FF8-12B8-4E4A-BED3-19CD616733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íklad (</a:t>
            </a:r>
            <a:r>
              <a:rPr b="0" lang="sk-SK" sz="2400" spc="-1" strike="noStrike">
                <a:solidFill>
                  <a:srgbClr val="ffcc00"/>
                </a:solidFill>
                <a:latin typeface="Times New Roman"/>
              </a:rPr>
              <a:t>z dát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ffcc00"/>
                </a:solidFill>
                <a:latin typeface="Times New Roman"/>
              </a:rPr>
              <a:t> zahraničného pracoviska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79DB-7B2F-429A-A66B-8B2655B0B54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cc"/>
                </a:solidFill>
                <a:latin typeface="Times New Roman"/>
              </a:rPr>
              <a:t>Úvod -  pokračovanie</a:t>
            </a:r>
            <a:r>
              <a:rPr b="0" lang="sk-SK" sz="4400" spc="-1" strike="noStrike">
                <a:solidFill>
                  <a:srgbClr val="ff9933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Tumory typu GBM,  napriek aplikovanej RT + CHT „neúprosne“ recidivujú po niekoľkých mesiacoch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až v 90% v tesnej blízkosti resekovaného, resp. ožiareného ložisk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Obmedzujúce faktory pri re-ožarovaní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tolerančné dávky pre mozog a miech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poloha recidívy voči ďalším kritickým orgánom (mozgový kmeň, chiasma, optický nerv, šošovky...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3224-C999-4A4F-B2FB-127D6E6BC3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cc00"/>
                </a:solidFill>
                <a:latin typeface="Times New Roman"/>
              </a:rPr>
              <a:t>Sumačné DVH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55640" y="1397160"/>
            <a:ext cx="7488360" cy="538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DD31-8721-41A3-A8D0-437AD433F86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561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cc00"/>
                </a:solidFill>
                <a:latin typeface="Times New Roman"/>
              </a:rPr>
              <a:t>Predikcia toxicity pre casus </a:t>
            </a:r>
            <a:br>
              <a:rPr sz="4000"/>
            </a:b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 25F/2Gy + reiradiacia po 1 r.  10F/2G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880" y="1057320"/>
            <a:ext cx="8064720" cy="5800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516720" y="6093000"/>
            <a:ext cx="1490760" cy="753840"/>
          </a:xfrm>
          <a:prstGeom prst="wedgeRoundRectCallout">
            <a:avLst>
              <a:gd name="adj1" fmla="val -68851"/>
              <a:gd name="adj2" fmla="val -71472"/>
              <a:gd name="adj3" fmla="val 16667"/>
            </a:avLst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00"/>
                </a:solidFill>
                <a:latin typeface="Times New Roman"/>
              </a:rPr>
              <a:t>NTCP 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ADD5-FB08-40BB-9F69-17DE3E00F4E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-468360" y="-2763720"/>
            <a:ext cx="15239880" cy="11430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172360" y="119700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VOÚ a.s. Koši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C89A-8944-48EF-9EE7-A996DEA9221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780000" y="602136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cc"/>
                </a:solidFill>
                <a:latin typeface="Times New Roman"/>
              </a:rPr>
              <a:t>ďakujem za pozornosť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6043-6CF3-402A-916A-40C1F720BD7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7D4E-0CF3-42DC-B750-60DFB0541BED}" type="slidenum"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cc"/>
                </a:solidFill>
                <a:latin typeface="Times New Roman"/>
              </a:rPr>
              <a:t>Krátky refreshment:</a:t>
            </a:r>
            <a:br>
              <a:rPr sz="4000"/>
            </a:br>
            <a:r>
              <a:rPr b="1" lang="sk-SK" sz="3200" spc="-1" strike="noStrike">
                <a:solidFill>
                  <a:srgbClr val="ffffcc"/>
                </a:solidFill>
                <a:latin typeface="Times New Roman"/>
              </a:rPr>
              <a:t>Ako vypočítať NTD z BED  pre mozog?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868320" y="2349360"/>
                <a:ext cx="329400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/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716360" y="4876920"/>
                <a:ext cx="35276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TD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BE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09480" y="4572000"/>
                <a:ext cx="365760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/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334120" y="2514600"/>
                <a:ext cx="2743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TD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BE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2346480" y="31971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3733920"/>
            <a:ext cx="70866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66ff"/>
                </a:solidFill>
                <a:latin typeface="Times New Roman"/>
              </a:rPr>
              <a:t>Ak </a:t>
            </a:r>
            <a:r>
              <a:rPr b="1" lang="sk-SK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d = 2Gy</a:t>
            </a:r>
            <a:r>
              <a:rPr b="1" lang="sk-SK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&amp;</a:t>
            </a:r>
            <a:r>
              <a:rPr b="1" lang="sk-S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</a:t>
            </a: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 = 2 Gy</a:t>
            </a:r>
            <a:r>
              <a:rPr b="1" lang="sk-SK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3366ff"/>
                </a:solidFill>
                <a:latin typeface="Times New Roman"/>
              </a:rPr>
              <a:t>potom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92960" y="6172200"/>
            <a:ext cx="665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Times New Roman"/>
              </a:rPr>
              <a:t>M. Milano et al: Normal Tissue Tolerance Dose Metrics, Sem. in RO, 2007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3333cc"/>
                </a:solidFill>
                <a:latin typeface="Times New Roman"/>
              </a:rPr>
              <a:t>Tolerancia normálnych tkanív</a:t>
            </a:r>
            <a:br>
              <a:rPr sz="4000"/>
            </a:br>
            <a:r>
              <a:rPr b="1" lang="sk-SK" sz="4000" spc="-1" strike="noStrike">
                <a:solidFill>
                  <a:srgbClr val="3333cc"/>
                </a:solidFill>
                <a:latin typeface="Times New Roman"/>
              </a:rPr>
              <a:t>v oblasti H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&amp;N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5333760"/>
            <a:ext cx="8424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776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3333cc"/>
                </a:solidFill>
                <a:latin typeface="Times New Roman"/>
              </a:rPr>
              <a:t>Konfúzne: </a:t>
            </a:r>
            <a:r>
              <a:rPr b="1" i="1" lang="sk-SK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sk-SK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sk-SK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sk-SK" sz="2800" spc="-1" strike="noStrike">
                <a:solidFill>
                  <a:srgbClr val="3333cc"/>
                </a:solidFill>
                <a:latin typeface="Times New Roman"/>
              </a:rPr>
              <a:t>d/fr – objem – T – re-ožarovani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8785440" cy="30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23DD-8530-4CD3-BF0E-7DB2D06915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284720" y="627696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3300"/>
                </a:solidFill>
                <a:latin typeface="Times New Roman"/>
              </a:rPr>
              <a:t>Kehwar T. : Cancer J. Research, Vol. I ,2005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56908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3333cc"/>
                </a:solidFill>
                <a:latin typeface="Times New Roman"/>
              </a:rPr>
              <a:t>Tolerancia normálnych tkanív-hlava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79280" y="1341360"/>
          <a:ext cx="8640720" cy="4667400"/>
        </p:xfrm>
        <a:graphic>
          <a:graphicData uri="http://schemas.openxmlformats.org/drawingml/2006/table">
            <a:tbl>
              <a:tblPr/>
              <a:tblGrid>
                <a:gridCol w="2106720"/>
                <a:gridCol w="1998720"/>
                <a:gridCol w="2232000"/>
                <a:gridCol w="2303280"/>
              </a:tblGrid>
              <a:tr h="149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Organ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NTCP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k-SK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5%/5r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Vol. 1/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NTCP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5%/5r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Vol. 2/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NTCP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k-SK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5%/5r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Vol. 3/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59 Gy*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52 Gy*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47 Gy*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Brain stea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59 Gy*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55 Gy*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53 Gy*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Eye len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6,8 G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6,8 G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6,8 G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Optic nerv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49 G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49 G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49 G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Chiasma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49,5 G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49,5 G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49,5 G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Retina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45 G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45 G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45 Gy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50920" y="6237360"/>
            <a:ext cx="345744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00"/>
                </a:solidFill>
                <a:latin typeface="Times New Roman"/>
              </a:rPr>
              <a:t>*objemová závislosť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478-B44D-4AE5-83C5-7302CCFD96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cc"/>
                </a:solidFill>
                <a:latin typeface="Times New Roman"/>
              </a:rPr>
              <a:t>Cieľ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Zhrnúť poznatky o možnostiach re-ožarovani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z dostupných dát EBM o tolerančných dávkach kritických orgánov v oblasti H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&amp;N</a:t>
            </a: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2.   p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op</a:t>
            </a: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ísať metodiku stanovenia dozáže pre II. sériu ožarovania po I.sérií so zohľadnením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závislosti na časovo – dávkových a objemových pomeroc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kritické orgán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00"/>
                </a:solidFill>
                <a:latin typeface="Times New Roman"/>
              </a:rPr>
              <a:t>Mozog: (mozgový kmeň, chiasma, optický nerv, šošovk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00"/>
                </a:solidFill>
                <a:latin typeface="Times New Roman"/>
              </a:rPr>
              <a:t>Miecha: (cervikálna a thorakálna)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F1DA-061E-423A-A394-1D3903D34F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3333cc"/>
                </a:solidFill>
                <a:latin typeface="Times New Roman"/>
              </a:rPr>
              <a:t>Materiál a metodika</a:t>
            </a:r>
            <a:r>
              <a:rPr b="1" lang="sk-SK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imes New Roman"/>
              </a:rPr>
              <a:t>Použité zdroje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3880" y="4495680"/>
            <a:ext cx="668808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523880" y="3276720"/>
            <a:ext cx="6553440" cy="758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66680" y="1600200"/>
            <a:ext cx="6858000" cy="914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F. Stewart 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Retreatment tolerance of normal tissu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C96-4ACA-4F90-9AA1-3AB8D3620C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3300"/>
                </a:solidFill>
                <a:latin typeface="Times New Roman"/>
              </a:rPr>
              <a:t>F. Stewar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C00-4744-42A0-B7FB-4C71B2E774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cc"/>
                </a:solidFill>
                <a:latin typeface="Times New Roman"/>
              </a:rPr>
              <a:t>Retrospektívne hodnoteni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Vyhľadanie publikácií *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kľúčové slová: re-irradiation, brain tumors, glioma, GBM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modality: EBRT, FSRT, SRS, side effec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00"/>
                </a:solidFill>
                <a:latin typeface="Times New Roman"/>
              </a:rPr>
              <a:t>Spôsob vyhodnotenia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BED = BED</a:t>
            </a:r>
            <a:r>
              <a:rPr b="1" lang="sk-SK" sz="2400" spc="-1" strike="noStrike" baseline="-25000">
                <a:solidFill>
                  <a:srgbClr val="003300"/>
                </a:solidFill>
                <a:latin typeface="Times New Roman"/>
              </a:rPr>
              <a:t>inic.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 + BED</a:t>
            </a:r>
            <a:r>
              <a:rPr b="1" lang="sk-SK" sz="2400" spc="-1" strike="noStrike" baseline="-25000">
                <a:solidFill>
                  <a:srgbClr val="003300"/>
                </a:solidFill>
                <a:latin typeface="Times New Roman"/>
              </a:rPr>
              <a:t>reirr.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</a:t>
            </a: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 NT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00"/>
                </a:solidFill>
                <a:latin typeface="Times New Roman"/>
              </a:rPr>
              <a:t>Toxicita (acute a late effects)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0" algn="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0" algn="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00"/>
                </a:solidFill>
                <a:latin typeface="Times New Roman"/>
              </a:rPr>
              <a:t>* 1996 – 2006; PubM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467-8FEE-4EB9-B65D-D180E8BE55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1T09:26:18Z</dcterms:created>
  <dc:creator>Rafal Suwinski</dc:creator>
  <dc:description/>
  <dc:language>en-US</dc:language>
  <cp:lastModifiedBy>CPCE</cp:lastModifiedBy>
  <dcterms:modified xsi:type="dcterms:W3CDTF">2016-10-13T06:09:26Z</dcterms:modified>
  <cp:revision>324</cp:revision>
  <dc:subject/>
  <dc:title>Prezentacja programu PowerPoint</dc:title>
</cp:coreProperties>
</file>