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20.jpeg" ContentType="image/jpeg"/>
  <Override PartName="/ppt/media/image13.wmf" ContentType="image/x-wmf"/>
  <Override PartName="/ppt/media/image9.png" ContentType="image/png"/>
  <Override PartName="/ppt/media/image8.png" ContentType="image/png"/>
  <Override PartName="/ppt/media/image16.wmf" ContentType="image/x-wmf"/>
  <Override PartName="/ppt/media/image11.png" ContentType="image/png"/>
  <Override PartName="/ppt/media/image19.jpeg" ContentType="image/jpeg"/>
  <Override PartName="/ppt/media/image6.png" ContentType="image/png"/>
  <Override PartName="/ppt/media/image5.wmf" ContentType="image/x-wmf"/>
  <Override PartName="/ppt/media/image10.png" ContentType="image/png"/>
  <Override PartName="/ppt/media/image3.jpeg" ContentType="image/jpeg"/>
  <Override PartName="/ppt/media/image2.wmf" ContentType="image/x-wmf"/>
  <Override PartName="/ppt/media/image26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6797520" cy="992520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38">
                <a:moveTo>
                  <a:pt x="5" y="0"/>
                </a:moveTo>
                <a:arcTo wR="5" hR="5" stAng="16200000" swAng="-5400000"/>
                <a:lnTo>
                  <a:pt x="0" y="31533"/>
                </a:lnTo>
                <a:arcTo wR="5" hR="5" stAng="10800000" swAng="-5400000"/>
                <a:lnTo>
                  <a:pt x="21595" y="3153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Num" idx="7"/>
          </p:nvPr>
        </p:nvSpPr>
        <p:spPr>
          <a:xfrm>
            <a:off x="3850920" y="9450360"/>
            <a:ext cx="29401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57F0F-4B85-433C-8EB5-6845E7CA7F33}" type="slidenum">
              <a:rPr b="0" i="1" lang="en-GB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784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085400" y="868320"/>
            <a:ext cx="4619880" cy="3463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51280" y="9450360"/>
            <a:ext cx="2946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8DAA9-998B-48EF-B237-19D6EC70690A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7800" cy="3471840"/>
          </a:xfrm>
          <a:prstGeom prst="rect">
            <a:avLst/>
          </a:prstGeom>
          <a:ln w="0">
            <a:noFill/>
          </a:ln>
        </p:spPr>
      </p:sp>
      <p:sp>
        <p:nvSpPr>
          <p:cNvPr id="259" name=""/>
          <p:cNvSpPr/>
          <p:nvPr/>
        </p:nvSpPr>
        <p:spPr>
          <a:xfrm>
            <a:off x="906480" y="4716360"/>
            <a:ext cx="498636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277" name=""/>
          <p:cNvSpPr/>
          <p:nvPr/>
        </p:nvSpPr>
        <p:spPr>
          <a:xfrm>
            <a:off x="906480" y="4716360"/>
            <a:ext cx="498456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279" name=""/>
          <p:cNvSpPr/>
          <p:nvPr/>
        </p:nvSpPr>
        <p:spPr>
          <a:xfrm>
            <a:off x="906480" y="4716360"/>
            <a:ext cx="498456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281" name=""/>
          <p:cNvSpPr/>
          <p:nvPr/>
        </p:nvSpPr>
        <p:spPr>
          <a:xfrm>
            <a:off x="906480" y="4716360"/>
            <a:ext cx="498456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283" name=""/>
          <p:cNvSpPr/>
          <p:nvPr/>
        </p:nvSpPr>
        <p:spPr>
          <a:xfrm>
            <a:off x="906480" y="4716360"/>
            <a:ext cx="498456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285" name=""/>
          <p:cNvSpPr/>
          <p:nvPr/>
        </p:nvSpPr>
        <p:spPr>
          <a:xfrm>
            <a:off x="906480" y="4716360"/>
            <a:ext cx="498456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287" name=""/>
          <p:cNvSpPr/>
          <p:nvPr/>
        </p:nvSpPr>
        <p:spPr>
          <a:xfrm>
            <a:off x="906480" y="4716360"/>
            <a:ext cx="498456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289" name=""/>
          <p:cNvSpPr/>
          <p:nvPr/>
        </p:nvSpPr>
        <p:spPr>
          <a:xfrm>
            <a:off x="906480" y="4716360"/>
            <a:ext cx="498456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291" name=""/>
          <p:cNvSpPr/>
          <p:nvPr/>
        </p:nvSpPr>
        <p:spPr>
          <a:xfrm>
            <a:off x="906480" y="4716360"/>
            <a:ext cx="498456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293" name=""/>
          <p:cNvSpPr/>
          <p:nvPr/>
        </p:nvSpPr>
        <p:spPr>
          <a:xfrm>
            <a:off x="906480" y="4716360"/>
            <a:ext cx="498456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295" name=""/>
          <p:cNvSpPr/>
          <p:nvPr/>
        </p:nvSpPr>
        <p:spPr>
          <a:xfrm>
            <a:off x="906480" y="4716360"/>
            <a:ext cx="498456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261" name=""/>
          <p:cNvSpPr/>
          <p:nvPr/>
        </p:nvSpPr>
        <p:spPr>
          <a:xfrm>
            <a:off x="906480" y="4716360"/>
            <a:ext cx="498456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297" name=""/>
          <p:cNvSpPr/>
          <p:nvPr/>
        </p:nvSpPr>
        <p:spPr>
          <a:xfrm>
            <a:off x="906480" y="4716360"/>
            <a:ext cx="498456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299" name=""/>
          <p:cNvSpPr/>
          <p:nvPr/>
        </p:nvSpPr>
        <p:spPr>
          <a:xfrm>
            <a:off x="906480" y="4716360"/>
            <a:ext cx="498456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301" name=""/>
          <p:cNvSpPr/>
          <p:nvPr/>
        </p:nvSpPr>
        <p:spPr>
          <a:xfrm>
            <a:off x="906480" y="4716360"/>
            <a:ext cx="498456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303" name=""/>
          <p:cNvSpPr/>
          <p:nvPr/>
        </p:nvSpPr>
        <p:spPr>
          <a:xfrm>
            <a:off x="906480" y="4716360"/>
            <a:ext cx="498456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305" name=""/>
          <p:cNvSpPr/>
          <p:nvPr/>
        </p:nvSpPr>
        <p:spPr>
          <a:xfrm>
            <a:off x="906480" y="4716360"/>
            <a:ext cx="49831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307" name=""/>
          <p:cNvSpPr/>
          <p:nvPr/>
        </p:nvSpPr>
        <p:spPr>
          <a:xfrm>
            <a:off x="906480" y="4716360"/>
            <a:ext cx="49831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309" name=""/>
          <p:cNvSpPr/>
          <p:nvPr/>
        </p:nvSpPr>
        <p:spPr>
          <a:xfrm>
            <a:off x="906480" y="4716360"/>
            <a:ext cx="49831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311" name=""/>
          <p:cNvSpPr/>
          <p:nvPr/>
        </p:nvSpPr>
        <p:spPr>
          <a:xfrm>
            <a:off x="906480" y="4716360"/>
            <a:ext cx="49831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313" name=""/>
          <p:cNvSpPr/>
          <p:nvPr/>
        </p:nvSpPr>
        <p:spPr>
          <a:xfrm>
            <a:off x="906480" y="4716360"/>
            <a:ext cx="498456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315" name=""/>
          <p:cNvSpPr/>
          <p:nvPr/>
        </p:nvSpPr>
        <p:spPr>
          <a:xfrm>
            <a:off x="906480" y="4716360"/>
            <a:ext cx="498456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263" name=""/>
          <p:cNvSpPr/>
          <p:nvPr/>
        </p:nvSpPr>
        <p:spPr>
          <a:xfrm>
            <a:off x="906480" y="4716360"/>
            <a:ext cx="498456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317" name=""/>
          <p:cNvSpPr/>
          <p:nvPr/>
        </p:nvSpPr>
        <p:spPr>
          <a:xfrm>
            <a:off x="906480" y="4716360"/>
            <a:ext cx="498456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319" name=""/>
          <p:cNvSpPr/>
          <p:nvPr/>
        </p:nvSpPr>
        <p:spPr>
          <a:xfrm>
            <a:off x="906480" y="4716360"/>
            <a:ext cx="498456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321" name=""/>
          <p:cNvSpPr/>
          <p:nvPr/>
        </p:nvSpPr>
        <p:spPr>
          <a:xfrm>
            <a:off x="906480" y="4716360"/>
            <a:ext cx="49831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323" name=""/>
          <p:cNvSpPr/>
          <p:nvPr/>
        </p:nvSpPr>
        <p:spPr>
          <a:xfrm>
            <a:off x="906480" y="4716360"/>
            <a:ext cx="49831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325" name=""/>
          <p:cNvSpPr/>
          <p:nvPr/>
        </p:nvSpPr>
        <p:spPr>
          <a:xfrm>
            <a:off x="906480" y="4716360"/>
            <a:ext cx="498456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327" name=""/>
          <p:cNvSpPr/>
          <p:nvPr/>
        </p:nvSpPr>
        <p:spPr>
          <a:xfrm>
            <a:off x="906480" y="4716360"/>
            <a:ext cx="49831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329" name=""/>
          <p:cNvSpPr/>
          <p:nvPr/>
        </p:nvSpPr>
        <p:spPr>
          <a:xfrm>
            <a:off x="906480" y="4716360"/>
            <a:ext cx="49831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331" name=""/>
          <p:cNvSpPr/>
          <p:nvPr/>
        </p:nvSpPr>
        <p:spPr>
          <a:xfrm>
            <a:off x="906480" y="4716360"/>
            <a:ext cx="498456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333" name=""/>
          <p:cNvSpPr/>
          <p:nvPr/>
        </p:nvSpPr>
        <p:spPr>
          <a:xfrm>
            <a:off x="906480" y="4716360"/>
            <a:ext cx="49831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265" name=""/>
          <p:cNvSpPr/>
          <p:nvPr/>
        </p:nvSpPr>
        <p:spPr>
          <a:xfrm>
            <a:off x="906480" y="4716360"/>
            <a:ext cx="498456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267" name=""/>
          <p:cNvSpPr/>
          <p:nvPr/>
        </p:nvSpPr>
        <p:spPr>
          <a:xfrm>
            <a:off x="906480" y="4716360"/>
            <a:ext cx="498456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269" name=""/>
          <p:cNvSpPr/>
          <p:nvPr/>
        </p:nvSpPr>
        <p:spPr>
          <a:xfrm>
            <a:off x="906480" y="4716360"/>
            <a:ext cx="498456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271" name=""/>
          <p:cNvSpPr/>
          <p:nvPr/>
        </p:nvSpPr>
        <p:spPr>
          <a:xfrm>
            <a:off x="906480" y="4716360"/>
            <a:ext cx="498456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273" name=""/>
          <p:cNvSpPr/>
          <p:nvPr/>
        </p:nvSpPr>
        <p:spPr>
          <a:xfrm>
            <a:off x="906480" y="4716360"/>
            <a:ext cx="498456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085760" y="86832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275" name=""/>
          <p:cNvSpPr/>
          <p:nvPr/>
        </p:nvSpPr>
        <p:spPr>
          <a:xfrm>
            <a:off x="906480" y="4716360"/>
            <a:ext cx="498456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39BC-2F9D-4705-A357-E5808AEE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617400"/>
            <a:ext cx="77868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628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240" y="4163760"/>
            <a:ext cx="776628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9D4D-147D-4F73-85B2-96E9AB3E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617400"/>
            <a:ext cx="77868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1680" y="201780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240" y="416376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1680" y="416376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B124-26A0-4CA4-9A48-5F91E418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617400"/>
            <a:ext cx="77868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8080" y="201780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4280" y="201780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240" y="416376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8080" y="416376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4280" y="416376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2B2B-F5C1-4E55-BF1F-FB12B4E9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D0C7-C92C-4423-B0E1-EF74E84EF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617400"/>
            <a:ext cx="77868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6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4BB4-432A-4357-A235-0650C9D1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617400"/>
            <a:ext cx="77868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628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E0F8-07A3-48BB-9869-78CA8FA4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920" y="617400"/>
            <a:ext cx="77868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897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1680" y="2017800"/>
            <a:ext cx="37897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5FB6-6CB2-4152-823A-64CC4684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617400"/>
            <a:ext cx="77868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3C04-8837-404B-B045-C527E1B5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920" y="617400"/>
            <a:ext cx="778680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7C48-95F4-4628-BB01-A69FE545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617400"/>
            <a:ext cx="77868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1680" y="2017800"/>
            <a:ext cx="37897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240" y="416376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FB08-F882-44CD-9C21-875F0393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617400"/>
            <a:ext cx="77868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240" y="2017800"/>
            <a:ext cx="77662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9486-86E0-4637-9D98-A794F5BA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920" y="617400"/>
            <a:ext cx="77868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897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1680" y="201780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1680" y="416376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3A82-2918-472B-8457-414752FD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920" y="617400"/>
            <a:ext cx="77868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1680" y="201780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240" y="4163760"/>
            <a:ext cx="776628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42E4-15F9-4CF1-BD91-E147AFFC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920" y="617400"/>
            <a:ext cx="77868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628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240" y="4163760"/>
            <a:ext cx="776628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1EF1-0AF2-4990-AF14-AEF5FF23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920" y="617400"/>
            <a:ext cx="77868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1680" y="201780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240" y="416376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1680" y="416376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E8DB-38BB-447D-8806-91BE4F65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920" y="617400"/>
            <a:ext cx="77868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080" y="201780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4280" y="201780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240" y="416376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08080" y="416376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4280" y="416376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6118-4A7B-4E48-9981-96B35E0D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617400"/>
            <a:ext cx="77868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76628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7FFA-2B64-4AB5-B53D-23036633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617400"/>
            <a:ext cx="77868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897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1680" y="2017800"/>
            <a:ext cx="37897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66F8-4CA0-4CD9-B4FE-B846A23A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617400"/>
            <a:ext cx="77868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DFE5-AD70-42DA-A027-8C5F768F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617400"/>
            <a:ext cx="778680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8CA3-FFCB-4BC5-969D-F50E29F9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617400"/>
            <a:ext cx="77868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1680" y="2017800"/>
            <a:ext cx="37897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240" y="416376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5C93-C9D9-44BB-A084-D586F769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617400"/>
            <a:ext cx="77868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897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1680" y="201780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1680" y="416376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DB65-97D8-4259-B82F-6E96DAAB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617400"/>
            <a:ext cx="77868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1680" y="201780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240" y="4163760"/>
            <a:ext cx="776628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6E2-CB0E-4A43-AF1F-BC44FCC3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617400"/>
            <a:ext cx="77868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240" y="2017800"/>
            <a:ext cx="776628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120"/>
            <a:ext cx="18986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120"/>
            <a:ext cx="288936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120"/>
            <a:ext cx="18986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70935-2316-4813-A93D-EF1D4C092DD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2880" cy="1046160"/>
            <a:chOff x="0" y="2438280"/>
            <a:chExt cx="9002880" cy="104616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04880" cy="468360"/>
              <a:chOff x="290520" y="2546280"/>
              <a:chExt cx="704880" cy="46836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1640" cy="468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200" y="2546280"/>
                <a:ext cx="322200" cy="468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1520" cy="468360"/>
              <a:chOff x="414360" y="2968560"/>
              <a:chExt cx="731520" cy="46836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6836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62520" cy="468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54040" cy="416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25200" cy="10461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86800" cy="48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72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1c1c1c"/>
                </a:solidFill>
                <a:latin typeface="Tahom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900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1c1c1c"/>
                </a:solidFill>
                <a:latin typeface="Tahoma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1c1c1c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3C067-C375-4781-B0E3-CA750F49F19F}" type="slidenum">
              <a:rPr b="0" lang="cs-CZ" sz="1400" spc="-1" strike="noStrike">
                <a:solidFill>
                  <a:srgbClr val="1c1c1c"/>
                </a:solidFill>
                <a:latin typeface="Tahoma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0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1828440"/>
            <a:ext cx="822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3600" spc="-1" strike="noStrike">
                <a:solidFill>
                  <a:srgbClr val="333399"/>
                </a:solidFill>
                <a:latin typeface="Times New Roman"/>
              </a:rPr>
              <a:t>STEREOTAXIA  </a:t>
            </a:r>
            <a:br>
              <a:rPr sz="3600"/>
            </a:br>
            <a:r>
              <a:rPr b="0" lang="sk-SK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333399"/>
                </a:solidFill>
                <a:latin typeface="Times New Roman"/>
              </a:rPr>
              <a:t>- “odhalenie záhad“ v jej rádiobiologických účinkoch  a ich predikcia  modelom “LQ-L“</a:t>
            </a:r>
            <a:r>
              <a:rPr b="0" lang="sk-SK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Matula P., Končik J., Jasenčak 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600" spc="-1" strike="noStrike">
                <a:solidFill>
                  <a:srgbClr val="333399"/>
                </a:solidFill>
                <a:latin typeface="Times New Roman"/>
              </a:rPr>
              <a:t>Prečo klasický LQ model zlyháva </a:t>
            </a:r>
            <a:br>
              <a:rPr sz="3600"/>
            </a:br>
            <a:r>
              <a:rPr b="0" lang="sk-SK" sz="3600" spc="-1" strike="noStrike">
                <a:solidFill>
                  <a:srgbClr val="333399"/>
                </a:solidFill>
                <a:latin typeface="Times New Roman"/>
              </a:rPr>
              <a:t>pri vysokých dávkach na frakciu?</a:t>
            </a:r>
            <a:r>
              <a:rPr b="0" lang="sk-SK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666520"/>
            <a:ext cx="777240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Experimentálne dáta i klinické výstupy pri režimoch SRT /SBRT pri dávk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6 Gy / frakciu odhalili nesúlad s vypočítanými BED a NTCP podľa LQ modelu !!!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imes New Roman"/>
              </a:rPr>
              <a:t>SF (</a:t>
            </a:r>
            <a:r>
              <a:rPr b="0" lang="sk-SK" sz="3600" spc="-1" strike="noStrike">
                <a:solidFill>
                  <a:srgbClr val="333399"/>
                </a:solidFill>
                <a:latin typeface="Times New Roman"/>
              </a:rPr>
              <a:t>exper.dáta</a:t>
            </a:r>
            <a:r>
              <a:rPr b="0" lang="sk-SK" sz="4400" spc="-1" strike="noStrike">
                <a:solidFill>
                  <a:srgbClr val="333399"/>
                </a:solidFill>
                <a:latin typeface="Times New Roman"/>
              </a:rPr>
              <a:t>) versus LQ model</a:t>
            </a: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8360" y="1962000"/>
            <a:ext cx="42447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0000"/>
                </a:solidFill>
                <a:latin typeface="Times New Roman"/>
              </a:rPr>
              <a:t>Krivky prežívajúcej frakcie SF pri vyšších dávkach na frakciu prechádzajú do </a:t>
            </a:r>
            <a:r>
              <a:rPr b="1" lang="sk-SK" sz="2400" spc="-1" strike="noStrike" u="sng">
                <a:solidFill>
                  <a:srgbClr val="ff0000"/>
                </a:solidFill>
                <a:uFillTx/>
                <a:latin typeface="Times New Roman"/>
              </a:rPr>
              <a:t>lineárnej </a:t>
            </a:r>
            <a:r>
              <a:rPr b="1" lang="sk-SK" sz="2400" spc="-1" strike="noStrike">
                <a:solidFill>
                  <a:srgbClr val="ff0000"/>
                </a:solidFill>
                <a:latin typeface="Times New Roman"/>
              </a:rPr>
              <a:t>závislosti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Dôsledok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BED a NTCP predikujú vyššiu pravdepodobnosť  komplikácií, než boli klinicky pozorovan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Grafická prezentácia SF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14400" y="1484280"/>
            <a:ext cx="6372360" cy="47642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34120" y="2017800"/>
            <a:ext cx="3809880" cy="45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4527360" y="4107960"/>
            <a:ext cx="1841400" cy="8892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632560" y="4191120"/>
            <a:ext cx="698400" cy="100332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099040" y="4191120"/>
            <a:ext cx="1231920" cy="45720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3276720"/>
            <a:ext cx="1511280" cy="431640"/>
          </a:xfrm>
          <a:prstGeom prst="wedgeRoundRectCallout">
            <a:avLst>
              <a:gd name="adj1" fmla="val -32143"/>
              <a:gd name="adj2" fmla="val 171324"/>
              <a:gd name="adj3" fmla="val 16667"/>
            </a:avLst>
          </a:prstGeom>
          <a:solidFill>
            <a:srgbClr val="00e4a8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imes New Roman"/>
              </a:rPr>
              <a:t>Návrhy na riešenie – </a:t>
            </a:r>
            <a:br>
              <a:rPr sz="4000"/>
            </a:br>
            <a:r>
              <a:rPr b="0" lang="sk-SK" sz="4000" spc="-1" strike="noStrike">
                <a:solidFill>
                  <a:srgbClr val="333399"/>
                </a:solidFill>
                <a:latin typeface="Times New Roman"/>
              </a:rPr>
              <a:t>modifikácia modelu LQ  na LQ-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1280" y="3200040"/>
            <a:ext cx="4968720" cy="29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. Guerrero , X.Li (200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ark C.         (200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strahan M.    (200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156360" y="2349360"/>
            <a:ext cx="1666800" cy="20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000" spc="-1" strike="noStrike">
                <a:solidFill>
                  <a:srgbClr val="333399"/>
                </a:solidFill>
                <a:latin typeface="Times New Roman"/>
              </a:rPr>
              <a:t>SF v LQ-L modeli </a:t>
            </a:r>
            <a:r>
              <a:rPr b="1" lang="sk-SK" sz="2800" spc="-1" strike="noStrike">
                <a:solidFill>
                  <a:srgbClr val="333399"/>
                </a:solidFill>
                <a:latin typeface="Times New Roman"/>
              </a:rPr>
              <a:t>( 3 komponenty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031760" y="2162160"/>
                <a:ext cx="540396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F=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+β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7236000" y="2708280"/>
                <a:ext cx="10080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380360" y="4724280"/>
                <a:ext cx="10080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950760" y="4745160"/>
                <a:ext cx="59468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F=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D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b>
                        </m:sSub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β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+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5108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imes New Roman"/>
                <a:ea typeface="Microsoft YaHei"/>
              </a:rPr>
              <a:t>Algoritmus LQ-L modelu v BED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47920" y="2209680"/>
                <a:ext cx="62020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E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D+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sSub>
                                  <m:e/>
                                  <m:sub>
                                    <m:sSup>
                                      <m:e/>
                                      <m:sup>
                                        <m:sSup>
                                          <m:e/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sup>
                                    </m:sSup>
                                  </m:sub>
                                </m:sSub>
                              </m:sup>
                            </m:sSup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β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&lt;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33520" y="5257800"/>
                <a:ext cx="4537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γ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α=</m:t>
                        </m:r>
                      </m:den>
                    </m:f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β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95280" y="3716280"/>
                <a:ext cx="83520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E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β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γ</m:t>
                                </m:r>
                              </m:num>
                              <m:den>
                                <m:r>
                                  <m:t xml:space="preserve">α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867280" y="5154480"/>
                <a:ext cx="2737080" cy="6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 flipH="1">
            <a:off x="3200040" y="4343400"/>
            <a:ext cx="2133720" cy="76212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600" spc="-1" strike="noStrike">
                <a:solidFill>
                  <a:srgbClr val="333399"/>
                </a:solidFill>
                <a:latin typeface="Times New Roman"/>
              </a:rPr>
              <a:t>Zhoda LQ-L modelu s experimentom</a:t>
            </a: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03240" y="1828800"/>
            <a:ext cx="3807000" cy="45529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Chinese Hamster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Experimentálne výsledky pomerne presne fitujú krivku SF (LQ i LQ-L modelu) do dávky 6 Gy frakci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6560" indent="-279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Pri vyšších hodnotách dávky na frakciu „nastupuje“ 3. komponenta LQ-L modelu a dáva výsledky do súladu s pozorovaním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imes New Roman"/>
              </a:rPr>
              <a:t>Najfrekventovanejší vzorec  EQD2 = NTD</a:t>
            </a:r>
            <a:br>
              <a:rPr sz="3200"/>
            </a:br>
            <a:r>
              <a:rPr b="0" lang="sk-SK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ale  nepostačujúci !</a:t>
            </a: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04640" y="2428920"/>
                <a:ext cx="77598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Q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NTD=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+α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y+α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2120" y="4626000"/>
            <a:ext cx="7848360" cy="906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09480" y="5856120"/>
                <a:ext cx="79250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T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os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EQ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,3Gy*16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,3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5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5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1,3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,7</m:t>
                    </m:r>
                    <m:r>
                      <m:rPr>
                        <m:lit/>
                        <m:nor/>
                      </m:rPr>
                      <m:t xml:space="preserve">Gy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333360"/>
            <a:ext cx="77929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3600" spc="-1" strike="noStrike">
                <a:solidFill>
                  <a:srgbClr val="333399"/>
                </a:solidFill>
                <a:latin typeface="Times New Roman"/>
              </a:rPr>
              <a:t>Záhady vývoja  BED=F(N</a:t>
            </a:r>
            <a:r>
              <a:rPr b="1" lang="sk-SK" sz="3600" spc="-1" strike="noStrike" baseline="-25000">
                <a:solidFill>
                  <a:srgbClr val="333399"/>
                </a:solidFill>
                <a:latin typeface="Times New Roman"/>
              </a:rPr>
              <a:t>frakcii</a:t>
            </a:r>
            <a:r>
              <a:rPr b="1" lang="sk-SK" sz="36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sk-SK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sk-SK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333399"/>
                </a:solidFill>
                <a:latin typeface="Times New Roman"/>
              </a:rPr>
              <a:t>(acute vs late reactions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8064360" cy="5229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00720" y="2997360"/>
            <a:ext cx="863280" cy="431640"/>
          </a:xfrm>
          <a:prstGeom prst="wedgeRoundRectCallout">
            <a:avLst>
              <a:gd name="adj1" fmla="val -48898"/>
              <a:gd name="adj2" fmla="val 154046"/>
              <a:gd name="adj3" fmla="val 16667"/>
            </a:avLst>
          </a:prstGeom>
          <a:solidFill>
            <a:srgbClr val="00e4a8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32360" y="5516640"/>
            <a:ext cx="914400" cy="360360"/>
          </a:xfrm>
          <a:prstGeom prst="wedgeRoundRectCallout">
            <a:avLst>
              <a:gd name="adj1" fmla="val -46875"/>
              <a:gd name="adj2" fmla="val -200662"/>
              <a:gd name="adj3" fmla="val 16667"/>
            </a:avLst>
          </a:prstGeom>
          <a:solidFill>
            <a:srgbClr val="00e4a8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cut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659640" y="4214880"/>
            <a:ext cx="1440" cy="6602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4191120"/>
            <a:ext cx="5976720" cy="144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68360" y="4869000"/>
            <a:ext cx="5688360" cy="144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333360"/>
            <a:ext cx="77929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600" spc="-1" strike="noStrike">
                <a:solidFill>
                  <a:srgbClr val="333399"/>
                </a:solidFill>
                <a:latin typeface="Times New Roman"/>
              </a:rPr>
              <a:t>Vývoj BED ako F(N</a:t>
            </a:r>
            <a:r>
              <a:rPr b="0" lang="sk-SK" sz="3600" spc="-1" strike="noStrike" baseline="-25000">
                <a:solidFill>
                  <a:srgbClr val="333399"/>
                </a:solidFill>
                <a:latin typeface="Times New Roman"/>
              </a:rPr>
              <a:t>frakcii</a:t>
            </a:r>
            <a:r>
              <a:rPr b="0" lang="sk-SK" sz="3600" spc="-1" strike="noStrike">
                <a:solidFill>
                  <a:srgbClr val="333399"/>
                </a:solidFill>
                <a:latin typeface="Times New Roman"/>
              </a:rPr>
              <a:t>) </a:t>
            </a:r>
            <a:br>
              <a:rPr sz="3600"/>
            </a:br>
            <a:r>
              <a:rPr b="0" lang="sk-SK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333399"/>
                </a:solidFill>
                <a:latin typeface="Times New Roman"/>
              </a:rPr>
              <a:t> u tumorov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&amp; </a:t>
            </a:r>
            <a:r>
              <a:rPr b="0" lang="sk-SK" sz="2800" spc="-1" strike="noStrike">
                <a:solidFill>
                  <a:srgbClr val="333399"/>
                </a:solidFill>
                <a:latin typeface="Times New Roman"/>
              </a:rPr>
              <a:t>skorých  reakcií 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8064360" cy="5229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500720" y="2997360"/>
            <a:ext cx="863280" cy="431640"/>
          </a:xfrm>
          <a:prstGeom prst="wedgeRoundRectCallout">
            <a:avLst>
              <a:gd name="adj1" fmla="val -48898"/>
              <a:gd name="adj2" fmla="val 154046"/>
              <a:gd name="adj3" fmla="val 16667"/>
            </a:avLst>
          </a:prstGeom>
          <a:solidFill>
            <a:srgbClr val="00e4a8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5486400"/>
            <a:ext cx="3810240" cy="390600"/>
          </a:xfrm>
          <a:prstGeom prst="wedgeRoundRectCallout">
            <a:avLst>
              <a:gd name="adj1" fmla="val -42791"/>
              <a:gd name="adj2" fmla="val -155282"/>
              <a:gd name="adj3" fmla="val 16667"/>
            </a:avLst>
          </a:prstGeom>
          <a:solidFill>
            <a:srgbClr val="00e4a8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ore reakcie 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659640" y="4214880"/>
            <a:ext cx="1440" cy="6602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4191120"/>
            <a:ext cx="5976720" cy="144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68360" y="4869000"/>
            <a:ext cx="5688360" cy="144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1828800"/>
            <a:ext cx="5943600" cy="2819520"/>
          </a:xfrm>
          <a:prstGeom prst="rect">
            <a:avLst/>
          </a:prstGeom>
          <a:solidFill>
            <a:srgbClr val="00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Late BED = konštanta= 100 Gy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333360"/>
            <a:ext cx="77929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800" spc="-1" strike="noStrike">
                <a:solidFill>
                  <a:srgbClr val="333399"/>
                </a:solidFill>
                <a:latin typeface="Times New Roman"/>
              </a:rPr>
              <a:t>Úvod</a:t>
            </a: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70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Hypofrakcionácia  bola (aj je)   roky „tabuizovaná“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(Coutard 1932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Konvenciou  bola (aj je)   denná frakcionácia (C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okusy založené na hypoF sa  však stali  úspešné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Leksell 1951 (gamma knife), Brachy Stockholm 1951-7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1975 R.Withers  definoval  „4R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-oxygenácia,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-paracia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-distribúcia,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-populáci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1980  R.Barendsen , J.Fowler – LQ model                                  „4R“+  „2R“ -  </a:t>
            </a:r>
            <a:r>
              <a:rPr b="0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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diosensitivita ,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diation volume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SRS – stereo-radio-surgery na LÚ   ( 1F )   OÚSA Bratislav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6600" indent="-336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SBRT- stereo-body-radiotherapy  (3-8 F) – 6 r. vo VOÚ a.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333360"/>
            <a:ext cx="77929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600" spc="-1" strike="noStrike">
                <a:solidFill>
                  <a:srgbClr val="333399"/>
                </a:solidFill>
                <a:latin typeface="Times New Roman"/>
              </a:rPr>
              <a:t>Vývoj  BED=F(N</a:t>
            </a:r>
            <a:r>
              <a:rPr b="0" lang="sk-SK" sz="3600" spc="-1" strike="noStrike" baseline="-25000">
                <a:solidFill>
                  <a:srgbClr val="333399"/>
                </a:solidFill>
                <a:latin typeface="Times New Roman"/>
              </a:rPr>
              <a:t>frakcii</a:t>
            </a:r>
            <a:r>
              <a:rPr b="0" lang="sk-SK" sz="3600" spc="-1" strike="noStrike">
                <a:solidFill>
                  <a:srgbClr val="333399"/>
                </a:solidFill>
                <a:latin typeface="Times New Roman"/>
              </a:rPr>
              <a:t>) u late effects  </a:t>
            </a:r>
            <a:br>
              <a:rPr sz="3600"/>
            </a:br>
            <a:r>
              <a:rPr b="0" lang="sk-SK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333399"/>
                </a:solidFill>
                <a:latin typeface="Times New Roman"/>
              </a:rPr>
              <a:t>pri konštantnej BED =72Gy</a:t>
            </a:r>
            <a:r>
              <a:rPr b="0" lang="sk-SK" sz="1800" spc="-1" strike="noStrike">
                <a:solidFill>
                  <a:srgbClr val="333399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8064360" cy="5229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500720" y="2997360"/>
            <a:ext cx="863280" cy="431640"/>
          </a:xfrm>
          <a:prstGeom prst="wedgeRoundRectCallout">
            <a:avLst>
              <a:gd name="adj1" fmla="val -48898"/>
              <a:gd name="adj2" fmla="val 148527"/>
              <a:gd name="adj3" fmla="val 16667"/>
            </a:avLst>
          </a:prstGeom>
          <a:solidFill>
            <a:srgbClr val="00e4a8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32360" y="5516640"/>
            <a:ext cx="914400" cy="360360"/>
          </a:xfrm>
          <a:prstGeom prst="wedgeRoundRectCallout">
            <a:avLst>
              <a:gd name="adj1" fmla="val -46875"/>
              <a:gd name="adj2" fmla="val -200662"/>
              <a:gd name="adj3" fmla="val 16667"/>
            </a:avLst>
          </a:prstGeom>
          <a:solidFill>
            <a:srgbClr val="00e4a8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cut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659640" y="4214880"/>
            <a:ext cx="1440" cy="6602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4191120"/>
            <a:ext cx="5976720" cy="144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68360" y="4869000"/>
            <a:ext cx="5688360" cy="144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4419720"/>
            <a:ext cx="5790960" cy="2133360"/>
          </a:xfrm>
          <a:prstGeom prst="rect">
            <a:avLst/>
          </a:prstGeom>
          <a:solidFill>
            <a:srgbClr val="00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ute BED 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on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nta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72Gy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imes New Roman"/>
              </a:rPr>
              <a:t>Testovanie modelu LQ-L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22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Algoritmy modifikovaného modelu boli testované na odporúčaných limitoch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z prác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-  R.Timmermann et al.: </a:t>
            </a:r>
            <a:br>
              <a:rPr sz="2800"/>
            </a:b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   Seminars in Radiation Oncology Oct. 2008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-   Grimm et.al : Report AAMP IJROBP 2010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-  QUANTE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7947000" cy="63831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1628640"/>
            <a:ext cx="1008000" cy="648000"/>
          </a:xfrm>
          <a:prstGeom prst="wedgeRoundRectCallout">
            <a:avLst>
              <a:gd name="adj1" fmla="val 86537"/>
              <a:gd name="adj2" fmla="val -97060"/>
              <a:gd name="adj3" fmla="val 1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VXGy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81040" y="193680"/>
            <a:ext cx="7981920" cy="6469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295280" y="3733920"/>
            <a:ext cx="6858000" cy="8380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Times New Roman"/>
              </a:rPr>
              <a:t>Tabuľky – tabuľky  - bez hlbšej  analýzy !?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920" y="617400"/>
            <a:ext cx="778680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333399"/>
                </a:solidFill>
                <a:latin typeface="Times New Roman"/>
              </a:rPr>
              <a:t>Čo vymysleli košickí fyzici ? </a:t>
            </a:r>
            <a:br>
              <a:rPr sz="3200"/>
            </a:br>
            <a:r>
              <a:rPr b="1" lang="sk-SK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333399"/>
                </a:solidFill>
                <a:latin typeface="Times New Roman"/>
              </a:rPr>
              <a:t>Regresná analýza z dat o SBRT </a:t>
            </a:r>
            <a:r>
              <a:rPr b="0" lang="sk-SK" sz="28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800"/>
            </a:br>
            <a:r>
              <a:rPr b="0" lang="sk-SK" sz="3600" spc="-1" strike="noStrike">
                <a:solidFill>
                  <a:srgbClr val="333399"/>
                </a:solidFill>
                <a:latin typeface="Times New Roman"/>
              </a:rPr>
              <a:t>Miecha           Srdce         Cievy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82240" y="2017800"/>
            <a:ext cx="7766280" cy="19778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5028840"/>
            <a:ext cx="71629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edchádzajúci  príspevok : jasenčak, matula, vojt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3200400" cy="2563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3124080" y="1981080"/>
            <a:ext cx="3124440" cy="25052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5638680" y="2057400"/>
            <a:ext cx="3000600" cy="24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1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ahoma"/>
              </a:rPr>
              <a:t>Čo na to BioGray ? </a:t>
            </a:r>
            <a:br>
              <a:rPr sz="3200"/>
            </a:br>
            <a:r>
              <a:rPr b="0" lang="sk-SK" sz="3200" spc="-1" strike="noStrike">
                <a:solidFill>
                  <a:srgbClr val="333399"/>
                </a:solidFill>
                <a:latin typeface="Tahoma"/>
              </a:rPr>
              <a:t>Limitné dávky/fx v SRS/SBRT pre srdce</a:t>
            </a:r>
            <a:br>
              <a:rPr sz="3200"/>
            </a:br>
            <a:r>
              <a:rPr b="0" lang="sk-SK" sz="3200" spc="-1" strike="noStrike">
                <a:solidFill>
                  <a:srgbClr val="333399"/>
                </a:solidFill>
                <a:latin typeface="Tahoma"/>
              </a:rPr>
              <a:t>vypočítané v BioGra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52280" y="2209680"/>
          <a:ext cx="583884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09680"/>
                    <a:ext cx="583884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5562720" y="2438280"/>
            <a:ext cx="3352680" cy="26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791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000" spc="-1" strike="noStrike">
                <a:solidFill>
                  <a:srgbClr val="333399"/>
                </a:solidFill>
                <a:latin typeface="Times New Roman"/>
              </a:rPr>
              <a:t>BED pre Tu  ako F(Nfx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066680" y="2209680"/>
          <a:ext cx="5342040" cy="39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534204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5251320" y="3394080"/>
            <a:ext cx="35244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1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ahoma"/>
              </a:rPr>
              <a:t>NTD pre OaR (srdce) ako F(Nfr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066680" y="2209680"/>
          <a:ext cx="5342040" cy="39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534204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5251320" y="3394080"/>
            <a:ext cx="35244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991720" cy="5229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600" spc="-1" strike="noStrike">
                <a:solidFill>
                  <a:srgbClr val="333399"/>
                </a:solidFill>
                <a:latin typeface="Times New Roman"/>
              </a:rPr>
              <a:t>1.casus  SBRT (VOÚ)   3F/12,5 Gy</a:t>
            </a:r>
            <a:r>
              <a:rPr b="0" lang="sk-SK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CDVH pre SBRT 3F/ 12,5 Gy</a:t>
            </a:r>
            <a:br>
              <a:rPr sz="4400"/>
            </a:br>
            <a:r>
              <a:rPr b="0" lang="sk-SK" sz="2800" spc="-1" strike="noStrike">
                <a:solidFill>
                  <a:srgbClr val="ff0000"/>
                </a:solidFill>
                <a:latin typeface="Tahoma"/>
              </a:rPr>
              <a:t>(65% PTV; 57,7Gy v izocentre, NSCLC I.)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258920" y="1773360"/>
            <a:ext cx="6907320" cy="5078160"/>
            <a:chOff x="1258920" y="1773360"/>
            <a:chExt cx="6907320" cy="507816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1258920" y="1773360"/>
              <a:ext cx="6907320" cy="50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38760" y="4154400"/>
              <a:ext cx="1274760" cy="408240"/>
            </a:xfrm>
            <a:prstGeom prst="wedgeRoundRectCallout">
              <a:avLst>
                <a:gd name="adj1" fmla="val -78787"/>
                <a:gd name="adj2" fmla="val 222500"/>
                <a:gd name="adj3" fmla="val 16667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k-SK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Rebrá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86560" y="5087880"/>
              <a:ext cx="1274760" cy="407880"/>
            </a:xfrm>
            <a:prstGeom prst="wedgeRoundRectCallout">
              <a:avLst>
                <a:gd name="adj1" fmla="val -29240"/>
                <a:gd name="adj2" fmla="val 185625"/>
                <a:gd name="adj3" fmla="val 16667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k-SK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Srdce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53320" y="3222720"/>
              <a:ext cx="1042920" cy="407880"/>
            </a:xfrm>
            <a:prstGeom prst="wedgeRoundRectCallout">
              <a:avLst>
                <a:gd name="adj1" fmla="val -277"/>
                <a:gd name="adj2" fmla="val -200000"/>
                <a:gd name="adj3" fmla="val 16667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k-SK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CTV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40000" y="3119400"/>
              <a:ext cx="1274760" cy="407880"/>
            </a:xfrm>
            <a:prstGeom prst="wedgeRoundRectCallout">
              <a:avLst>
                <a:gd name="adj1" fmla="val -75907"/>
                <a:gd name="adj2" fmla="val 498541"/>
                <a:gd name="adj3" fmla="val 16667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k-SK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Pľúca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37000" y="3119400"/>
              <a:ext cx="1274760" cy="407880"/>
            </a:xfrm>
            <a:prstGeom prst="wedgeRoundRectCallout">
              <a:avLst>
                <a:gd name="adj1" fmla="val 10300"/>
                <a:gd name="adj2" fmla="val -139791"/>
                <a:gd name="adj3" fmla="val 16667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k-SK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PTV</a:t>
              </a: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333360"/>
            <a:ext cx="77929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800" spc="-1" strike="noStrike">
                <a:solidFill>
                  <a:srgbClr val="333399"/>
                </a:solidFill>
                <a:latin typeface="Times New Roman"/>
              </a:rPr>
              <a:t>Úvod</a:t>
            </a: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70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Klinické výsledky SRS/SBRT  demonštrovali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výrazné zlepšenie LC  z pôvodných 20 -30 % na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80% LC u mozgových MTS  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90 % LC u spinálnych lézii 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Záver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Pokročilé (konformné) technológie vyvrátili pretrvávajúce  falošné paradigma o 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nevhodnosti hypofrakcionácie   (z r. 1932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35108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  <a:ea typeface="Microsoft YaHei"/>
              </a:rPr>
              <a:t>LQ –model     LQ-L model 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16000" y="3645000"/>
            <a:ext cx="1079640" cy="360360"/>
          </a:xfrm>
          <a:prstGeom prst="wedgeRoundRectCallout">
            <a:avLst>
              <a:gd name="adj1" fmla="val 76324"/>
              <a:gd name="adj2" fmla="val 39425"/>
              <a:gd name="adj3" fmla="val 1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brá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4149720"/>
            <a:ext cx="863640" cy="287280"/>
          </a:xfrm>
          <a:prstGeom prst="wedgeRoundRectCallout">
            <a:avLst>
              <a:gd name="adj1" fmla="val -26101"/>
              <a:gd name="adj2" fmla="val -137847"/>
              <a:gd name="adj3" fmla="val 1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rdce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16360" y="4581360"/>
            <a:ext cx="1079280" cy="360360"/>
          </a:xfrm>
          <a:prstGeom prst="wedgeRoundRectCallout">
            <a:avLst>
              <a:gd name="adj1" fmla="val 83824"/>
              <a:gd name="adj2" fmla="val 20486"/>
              <a:gd name="adj3" fmla="val 1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ľúca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2293920"/>
            <a:ext cx="4572000" cy="3078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4572000" cy="307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143000" y="3581280"/>
            <a:ext cx="1219320" cy="381240"/>
          </a:xfrm>
          <a:prstGeom prst="wedgeRoundRectCallout">
            <a:avLst>
              <a:gd name="adj1" fmla="val 72527"/>
              <a:gd name="adj2" fmla="val -3333"/>
              <a:gd name="adj3" fmla="val 1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Rebrá 74 %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8120" y="3809880"/>
            <a:ext cx="1295280" cy="381240"/>
          </a:xfrm>
          <a:prstGeom prst="wedgeRoundRectCallout">
            <a:avLst>
              <a:gd name="adj1" fmla="val -28921"/>
              <a:gd name="adj2" fmla="val 109583"/>
              <a:gd name="adj3" fmla="val 1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rdce 34 %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4343400"/>
            <a:ext cx="1295280" cy="304920"/>
          </a:xfrm>
          <a:prstGeom prst="wedgeRoundRectCallout">
            <a:avLst>
              <a:gd name="adj1" fmla="val -76101"/>
              <a:gd name="adj2" fmla="val -72398"/>
              <a:gd name="adj3" fmla="val 1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Rebrá 48 %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420040" cy="673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1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3200" spc="-1" strike="noStrike">
                <a:solidFill>
                  <a:srgbClr val="333399"/>
                </a:solidFill>
                <a:latin typeface="Times New Roman"/>
              </a:rPr>
              <a:t>Výsledky OS a LRC  </a:t>
            </a:r>
            <a:br>
              <a:rPr sz="3200"/>
            </a:br>
            <a:r>
              <a:rPr b="1" lang="sk-SK" sz="3200" spc="-1" strike="noStrike">
                <a:solidFill>
                  <a:srgbClr val="333399"/>
                </a:solidFill>
                <a:latin typeface="Times New Roman"/>
              </a:rPr>
              <a:t>v súbore 27 pct. SBRT vo VOÚ a.s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4619520" cy="37018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4572000" cy="36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791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3600" spc="-1" strike="noStrike">
                <a:solidFill>
                  <a:srgbClr val="333399"/>
                </a:solidFill>
                <a:latin typeface="Times New Roman"/>
              </a:rPr>
              <a:t>Povzbudivá informácia : </a:t>
            </a:r>
            <a:br>
              <a:rPr sz="3600"/>
            </a:br>
            <a:r>
              <a:rPr b="1" lang="sk-SK" sz="3600" spc="-1" strike="noStrike">
                <a:solidFill>
                  <a:srgbClr val="333399"/>
                </a:solidFill>
                <a:latin typeface="Times New Roman"/>
              </a:rPr>
              <a:t> Výsledky LC v  SBRT vo VOÚ a.s. !!!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85880" y="1963800"/>
            <a:ext cx="59911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sk-SK" sz="4400" spc="-1" strike="noStrike">
                <a:solidFill>
                  <a:srgbClr val="333399"/>
                </a:solidFill>
                <a:latin typeface="Times New Roman"/>
              </a:rPr>
              <a:t>Závery</a:t>
            </a:r>
            <a:r>
              <a:rPr b="1" lang="sk-SK" sz="5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810432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49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1. Sme svedkami  renesancie hyp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9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2. Rozvoj SRS a SBRT vyžaduje zahrnutie ich odlišných rádiobiologických účinkov (model LQ-L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9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3. LQ-L model pre hypo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spresňuje výpočty BED a NTCP pri dávke </a:t>
            </a:r>
            <a:r>
              <a:rPr b="1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y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/ frakciu (</a:t>
            </a:r>
            <a:r>
              <a:rPr b="1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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9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4. Dopad na NTCP s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rejavuj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79840" indent="-348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ýznamne až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 po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čte frakcií </a:t>
            </a:r>
            <a:r>
              <a:rPr b="0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5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79840" indent="-3481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evýznamne pri počte </a:t>
            </a:r>
            <a:r>
              <a:rPr b="0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frakcií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9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5. Rádiobiologické modelovanie v SRS/SB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9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-     predstavuje  kvalitatívny posun v programe Q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9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-     vytvára priestor pre kvalifikovaný/translačný výsk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1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imes New Roman"/>
              </a:rPr>
              <a:t>Závery -pokračovanie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4800" indent="-604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0480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Optimalizácia ožrovacieho plánu pomocou  odporúčaných hodnôt D</a:t>
            </a:r>
            <a:r>
              <a:rPr b="0" lang="sk-SK" sz="15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sk-SK" sz="15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,VGy    pri nekonvenčnej frakcionácii nesie so sebou vysoké riziko nepresnosti odhadu NTC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4800" indent="-604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0480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Pri využití potenciálu rádiobiologických modelov TCP/NTCP na podklade  individuálnych DVH  presnosť  predikcie TCP/NTCP sa výrazne zvyšuje , vytvára priestor pre  korekciu  chýb v ožarovacej technike či frakcionáciu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4800" indent="-604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60480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Výpočty  biologickej efektívnosti rádioterapie s využitím  modelu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“LQ“ a “LQ-L“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a mier účinku  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TCP/NTCP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sa  postupne stanú súčasťou plánovacieho procesu  a záruky kvality aplikácie RT terapi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4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0480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1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imes New Roman"/>
              </a:rPr>
              <a:t>Závery – pokračovanie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14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4.      Nutnosť legislatívne zaradiť rádiobiologické výpočty   do zoznamu  zdravotníckych výkonov  hradených poisťovňou                                 - ako súčasť  plánovania liečby a QA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4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 prínos  v znižovaní prevádzkových nákladov  pri zlýhaní   liečby primárnej či postradiačných komplikáci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4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4520" indent="-60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Program BioGray-Plus,  dostupný  na internete, pokrýva všetky súčasné modality RT (vrátane protónovej)  a  ukázal  sa  ako vhodný nástroj  pre MP a MD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4520" indent="-60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Reakcia na prednášku dr. J.Grežd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4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       –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poskytnúť novú verziu BioGray do konca roku !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4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       – „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non stop“ linka  na autorov BioGray - pre  zložité casusy !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4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sk-SK" sz="3600" spc="-1" strike="noStrike">
                <a:solidFill>
                  <a:srgbClr val="333399"/>
                </a:solidFill>
                <a:latin typeface="Times New Roman"/>
              </a:rPr>
              <a:t>Rádiobiologické modelovanie </a:t>
            </a:r>
            <a:br>
              <a:rPr sz="3600"/>
            </a:br>
            <a:r>
              <a:rPr b="0" lang="sk-SK" sz="3600" spc="-1" strike="noStrike">
                <a:solidFill>
                  <a:srgbClr val="333399"/>
                </a:solidFill>
                <a:latin typeface="Times New Roman"/>
              </a:rPr>
              <a:t>podľa </a:t>
            </a:r>
            <a:r>
              <a:rPr b="0" lang="sk-SK" sz="2800" spc="-1" strike="noStrike">
                <a:solidFill>
                  <a:srgbClr val="333399"/>
                </a:solidFill>
                <a:latin typeface="Times New Roman"/>
              </a:rPr>
              <a:t>prim. M. Konečného,CSc.,  MOU Brno</a:t>
            </a:r>
            <a:r>
              <a:rPr b="0" lang="sk-SK" sz="36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260440" y="2303640"/>
            <a:ext cx="6029640" cy="45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229600" cy="5832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1052000" y="5157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24000" y="6021360"/>
            <a:ext cx="65516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sk-SK" sz="2400" spc="-1" strike="noStrike">
                <a:solidFill>
                  <a:srgbClr val="333399"/>
                </a:solidFill>
                <a:latin typeface="Times New Roman"/>
                <a:ea typeface="Microsoft YaHei"/>
              </a:rPr>
              <a:t>Greetings  from Kosice ,Slovakia</a:t>
            </a:r>
            <a:r>
              <a:rPr b="0" i="1" lang="sk-SK" sz="2400" spc="-1" strike="noStrike">
                <a:solidFill>
                  <a:srgbClr val="000000"/>
                </a:solidFill>
                <a:latin typeface="Tahoma"/>
                <a:ea typeface="Microsoft YaHei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14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333399"/>
                </a:solidFill>
                <a:latin typeface="Tahoma"/>
              </a:rPr>
              <a:t>NTD pre Tu  a  OaR (srdce) ako F(Nfr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66680" y="2209680"/>
          <a:ext cx="5342040" cy="39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534204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5251320" y="3394080"/>
            <a:ext cx="35244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3600" spc="-1" strike="noStrike">
                <a:solidFill>
                  <a:srgbClr val="333399"/>
                </a:solidFill>
                <a:latin typeface="Times New Roman"/>
              </a:rPr>
              <a:t>Ktoré  fyzikálne faktory </a:t>
            </a:r>
            <a:r>
              <a:rPr b="1" lang="sk-SK" sz="3200" spc="-1" strike="noStrike">
                <a:solidFill>
                  <a:srgbClr val="333399"/>
                </a:solidFill>
                <a:latin typeface="Times New Roman"/>
              </a:rPr>
              <a:t>ovplyvňujú úspešnosť     HypoF  a SRS/SBRT</a:t>
            </a:r>
            <a:r>
              <a:rPr b="1" lang="sk-SK" sz="3200" spc="-1" strike="noStrike">
                <a:solidFill>
                  <a:srgbClr val="333399"/>
                </a:solidFill>
                <a:latin typeface="Tahoma"/>
              </a:rPr>
              <a:t>  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Zavedenie </a:t>
            </a:r>
            <a:r>
              <a:rPr b="0" lang="sk-SK" sz="2800" spc="-1" strike="noStrike" u="sng">
                <a:solidFill>
                  <a:srgbClr val="000000"/>
                </a:solidFill>
                <a:uFillTx/>
                <a:latin typeface="Times New Roman"/>
              </a:rPr>
              <a:t>zobrazovacích techník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CT, MR, PET pre stanovenie CTV a O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„</a:t>
            </a:r>
            <a:r>
              <a:rPr b="0" lang="sk-SK" sz="2800" spc="-1" strike="noStrike" u="sng">
                <a:solidFill>
                  <a:srgbClr val="000000"/>
                </a:solidFill>
                <a:uFillTx/>
                <a:latin typeface="Times New Roman"/>
              </a:rPr>
              <a:t>Komformnosť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k-SK" sz="2600" spc="-1" strike="noStrike">
                <a:solidFill>
                  <a:srgbClr val="000000"/>
                </a:solidFill>
                <a:latin typeface="Times New Roman"/>
              </a:rPr>
              <a:t>ožrovacích techník v SRS/SBR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228600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oskytujúca optimálne fyzikálno-technické podmienky pre zvýšenie terapeutického pomeru TR -  v šetrení Oa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228600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imes New Roman"/>
              </a:rPr>
              <a:t>DVH ako súčasť optimalizácie plánov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103040"/>
            <a:ext cx="779292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800" spc="-1" strike="noStrike">
                <a:solidFill>
                  <a:srgbClr val="3333cc"/>
                </a:solidFill>
                <a:latin typeface="Times New Roman"/>
              </a:rPr>
              <a:t>Overall message</a:t>
            </a:r>
            <a:r>
              <a:rPr b="0" lang="sk-SK" sz="4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In spite of advanced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golden tool" of good radiothera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still remains - radiobiolog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Prof. J. Overgaar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ESMO/ECCO/ESTRO Congres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Stockholm 201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000" spc="-1" strike="noStrike">
                <a:solidFill>
                  <a:srgbClr val="333399"/>
                </a:solidFill>
                <a:latin typeface="Times New Roman"/>
              </a:rPr>
              <a:t>Ciele príspevku: </a:t>
            </a:r>
            <a:br>
              <a:rPr sz="3600"/>
            </a:br>
            <a:r>
              <a:rPr b="0" lang="sk-SK" sz="2800" spc="-1" strike="noStrike">
                <a:solidFill>
                  <a:srgbClr val="333399"/>
                </a:solidFill>
                <a:latin typeface="Times New Roman"/>
              </a:rPr>
              <a:t>Zodpovedať otázky a navrhnúť  riešenia</a:t>
            </a:r>
            <a:r>
              <a:rPr b="0" lang="sk-SK" sz="36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0804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1.  Ako  fungujú  procesy “4R+2R“ pri SRT/SBR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0804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2.  Ktoré ďalšie „nové“ procesy  v SRS/SBRT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0804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ovplyvňujú ich úspešnosť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0804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3.  Nakoľko (a kedy) je „validný/aplikovateľný“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0804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LQ – model pri výpočte  BED  v SRS a SBR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0804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4.  Popis modifikovaného modelu  “LQ – L“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0804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5.  Demonštrácia TCP/NTCP na príkladoch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0804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8043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400" spc="-1" strike="noStrike">
                <a:solidFill>
                  <a:srgbClr val="333399"/>
                </a:solidFill>
                <a:latin typeface="Times New Roman"/>
              </a:rPr>
              <a:t>„</a:t>
            </a:r>
            <a:r>
              <a:rPr b="1" lang="sk-SK" sz="4400" spc="-1" strike="noStrike">
                <a:solidFill>
                  <a:srgbClr val="333399"/>
                </a:solidFill>
                <a:latin typeface="Times New Roman"/>
              </a:rPr>
              <a:t>4R“ v EBRT vs. SRS a SBRT</a:t>
            </a: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989000"/>
          <a:ext cx="8136000" cy="3934080"/>
        </p:xfrm>
        <a:graphic>
          <a:graphicData uri="http://schemas.openxmlformats.org/drawingml/2006/table">
            <a:tbl>
              <a:tblPr/>
              <a:tblGrid>
                <a:gridCol w="1440000"/>
                <a:gridCol w="1955880"/>
                <a:gridCol w="1431720"/>
                <a:gridCol w="1683000"/>
                <a:gridCol w="1625400"/>
              </a:tblGrid>
              <a:tr h="830520">
                <a:tc>
                  <a:txBody>
                    <a:bodyPr lIns="90000" rIns="90000" tIns="190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sk-SK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Modalita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6632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sk-SK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Reoxygenácia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6632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sk-SK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Reparácia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6632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sk-SK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Redistribúcia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6632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sk-SK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Repopulácia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190080" bIns="46800" anchor="ctr">
                      <a:noAutofit/>
                    </a:bodyPr>
                    <a:p>
                      <a:pPr>
                        <a:lnSpc>
                          <a:spcPct val="82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sk-SK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EBR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6000">
                <a:tc>
                  <a:txBody>
                    <a:bodyPr lIns="90000" rIns="90000" tIns="190080" bIns="46800" anchor="ctr">
                      <a:noAutofit/>
                    </a:bodyPr>
                    <a:p>
                      <a:pPr>
                        <a:lnSpc>
                          <a:spcPct val="82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sk-SK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SR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absentuje -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re deštrukciu ciev tumoru!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756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br>
                        <a:rPr sz="2400"/>
                      </a:b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rátky T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90000" rIns="90000" tIns="190080" bIns="46800" anchor="ctr">
                      <a:noAutofit/>
                    </a:bodyPr>
                    <a:p>
                      <a:pPr>
                        <a:lnSpc>
                          <a:spcPct val="82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sk-SK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SBRT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áno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2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&lt;=14</a:t>
                      </a: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2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n</a:t>
                      </a: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í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400" spc="-1" strike="noStrike">
                <a:solidFill>
                  <a:srgbClr val="333399"/>
                </a:solidFill>
                <a:latin typeface="Times New Roman"/>
              </a:rPr>
              <a:t>„</a:t>
            </a:r>
            <a:r>
              <a:rPr b="1" lang="sk-SK" sz="4400" spc="-1" strike="noStrike">
                <a:solidFill>
                  <a:srgbClr val="333399"/>
                </a:solidFill>
                <a:latin typeface="Times New Roman"/>
              </a:rPr>
              <a:t>Nový“ fenomén pri SRS</a:t>
            </a: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164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Pri HyF s dávko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10 Gy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/f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h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za k signifikantn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odeniu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ciev  Tu  až k 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deštrukcii 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cievneho systému v zásobovaní, ktoré vedi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amedzeniu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reoxygenáci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(hypoxické bunky) a následne k nepriamej smrti Tu-bunie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oces pri SRS nahrádza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chirurgickú abláciu 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3200" spc="-1" strike="noStrike">
                <a:solidFill>
                  <a:srgbClr val="333399"/>
                </a:solidFill>
                <a:latin typeface="Times New Roman"/>
              </a:rPr>
              <a:t>Lineárno – kvadratický model </a:t>
            </a:r>
            <a:br>
              <a:rPr sz="3200"/>
            </a:br>
            <a:r>
              <a:rPr b="1" lang="sk-SK" sz="3200" spc="-1" strike="noStrike">
                <a:solidFill>
                  <a:srgbClr val="333399"/>
                </a:solidFill>
                <a:latin typeface="Times New Roman"/>
              </a:rPr>
              <a:t>Biologicky efektívna dávka-B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332000" y="2997360"/>
                <a:ext cx="284940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=N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α+β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1258920" y="5589720"/>
            <a:ext cx="172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566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1200" y="4807080"/>
            <a:ext cx="2244960" cy="20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332000" y="3716280"/>
                <a:ext cx="45846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α=BED=Nd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867280" y="1844640"/>
            <a:ext cx="3276720" cy="3200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33577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17600" y="4911840"/>
            <a:ext cx="1143000" cy="76176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5120" y="4911840"/>
            <a:ext cx="1905120" cy="990360"/>
          </a:xfrm>
          <a:prstGeom prst="wedgeRoundRectCallout">
            <a:avLst>
              <a:gd name="adj1" fmla="val 64999"/>
              <a:gd name="adj2" fmla="val -94870"/>
              <a:gd name="adj3" fmla="val 16667"/>
            </a:avLst>
          </a:prstGeom>
          <a:solidFill>
            <a:srgbClr val="ccffcc"/>
          </a:solidFill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c1c1c"/>
                </a:solidFill>
                <a:latin typeface="Times New Roman"/>
              </a:rPr>
              <a:t>Biologically effective dos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27280" y="5084640"/>
            <a:ext cx="1295280" cy="762120"/>
          </a:xfrm>
          <a:prstGeom prst="wedgeRoundRectCallout">
            <a:avLst>
              <a:gd name="adj1" fmla="val 48898"/>
              <a:gd name="adj2" fmla="val -141041"/>
              <a:gd name="adj3" fmla="val 16667"/>
            </a:avLst>
          </a:prstGeom>
          <a:solidFill>
            <a:srgbClr val="ccffcc"/>
          </a:solidFill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1c1c1c"/>
                </a:solidFill>
                <a:latin typeface="Times New Roman"/>
              </a:rPr>
              <a:t>Total dos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9040" y="5064120"/>
            <a:ext cx="2361960" cy="685800"/>
          </a:xfrm>
          <a:prstGeom prst="wedgeRoundRectCallout">
            <a:avLst>
              <a:gd name="adj1" fmla="val -19087"/>
              <a:gd name="adj2" fmla="val -90509"/>
              <a:gd name="adj3" fmla="val 16667"/>
            </a:avLst>
          </a:prstGeom>
          <a:solidFill>
            <a:srgbClr val="ccffcc"/>
          </a:solidFill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1c1c1c"/>
                </a:solidFill>
                <a:latin typeface="Times New Roman"/>
              </a:rPr>
              <a:t>Relative</a:t>
            </a:r>
            <a:br>
              <a:rPr sz="2400"/>
            </a:br>
            <a:r>
              <a:rPr b="0" lang="cs-CZ" sz="2400" spc="-1" strike="noStrike">
                <a:solidFill>
                  <a:srgbClr val="1c1c1c"/>
                </a:solidFill>
                <a:latin typeface="Times New Roman"/>
              </a:rPr>
              <a:t>effective</a:t>
            </a:r>
            <a:r>
              <a:rPr b="0" lang="sk-SK" sz="2400" spc="-1" strike="noStrike">
                <a:solidFill>
                  <a:srgbClr val="1c1c1c"/>
                </a:solidFill>
                <a:latin typeface="Times New Roman"/>
              </a:rPr>
              <a:t>nes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900000" y="2133720"/>
                <a:ext cx="49705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F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αD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β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ycock_M</dc:creator>
  <dc:description/>
  <dc:language>en-US</dc:language>
  <cp:lastModifiedBy>CPCE</cp:lastModifiedBy>
  <dcterms:modified xsi:type="dcterms:W3CDTF">2016-10-14T06:16:09Z</dcterms:modified>
  <cp:revision>345</cp:revision>
  <dc:subject/>
  <dc:title>Introduction</dc:title>
</cp:coreProperties>
</file>