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6F8-C2AE-46FA-B425-28AEBC4C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F8D-22AF-44F7-B613-5CDF247A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EF0-0616-4A5F-9473-49CE98E7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94C-1769-4F15-8482-F80AC460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14EC-8403-476F-9B7B-48350B9F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AD79-03C9-4B88-A7EB-ADFF0B85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FDB9-1A40-4566-B1CE-D9CAC421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FACE-E02D-4C7D-A578-17DCC8FE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2853-2266-4074-8591-08D292C3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AB59-39AD-4B03-A036-25B01B73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B874-2F86-4E56-A165-FA946F9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DAD-0195-4531-9D71-6A91AA5E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C77B-E025-4362-BA6A-BBA321B8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385F-DA94-4DFF-9CA4-AB60975C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6D5A-4D4E-4037-846D-C1195D29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BE87-29A6-4F26-8E41-FB10B1C8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EB0F-9CCA-4F62-8B62-543F2883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BDD-179D-4B93-A846-31BF5D06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C42-E716-4C6F-B8B5-941F55E3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BDD-BB1F-4ADE-8531-45D96DC4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9F6-6771-4B8C-8A9E-BDF5EB5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133-7E69-403F-B999-8DFD1ED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350-9ECC-44AB-A8C3-81B9C151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173B-A590-4E88-B7CA-16A86D6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c"/>
            </a:gs>
            <a:gs pos="100000">
              <a:srgbClr val="00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83EB-2EFB-483D-BACB-9D306A86B83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50000">
              <a:srgbClr val="0000ac"/>
            </a:gs>
            <a:gs pos="100000">
              <a:srgbClr val="0000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1CEA-3FED-488B-BBFF-D1C209B01A42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604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uchGuard</a:t>
            </a:r>
            <a:br>
              <a:rPr sz="3600"/>
            </a:br>
            <a:br>
              <a:rPr sz="1600"/>
            </a:b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yst</a:t>
            </a:r>
            <a:r>
              <a:rPr b="0" lang="sk-SK" sz="2000" spc="-1" strike="noStrike">
                <a:solidFill>
                  <a:srgbClr val="ffff99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m na detekciu </a:t>
            </a:r>
            <a:r>
              <a:rPr b="0" lang="sk-SK" sz="2000" spc="-1" strike="noStrike">
                <a:solidFill>
                  <a:srgbClr val="ffff99"/>
                </a:solidFill>
                <a:latin typeface="Comic Sans MS"/>
              </a:rPr>
              <a:t>ožarovania pacienta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cez</a:t>
            </a:r>
            <a:r>
              <a:rPr b="0" lang="sk-SK" sz="2000" spc="-1" strike="noStrike">
                <a:solidFill>
                  <a:srgbClr val="ffff99"/>
                </a:solidFill>
                <a:latin typeface="Comic Sans MS"/>
              </a:rPr>
              <a:t> kovové časti ožarovacieho sto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7340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omic Sans MS"/>
              </a:rPr>
              <a:t>Bednář,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Obrázok 3" descr=""/>
          <p:cNvPicPr/>
          <p:nvPr/>
        </p:nvPicPr>
        <p:blipFill>
          <a:blip r:embed="rId1"/>
          <a:stretch/>
        </p:blipFill>
        <p:spPr>
          <a:xfrm>
            <a:off x="3710160" y="3573360"/>
            <a:ext cx="17236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440" y="5157360"/>
            <a:ext cx="472284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Comic Sans MS"/>
              </a:rPr>
              <a:t>Ďakujem za pozornosť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Obrázok 1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583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BRT a extern</a:t>
            </a:r>
            <a:r>
              <a:rPr b="1" lang="sk-SK" sz="3200" spc="-1" strike="noStrike">
                <a:solidFill>
                  <a:srgbClr val="ffff00"/>
                </a:solidFill>
                <a:latin typeface="Comic Sans MS"/>
              </a:rPr>
              <a:t>ý materiá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Každý prídavný materiál, cez ktorý vstupuje žiarenie do pacienta, a nie je započítaný v ožarovacom pláne, ovplyvňuje dávkovú distribúci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roblematické sú predovšetkým kovy, ktorých absorpcia je vysoká a ich korektné zahrnutie do ožarovacieho plánu nie je jednodu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šeobecne sa odporúča kovovým častiam sa vyhnú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asívne kovové časti obsahujú aj niektoré ožarovacie st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 prípade neindexovaných stolov je navyše poloha pacienta voči týmto častiam rôz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bdĺžnik 1"/>
          <p:cNvSpPr/>
          <p:nvPr/>
        </p:nvSpPr>
        <p:spPr>
          <a:xfrm>
            <a:off x="0" y="5478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ff00"/>
                </a:solidFill>
                <a:latin typeface="Arial"/>
              </a:rPr>
              <a:t>Čo s tým?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Comic Sans MS"/>
              </a:rPr>
              <a:t>Ako sa vyhnúť kovovým častia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502596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Karbónový IGRT Couch to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ôvera v schopnosti rádiolog. technik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akázané uhly“ s veľkou rezerv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rísne tolerančné tabuľky polohy st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ff00"/>
                </a:solidFill>
                <a:latin typeface="Arial"/>
              </a:rPr>
              <a:t>Systém detekcie žiarenia cez kovové ča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Obrázok 1" descr=""/>
          <p:cNvPicPr/>
          <p:nvPr/>
        </p:nvPicPr>
        <p:blipFill>
          <a:blip r:embed="rId1"/>
          <a:stretch/>
        </p:blipFill>
        <p:spPr>
          <a:xfrm>
            <a:off x="1187280" y="3813120"/>
            <a:ext cx="3097440" cy="2309760"/>
          </a:xfrm>
          <a:prstGeom prst="rect">
            <a:avLst/>
          </a:prstGeom>
          <a:ln w="0">
            <a:noFill/>
          </a:ln>
        </p:spPr>
      </p:pic>
      <p:pic>
        <p:nvPicPr>
          <p:cNvPr id="108" name="Obrázok 2" descr=""/>
          <p:cNvPicPr/>
          <p:nvPr/>
        </p:nvPicPr>
        <p:blipFill>
          <a:blip r:embed="rId2"/>
          <a:stretch/>
        </p:blipFill>
        <p:spPr>
          <a:xfrm>
            <a:off x="5938920" y="1469880"/>
            <a:ext cx="1280880" cy="10782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ok 3" descr=""/>
          <p:cNvPicPr/>
          <p:nvPr/>
        </p:nvPicPr>
        <p:blipFill>
          <a:blip r:embed="rId3"/>
          <a:stretch/>
        </p:blipFill>
        <p:spPr>
          <a:xfrm>
            <a:off x="7346880" y="1469880"/>
            <a:ext cx="1282680" cy="1081080"/>
          </a:xfrm>
          <a:prstGeom prst="rect">
            <a:avLst/>
          </a:prstGeom>
          <a:ln w="0">
            <a:noFill/>
          </a:ln>
        </p:spPr>
      </p:pic>
      <p:pic>
        <p:nvPicPr>
          <p:cNvPr id="110" name="Obrázok 4" descr=""/>
          <p:cNvPicPr/>
          <p:nvPr/>
        </p:nvPicPr>
        <p:blipFill>
          <a:blip r:embed="rId4"/>
          <a:stretch/>
        </p:blipFill>
        <p:spPr>
          <a:xfrm>
            <a:off x="5931000" y="2639880"/>
            <a:ext cx="1288800" cy="1086120"/>
          </a:xfrm>
          <a:prstGeom prst="rect">
            <a:avLst/>
          </a:prstGeom>
          <a:ln w="0">
            <a:noFill/>
          </a:ln>
        </p:spPr>
      </p:pic>
      <p:pic>
        <p:nvPicPr>
          <p:cNvPr id="111" name="Obrázok 5" descr=""/>
          <p:cNvPicPr/>
          <p:nvPr/>
        </p:nvPicPr>
        <p:blipFill>
          <a:blip r:embed="rId5"/>
          <a:stretch/>
        </p:blipFill>
        <p:spPr>
          <a:xfrm>
            <a:off x="7346880" y="2639880"/>
            <a:ext cx="1282680" cy="1079640"/>
          </a:xfrm>
          <a:prstGeom prst="rect">
            <a:avLst/>
          </a:prstGeom>
          <a:ln w="0">
            <a:noFill/>
          </a:ln>
        </p:spPr>
      </p:pic>
      <p:pic>
        <p:nvPicPr>
          <p:cNvPr id="112" name="Obrázok 6" descr=""/>
          <p:cNvPicPr/>
          <p:nvPr/>
        </p:nvPicPr>
        <p:blipFill>
          <a:blip r:embed="rId6"/>
          <a:stretch/>
        </p:blipFill>
        <p:spPr>
          <a:xfrm>
            <a:off x="5938920" y="3814920"/>
            <a:ext cx="1287360" cy="1082520"/>
          </a:xfrm>
          <a:prstGeom prst="rect">
            <a:avLst/>
          </a:prstGeom>
          <a:ln w="0">
            <a:noFill/>
          </a:ln>
        </p:spPr>
      </p:pic>
      <p:pic>
        <p:nvPicPr>
          <p:cNvPr id="113" name="Obrázok 7" descr=""/>
          <p:cNvPicPr/>
          <p:nvPr/>
        </p:nvPicPr>
        <p:blipFill>
          <a:blip r:embed="rId7"/>
          <a:stretch/>
        </p:blipFill>
        <p:spPr>
          <a:xfrm>
            <a:off x="7346880" y="3811680"/>
            <a:ext cx="1284480" cy="1081080"/>
          </a:xfrm>
          <a:prstGeom prst="rect">
            <a:avLst/>
          </a:prstGeom>
          <a:ln w="0">
            <a:noFill/>
          </a:ln>
        </p:spPr>
      </p:pic>
      <p:pic>
        <p:nvPicPr>
          <p:cNvPr id="114" name="Obrázok 8" descr=""/>
          <p:cNvPicPr/>
          <p:nvPr/>
        </p:nvPicPr>
        <p:blipFill>
          <a:blip r:embed="rId8"/>
          <a:stretch/>
        </p:blipFill>
        <p:spPr>
          <a:xfrm>
            <a:off x="7331040" y="4981680"/>
            <a:ext cx="13143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Comic Sans MS"/>
              </a:rPr>
              <a:t>Detekcia žiarenia cez kovové čast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42480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ffff99"/>
                </a:solidFill>
                <a:latin typeface="Arial"/>
              </a:rPr>
              <a:t>Triviálna úloha 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i="1" lang="sk-SK" sz="2000" spc="-1" strike="noStrike">
                <a:solidFill>
                  <a:srgbClr val="ffff99"/>
                </a:solidFill>
                <a:latin typeface="Arial"/>
              </a:rPr>
              <a:t>?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 stačí parametrizovať kovové časti stola, poznať tvar zväzku žiarenia, polohu stola, gantry a kolimátora, nájsť prienik..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ff00"/>
                </a:solidFill>
                <a:latin typeface="Arial"/>
              </a:rPr>
              <a:t>...</a:t>
            </a:r>
            <a:r>
              <a:rPr b="0" lang="sk-SK" sz="2800" spc="-1" strike="noStrike">
                <a:solidFill>
                  <a:srgbClr val="00ff00"/>
                </a:solidFill>
                <a:latin typeface="Arial"/>
              </a:rPr>
              <a:t>lenže</a:t>
            </a:r>
            <a:r>
              <a:rPr b="0" lang="sk-SK" sz="2000" spc="-1" strike="noStrike">
                <a:solidFill>
                  <a:srgbClr val="00ff00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99"/>
                </a:solidFill>
                <a:latin typeface="Arial"/>
              </a:rPr>
              <a:t>...ako to všetko zistiť, spočítať...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99"/>
                </a:solidFill>
                <a:latin typeface="Arial"/>
              </a:rPr>
              <a:t>A pokiaľ možno v reálnom čas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Diagram 1" descr=""/>
          <p:cNvPicPr/>
          <p:nvPr/>
        </p:nvPicPr>
        <p:blipFill>
          <a:blip r:embed="rId1"/>
          <a:stretch/>
        </p:blipFill>
        <p:spPr>
          <a:xfrm>
            <a:off x="5754600" y="1554120"/>
            <a:ext cx="2303640" cy="4468680"/>
          </a:xfrm>
          <a:prstGeom prst="rect">
            <a:avLst/>
          </a:prstGeom>
          <a:ln w="0">
            <a:noFill/>
          </a:ln>
        </p:spPr>
      </p:pic>
      <p:cxnSp>
        <p:nvCxnSpPr>
          <p:cNvPr id="121" name="Rovná spojovacia šípka 3"/>
          <p:cNvCxnSpPr/>
          <p:nvPr/>
        </p:nvCxnSpPr>
        <p:spPr>
          <a:xfrm>
            <a:off x="5435640" y="2276280"/>
            <a:ext cx="289440" cy="1080"/>
          </a:xfrm>
          <a:prstGeom prst="straightConnector1">
            <a:avLst/>
          </a:prstGeom>
          <a:ln cap="sq" w="28440">
            <a:solidFill>
              <a:srgbClr val="ffffff"/>
            </a:solidFill>
            <a:miter/>
            <a:tailEnd len="med" type="triangle" w="lg"/>
          </a:ln>
        </p:spPr>
      </p:cxnSp>
      <p:sp>
        <p:nvSpPr>
          <p:cNvPr id="122" name="Rovná spojnica 12"/>
          <p:cNvSpPr/>
          <p:nvPr/>
        </p:nvSpPr>
        <p:spPr>
          <a:xfrm flipH="1">
            <a:off x="5435640" y="5516640"/>
            <a:ext cx="288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ovná spojnica 15"/>
          <p:cNvSpPr/>
          <p:nvPr/>
        </p:nvSpPr>
        <p:spPr>
          <a:xfrm flipV="1">
            <a:off x="5435640" y="2276640"/>
            <a:ext cx="0" cy="32400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Comic Sans MS"/>
              </a:rPr>
              <a:t>Získavanie súradníc z Clinac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57320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äčšina potrebných údajov je zobrazená v 4DI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Do originálneho softvéru zasahovať nemôžeme, ale Windows ná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ho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rezrad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s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funkcia 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SendMessage(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parametrom 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WM_GET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468360" y="3244680"/>
            <a:ext cx="3892680" cy="2921040"/>
          </a:xfrm>
          <a:prstGeom prst="rect">
            <a:avLst/>
          </a:prstGeom>
          <a:ln w="0">
            <a:noFill/>
          </a:ln>
        </p:spPr>
      </p:pic>
      <p:pic>
        <p:nvPicPr>
          <p:cNvPr id="130" name="Obrázok 4" descr=""/>
          <p:cNvPicPr/>
          <p:nvPr/>
        </p:nvPicPr>
        <p:blipFill>
          <a:blip r:embed="rId2"/>
          <a:srcRect l="2007" t="137" r="1726" b="1227"/>
          <a:stretch/>
        </p:blipFill>
        <p:spPr>
          <a:xfrm>
            <a:off x="4500720" y="3249720"/>
            <a:ext cx="41749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Comic Sans MS"/>
              </a:rPr>
              <a:t>Detekcia prieni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00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ozdelenie kovových častí na kvád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ožnosť žiarenia cez kovové časti stola – pokiaľ je efektívny bod zdroja žiarenia nad rovinou stola, nemusíme testova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Transformácia súradníc stola, gantry, kolimátora – jednoduché lineárne posuny a rotácie v 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Detekcia prieniku – zjednodušenie situácie priemetom z 3D na 2D (využívame, že zväzok žiarenia je divergentný)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 h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nie prieniku dvoch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konvexných 2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yg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ón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k existuje priamka, pri ktorej jeden polygón leží „nad“ a druhý „pod“ touto priamkou, polygóny sa navzájom neprekrývaj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Comic Sans MS"/>
              </a:rPr>
              <a:t>Zobrazenie výsledku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Obrázok 1" descr=""/>
          <p:cNvPicPr/>
          <p:nvPr/>
        </p:nvPicPr>
        <p:blipFill>
          <a:blip r:embed="rId1"/>
          <a:stretch/>
        </p:blipFill>
        <p:spPr>
          <a:xfrm>
            <a:off x="498600" y="2325600"/>
            <a:ext cx="5089320" cy="3816360"/>
          </a:xfrm>
          <a:prstGeom prst="rect">
            <a:avLst/>
          </a:prstGeom>
          <a:ln w="0">
            <a:noFill/>
          </a:ln>
        </p:spPr>
      </p:pic>
      <p:cxnSp>
        <p:nvCxnSpPr>
          <p:cNvPr id="141" name="Rovná spojovacia šípka 3"/>
          <p:cNvCxnSpPr/>
          <p:nvPr/>
        </p:nvCxnSpPr>
        <p:spPr>
          <a:xfrm>
            <a:off x="2573280" y="2157120"/>
            <a:ext cx="3937680" cy="684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" name="Rovná spojovacia šípka 13"/>
          <p:cNvCxnSpPr/>
          <p:nvPr/>
        </p:nvCxnSpPr>
        <p:spPr>
          <a:xfrm>
            <a:off x="5209920" y="5790960"/>
            <a:ext cx="144720" cy="216360"/>
          </a:xfrm>
          <a:prstGeom prst="straightConnector1">
            <a:avLst/>
          </a:prstGeom>
          <a:ln cap="sq"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43" name="Obrázok 17" descr=""/>
          <p:cNvPicPr/>
          <p:nvPr/>
        </p:nvPicPr>
        <p:blipFill>
          <a:blip r:embed="rId2"/>
          <a:stretch/>
        </p:blipFill>
        <p:spPr>
          <a:xfrm>
            <a:off x="7091280" y="1792440"/>
            <a:ext cx="1584360" cy="564840"/>
          </a:xfrm>
          <a:prstGeom prst="rect">
            <a:avLst/>
          </a:prstGeom>
          <a:ln w="0">
            <a:noFill/>
          </a:ln>
        </p:spPr>
      </p:pic>
      <p:pic>
        <p:nvPicPr>
          <p:cNvPr id="144" name="Obrázok 11" descr=""/>
          <p:cNvPicPr/>
          <p:nvPr/>
        </p:nvPicPr>
        <p:blipFill>
          <a:blip r:embed="rId3"/>
          <a:stretch/>
        </p:blipFill>
        <p:spPr>
          <a:xfrm>
            <a:off x="7099200" y="3429000"/>
            <a:ext cx="1576440" cy="571680"/>
          </a:xfrm>
          <a:prstGeom prst="rect">
            <a:avLst/>
          </a:prstGeom>
          <a:ln w="0">
            <a:noFill/>
          </a:ln>
        </p:spPr>
      </p:pic>
      <p:pic>
        <p:nvPicPr>
          <p:cNvPr id="145" name="Obrázok 12" descr=""/>
          <p:cNvPicPr/>
          <p:nvPr/>
        </p:nvPicPr>
        <p:blipFill>
          <a:blip r:embed="rId4"/>
          <a:stretch/>
        </p:blipFill>
        <p:spPr>
          <a:xfrm>
            <a:off x="7099200" y="5133960"/>
            <a:ext cx="157644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BlokTextu 14"/>
          <p:cNvSpPr/>
          <p:nvPr/>
        </p:nvSpPr>
        <p:spPr>
          <a:xfrm>
            <a:off x="5121360" y="1351080"/>
            <a:ext cx="230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66"/>
                </a:solidFill>
                <a:latin typeface="Arial"/>
                <a:ea typeface="Arial"/>
              </a:rPr>
              <a:t>Stôl v základnej polohe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66"/>
                </a:solidFill>
                <a:latin typeface="Arial"/>
                <a:ea typeface="Arial"/>
              </a:rPr>
              <a:t>(zmena kliknutím)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BlokTextu 21"/>
          <p:cNvSpPr/>
          <p:nvPr/>
        </p:nvSpPr>
        <p:spPr>
          <a:xfrm>
            <a:off x="6262560" y="234936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66"/>
                </a:solidFill>
                <a:latin typeface="Arial"/>
                <a:ea typeface="Arial"/>
              </a:rPr>
              <a:t>Všetko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1600" spc="-1" strike="noStrike">
                <a:solidFill>
                  <a:srgbClr val="ffff66"/>
                </a:solidFill>
                <a:latin typeface="Arial"/>
                <a:ea typeface="Arial"/>
              </a:rPr>
              <a:t>v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1600" spc="-1" strike="noStrike">
                <a:solidFill>
                  <a:srgbClr val="ffff66"/>
                </a:solidFill>
                <a:latin typeface="Arial"/>
                <a:ea typeface="Arial"/>
              </a:rPr>
              <a:t>poriadku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BlokTextu 22"/>
          <p:cNvSpPr/>
          <p:nvPr/>
        </p:nvSpPr>
        <p:spPr>
          <a:xfrm>
            <a:off x="5851440" y="306216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66"/>
                </a:solidFill>
                <a:latin typeface="Arial"/>
                <a:ea typeface="Arial"/>
              </a:rPr>
              <a:t>Otočený stôl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BlokTextu 23"/>
          <p:cNvSpPr/>
          <p:nvPr/>
        </p:nvSpPr>
        <p:spPr>
          <a:xfrm>
            <a:off x="5875200" y="4076640"/>
            <a:ext cx="280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66"/>
                </a:solidFill>
                <a:latin typeface="Arial"/>
                <a:ea typeface="Arial"/>
              </a:rPr>
              <a:t>Aktuálna poloha je OK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66"/>
                </a:solidFill>
                <a:latin typeface="Arial"/>
                <a:ea typeface="Arial"/>
              </a:rPr>
              <a:t>Nie je natiahnutý žiadny plá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BlokTextu 24"/>
          <p:cNvSpPr/>
          <p:nvPr/>
        </p:nvSpPr>
        <p:spPr>
          <a:xfrm>
            <a:off x="5880240" y="5751360"/>
            <a:ext cx="24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66"/>
                </a:solidFill>
                <a:latin typeface="Arial"/>
                <a:ea typeface="Arial"/>
              </a:rPr>
              <a:t>Pozor, možný problém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  <a:ea typeface="Arial"/>
              </a:rPr>
              <a:t>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Rovná spojovacia šípka 16"/>
          <p:cNvCxnSpPr/>
          <p:nvPr/>
        </p:nvCxnSpPr>
        <p:spPr>
          <a:xfrm>
            <a:off x="6924600" y="1811160"/>
            <a:ext cx="278280" cy="208800"/>
          </a:xfrm>
          <a:prstGeom prst="straightConnector1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52" name="Rovná spojovacia šípka 34"/>
          <p:cNvCxnSpPr/>
          <p:nvPr/>
        </p:nvCxnSpPr>
        <p:spPr>
          <a:xfrm flipH="1" flipV="1">
            <a:off x="7997040" y="2121840"/>
            <a:ext cx="67320" cy="454680"/>
          </a:xfrm>
          <a:prstGeom prst="straightConnector1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53" name="Rovná spojovacia šípka 38"/>
          <p:cNvCxnSpPr/>
          <p:nvPr/>
        </p:nvCxnSpPr>
        <p:spPr>
          <a:xfrm flipV="1">
            <a:off x="8064000" y="2144160"/>
            <a:ext cx="361080" cy="432360"/>
          </a:xfrm>
          <a:prstGeom prst="straightConnector1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54" name="Rovná spojovacia šípka 42"/>
          <p:cNvCxnSpPr/>
          <p:nvPr/>
        </p:nvCxnSpPr>
        <p:spPr>
          <a:xfrm>
            <a:off x="6751440" y="3419280"/>
            <a:ext cx="448200" cy="322920"/>
          </a:xfrm>
          <a:prstGeom prst="straightConnector1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55" name="Rovná spojovacia šípka 43"/>
          <p:cNvCxnSpPr/>
          <p:nvPr/>
        </p:nvCxnSpPr>
        <p:spPr>
          <a:xfrm flipH="1" flipV="1">
            <a:off x="7930800" y="3755520"/>
            <a:ext cx="2160" cy="364320"/>
          </a:xfrm>
          <a:prstGeom prst="straightConnector1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56" name="Rovná spojovacia šípka 44"/>
          <p:cNvCxnSpPr/>
          <p:nvPr/>
        </p:nvCxnSpPr>
        <p:spPr>
          <a:xfrm flipH="1" flipV="1">
            <a:off x="8413200" y="3726720"/>
            <a:ext cx="5400" cy="624600"/>
          </a:xfrm>
          <a:prstGeom prst="straightConnector1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57" name="Rovná spojovacia šípka 58"/>
          <p:cNvCxnSpPr/>
          <p:nvPr/>
        </p:nvCxnSpPr>
        <p:spPr>
          <a:xfrm flipV="1">
            <a:off x="8155080" y="5428440"/>
            <a:ext cx="297360" cy="491400"/>
          </a:xfrm>
          <a:prstGeom prst="straightConnector1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158" name="Rovná spojovacia šípka 59"/>
          <p:cNvCxnSpPr/>
          <p:nvPr/>
        </p:nvCxnSpPr>
        <p:spPr>
          <a:xfrm flipH="1" flipV="1">
            <a:off x="7912800" y="5468040"/>
            <a:ext cx="242280" cy="445320"/>
          </a:xfrm>
          <a:prstGeom prst="straightConnector1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</p:cxnSp>
      <p:sp>
        <p:nvSpPr>
          <p:cNvPr id="159" name="Ovál 154632"/>
          <p:cNvSpPr/>
          <p:nvPr/>
        </p:nvSpPr>
        <p:spPr>
          <a:xfrm>
            <a:off x="1332000" y="2239920"/>
            <a:ext cx="853920" cy="6127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ovná spojnica 154634"/>
          <p:cNvSpPr/>
          <p:nvPr/>
        </p:nvSpPr>
        <p:spPr>
          <a:xfrm flipV="1">
            <a:off x="2147760" y="2157120"/>
            <a:ext cx="400320" cy="1998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Comic Sans MS"/>
              </a:rPr>
              <a:t>Softvérové riešeni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4896000" cy="22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ývojové prostredie Visual C++ 2005 Expr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Free lic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Jazyk C++ (C++/CL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.NET framework 3.5                           (na stanici 4DITC je už nainštalovaný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Obrázok 1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664000" cy="2011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755640" y="3832200"/>
            <a:ext cx="6480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Užívateľské rozhrani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Jednoduchosť, intuitívnosť a prehľadnosť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Zdanlivá integrácia do 4DITC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Zobrazenie pri aktívnej 4DITC, skrytie pri ostatných aplikáciách (RT Chart, Time Planner...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Okno 4DITC ostáva aktívne aj po kliknutí na okno CouchGu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Comic Sans MS"/>
              </a:rPr>
              <a:t>Záv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ystém CouchGuard používame od júla tohto ro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Funkčný, stabiln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ádiologickí technici hodnotia pozitív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iacero zachytených prípadov žiarenia cez kov, ktoré by ináč neboli odhal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áklad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oftvér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0,00 EUR bez DP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ardvér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0,00 EUR bez DP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Svet zdravia, a.s., Pracovisko radiačnej onkológie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 Rimavsk</a:t>
            </a:r>
            <a:r>
              <a:rPr b="0" lang="sk-SK" sz="1400" spc="-1" strike="noStrike">
                <a:solidFill>
                  <a:srgbClr val="ffff66"/>
                </a:solidFill>
                <a:latin typeface="Comic Sans MS"/>
              </a:rPr>
              <a:t>á Sobota, www.radioterapia.szm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68360" y="6308640"/>
            <a:ext cx="8207280" cy="0"/>
          </a:xfrm>
          <a:prstGeom prst="line">
            <a:avLst/>
          </a:prstGeom>
          <a:ln cap="sq"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Obrázok 1" descr=""/>
          <p:cNvPicPr/>
          <p:nvPr/>
        </p:nvPicPr>
        <p:blipFill>
          <a:blip r:embed="rId1"/>
          <a:stretch/>
        </p:blipFill>
        <p:spPr>
          <a:xfrm>
            <a:off x="5300640" y="4941720"/>
            <a:ext cx="33019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6:55:19Z</dcterms:created>
  <dc:creator>PC</dc:creator>
  <dc:description/>
  <dc:language>en-US</dc:language>
  <cp:lastModifiedBy>Admin</cp:lastModifiedBy>
  <cp:lastPrinted>2016-10-12T12:43:04Z</cp:lastPrinted>
  <dcterms:modified xsi:type="dcterms:W3CDTF">2016-10-12T20:01:15Z</dcterms:modified>
  <cp:revision>294</cp:revision>
  <dc:subject/>
  <dc:title>Bednar_2010_Bezpecnostne_lemy</dc:title>
</cp:coreProperties>
</file>