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7D2-B297-4C27-B5D6-AA8CC09A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64D-F4BB-4CA3-91B4-6AB86EF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B0D-2837-4A53-AA20-1EE1E4D2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088A-1FFA-40FD-B42B-392BD15A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AC6-08EC-4F09-9EA3-593FE878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B66-28AC-4997-9C50-8BD825E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096-C38C-4B74-9F71-84F5B1E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B25-8084-48B0-8F18-FBD288C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DB9-B32C-4FC8-890E-A397A9A2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BDE-DAA7-419B-9594-9225762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B5F-E64B-493E-B893-8644E68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728-FC35-4114-B397-81536C8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D68D-2852-4FE3-91A8-163B39EB15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Možnosti sledovania a vyhodnocovania trvania procesov v 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. Konč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OÚ, a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Panel „Editor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ozhranie zodpovedá databáze (hierarchické usporiadan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ID pacie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kur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obrazovaná je kolekcia pod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dňa vytvoren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kľúča (I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áznam má 4 operačné príznaky (implikujú spôsob spracovania po odoslaní na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nová hlavička (pacient) (N)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- nový kurz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zmena v hlavičke (U)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- zmena položky kurzu (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9840" y="76320"/>
            <a:ext cx="8997840" cy="667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4876920"/>
            <a:ext cx="1066680" cy="457200"/>
          </a:xfrm>
          <a:prstGeom prst="wedgeRectCallout">
            <a:avLst>
              <a:gd name="adj1" fmla="val -58333"/>
              <a:gd name="adj2" fmla="val -147569"/>
            </a:avLst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ízn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505320"/>
            <a:ext cx="1218960" cy="685800"/>
          </a:xfrm>
          <a:prstGeom prst="wedgeRectCallout">
            <a:avLst>
              <a:gd name="adj1" fmla="val -1300"/>
              <a:gd name="adj2" fmla="val 81712"/>
            </a:avLst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Hlavička (ma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505320"/>
            <a:ext cx="1143000" cy="761760"/>
          </a:xfrm>
          <a:prstGeom prst="wedgeRectCallout">
            <a:avLst>
              <a:gd name="adj1" fmla="val -17361"/>
              <a:gd name="adj2" fmla="val 781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Kurz (sla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133720"/>
            <a:ext cx="1143000" cy="685800"/>
          </a:xfrm>
          <a:prstGeom prst="wedgeRectCallout">
            <a:avLst>
              <a:gd name="adj1" fmla="val 46111"/>
              <a:gd name="adj2" fmla="val -186111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Nový záz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905120"/>
            <a:ext cx="1447560" cy="990360"/>
          </a:xfrm>
          <a:prstGeom prst="wedgeRectCallout">
            <a:avLst>
              <a:gd name="adj1" fmla="val 120833"/>
              <a:gd name="adj2" fmla="val -150162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Znova načítaj kolekc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3048120"/>
            <a:ext cx="1371600" cy="685800"/>
          </a:xfrm>
          <a:prstGeom prst="wedgeRectCallout">
            <a:avLst>
              <a:gd name="adj1" fmla="val 13425"/>
              <a:gd name="adj2" fmla="val -330555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došli na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905120"/>
            <a:ext cx="1447920" cy="1066680"/>
          </a:xfrm>
          <a:prstGeom prst="wedgeRectCallout">
            <a:avLst>
              <a:gd name="adj1" fmla="val -25986"/>
              <a:gd name="adj2" fmla="val -119194"/>
            </a:avLst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ihlásenie odhlásenie zo serv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4800600"/>
            <a:ext cx="2057400" cy="457200"/>
          </a:xfrm>
          <a:prstGeom prst="wedgeRectCallout">
            <a:avLst>
              <a:gd name="adj1" fmla="val -47532"/>
              <a:gd name="adj2" fmla="val -11631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átu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840" y="104760"/>
            <a:ext cx="8997840" cy="66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Panel „Štatistika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filtrovanie záznamov / vytváranie kolekcií dá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dátum indikácie: 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rok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&amp;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 mesiac /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ubsekventn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é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mesi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diagnóza: 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konkrétna / všet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podmienka: 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ambulantní / lôžkoví / spo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pohlavie: 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muži / ženy / spol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terapeutický cieľ: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 kuratívna / paliatívna / iná / spo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typ záznamu: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 regulárny / vyradený (kazuisti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odporovaná štatistika nad kolekci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doby trvania procesu (-ov)</a:t>
            </a: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 (priemerne, maximál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podľa náz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podľa lekáro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97840" cy="66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840" y="76320"/>
            <a:ext cx="8997840" cy="66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840" y="104760"/>
            <a:ext cx="8997840" cy="667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Cli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Propozície projektu DE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vytvoriť program pre zadávania a vyhodnocovania dát technikou „klient-server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synchrónne nahrávanie dát i štatistické vyhodnocov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cielená komunikácia medzi serverom a klien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portable klient“ (štandardné knižnice 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Charakteristika projek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Vývojové prostredie: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Delphi 5 P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DB tabuľky: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Paradox / B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Cieľový OS: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WinXP – Win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Klient – Serv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Times New Roman"/>
              </a:rPr>
              <a:t>windows so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Times New Roman"/>
              </a:rPr>
              <a:t>vlastné komunikačné štruktú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Server: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0066"/>
                </a:solidFill>
                <a:latin typeface="Times New Roman"/>
              </a:rPr>
              <a:t>DelayServer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Klient: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0066"/>
                </a:solidFill>
                <a:latin typeface="Times New Roman"/>
              </a:rPr>
              <a:t>DelayClient.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4440" y="5762520"/>
            <a:ext cx="58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66"/>
                </a:solidFill>
                <a:latin typeface="Times New Roman"/>
              </a:rPr>
              <a:t>Prvá verzia projektu:</a:t>
            </a:r>
            <a:r>
              <a:rPr b="1" lang="sk-SK" sz="28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0066"/>
                </a:solidFill>
                <a:latin typeface="Times New Roman"/>
              </a:rPr>
              <a:t>február 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Databázové tabuľ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Times New Roman"/>
              </a:rPr>
              <a:t>identifikácia pacienta (master štruktú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PID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timestamp vzniku záznamu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PACID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pacient ID / 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CHROK, CHSEKV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chorobop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Times New Roman"/>
              </a:rPr>
              <a:t>kurz (slave štruktú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0066"/>
                </a:solidFill>
                <a:latin typeface="Times New Roman"/>
              </a:rPr>
              <a:t>register užívateľ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048120"/>
            <a:ext cx="29289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PID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odkaz na master záz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D0, D1 .. D7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dátu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W0,W1 .. W7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operátor zme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D8, D9, W8, W9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- rez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048120"/>
            <a:ext cx="29289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SID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vzniku „slave“ zázna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DID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identifikácia leká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SESS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– počet frakci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AL, DG, VALID, AIM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- fil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792680"/>
            <a:ext cx="29289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OID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-  timestamp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TYP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- lekár / fyzik / asis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LOGIN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– prihlasovacie m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SURNAME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– priezvis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990720"/>
            <a:ext cx="1843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4772160"/>
            <a:ext cx="292896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FIRSTNAME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– m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PASS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– heslo / šifrova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APP0.. APP9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- oprávnen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Serv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Metóda monitorov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ojekt eviduje sedem dátumov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7c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7c80"/>
                </a:solidFill>
                <a:latin typeface="Times New Roman"/>
              </a:rPr>
              <a:t>Indikácia - CT/VSim - Objemy - Plánovanie - Schválenie - 1.frakcia - Ukonč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očet kalendárnych (pracovných) dní medzi nimi stanovuje doby trvania šiestich procesov v 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cc99"/>
                </a:solidFill>
                <a:latin typeface="Times New Roman"/>
              </a:rPr>
              <a:t>Príprava - Objemy - Plánovanie - Schválenie - Zaradzovanie - 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Metóda výpočtu </a:t>
            </a:r>
            <a:br>
              <a:rPr sz="4400"/>
            </a:b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pracovných dn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616120"/>
            <a:ext cx="3429000" cy="92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1 1 Vznik 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26 12 Druhý sviatok vianočn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987720"/>
            <a:ext cx="3429000" cy="179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3.4.2015 Veľký Pia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6.4.2015 Veľkonočný pondel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25.3.2016 Veľký Pia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28.3.2016 Veľkonočný pondel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14.4.2017 Veľký Piat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17.4.2017 Veľkonočný pondel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6161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FixHoDays.bgc </a:t>
            </a:r>
            <a:br>
              <a:rPr sz="2000"/>
            </a:b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- pevné sviatky </a:t>
            </a:r>
            <a:br>
              <a:rPr sz="2000"/>
            </a:b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(dni pracovného pokoj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867280"/>
            <a:ext cx="5943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Súbory musia byť aktuálne a v katalógu </a:t>
            </a:r>
            <a:br>
              <a:rPr sz="2000"/>
            </a:b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programu „DelayClient“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5360" y="4597560"/>
            <a:ext cx="22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FltHoDays.bgc </a:t>
            </a:r>
            <a:br>
              <a:rPr sz="2000"/>
            </a:b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– pohyblivé sviat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840" y="1981080"/>
            <a:ext cx="461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ff"/>
                </a:solidFill>
                <a:latin typeface="Times New Roman"/>
              </a:rPr>
              <a:t>Využíva dva parametrické súb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Serv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Delay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Spravuje databázové tabuľky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zostavuje zoznamy klientov (po autorizác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kontroluje prístupové práva „klienta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ff"/>
                </a:solidFill>
                <a:latin typeface="Times New Roman"/>
              </a:rPr>
              <a:t>vytvára a odosiela kolekcie záznamov podľa požiadaviek „klienta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Iné funkcie (manuál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prihlásenie operát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kontrola konzistencie a poloautomatická oprava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individuálne mazanie poškodených záznam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dopĺňanie a zmeny v registri užívateľ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66"/>
                </a:solidFill>
                <a:latin typeface="Times New Roman"/>
              </a:rPr>
              <a:t>vytváranie denných záloh (.z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Serv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DB Brow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9840" y="1295280"/>
            <a:ext cx="899784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Serv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8997840" cy="4896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Panel „Admin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4952880"/>
            <a:ext cx="2133720" cy="457200"/>
          </a:xfrm>
          <a:prstGeom prst="wedgeRectCallout">
            <a:avLst>
              <a:gd name="adj1" fmla="val -54166"/>
              <a:gd name="adj2" fmla="val -147569"/>
            </a:avLst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register užívateľ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ayServ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1T14:45:19Z</dcterms:created>
  <dc:creator>bee</dc:creator>
  <dc:description/>
  <dc:language>en-US</dc:language>
  <cp:lastModifiedBy>PC</cp:lastModifiedBy>
  <dcterms:modified xsi:type="dcterms:W3CDTF">2016-10-12T15:58:18Z</dcterms:modified>
  <cp:revision>52</cp:revision>
  <dc:subject/>
  <dc:title>Prezentace aplikace PowerPoint</dc:title>
</cp:coreProperties>
</file>