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4A59-17B8-4557-9C42-D467C7F1905F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ástupný symbol čísla snímky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8C9-90D2-4731-9DA1-00B7B626B961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52E-3BEA-4B0B-8691-AF0A93BD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347-1827-4E80-8103-02C9147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FD0-BE49-46B1-9871-61BC5D48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052-B12F-44E8-8B5D-BE3ECD7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26F-6F6D-407A-876E-6FF7FCE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C76-597F-4353-89B2-4341EC23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130-8538-4808-9EB6-78B0B36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68E-B832-4835-84A1-4289E09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BD6-5AF3-4BB6-BB0C-8E57D7D7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6E3-A95C-4E8D-A193-1EA11E9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493-1A2F-450F-9614-B9C5B6A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0CC-026D-44B5-B062-3F9EACF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A34-A093-4179-B88C-FCE5AFE46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crp.org/draft%20education.asp" TargetMode="External"/><Relationship Id="rId2" Type="http://schemas.openxmlformats.org/officeDocument/2006/relationships/hyperlink" Target="http://www.icrp.org/draft%20education.asp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sitestat.com/elsevier/elsevier-com/s?ScienceDirect&amp;ns_type=clickout&amp;ns_url=http://www.sciencedirect.com/science/journal/01466453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20728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OVÉ ASPEKTY PRI ZABEZPEČOVANÍ A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TROLE KVALITY LEKÁRSKYCH URÝCHĽOV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ikodemová D.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, Marko P. 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,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lop M. 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lovenská Zdravotnícka Univerzita v Brati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nkologické Oddelenie, Fakultná nemocnica Tren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VÝCHOVA A TRÉNING (ICR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ávam do pozornosti 2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adiological Protection Education and Training for Healthcare Staff and Students (</a:t>
            </a:r>
            <a:r>
              <a:rPr b="0" lang="sk-SK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icrp.org/draft education.asp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raft report: Accidental exposures in modern rad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icrp.org/draft education.asp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Zá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ypracovať odporúčanie štandardnej metódy jednotného využívania IMRT v radiačnej onkológii na Slove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praviť požiadavky na zabezpečenie a kontrolu kvality pre IMRT, vrátane metodických postupov pre overenie jednotlivých parametrov tohto liečebného postupu v klinickej praxi 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BlokTextu 6"/>
          <p:cNvSpPr/>
          <p:nvPr/>
        </p:nvSpPr>
        <p:spPr>
          <a:xfrm>
            <a:off x="8244000" y="458136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11280" y="1341360"/>
            <a:ext cx="7921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ZOHĹADNENIE PRÍSPEVKU NEUTRÓNOVÉHO ŽIARENIA  PRI  LIEČBE LIN. URÝCHĽOVAČMI </a:t>
            </a:r>
            <a:br>
              <a:rPr sz="2400"/>
            </a:br>
            <a:br>
              <a:rPr sz="2400"/>
            </a:b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Pri rádioterapii lineárnymi urýchľovačmi elektrónov   s  energiou nad 10 MeV je v miestnosti urýchľovača zmiešané pole rozptýleného brzdného žiarenia a neutrónov, ktoré vznikajú pri (x,n) reakcii v tele pacien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V porovnaní s fotónmi, tieto neutróny majú viac ako desaťnásobne vyššiu relatívnu biologickú účinnosť a navyše aj vyššiu prenikavosť cez ochranné tienenia prenikavou radiácio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Preto pri zabezpečení radiačnej ochrany pacientov a personálu rádioteraputických zariadení s lineárnymi urýchľovačmi je potrebné radiačné polia neutrónov zohľadňovať. </a:t>
            </a:r>
            <a:br>
              <a:rPr sz="2000"/>
            </a:br>
            <a:r>
              <a:rPr b="0" lang="sk-SK" sz="2400" spc="-1" strike="noStrike">
                <a:solidFill>
                  <a:srgbClr val="000000"/>
                </a:solidFill>
                <a:latin typeface="Arial CE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BlokTextu 1"/>
          <p:cNvSpPr/>
          <p:nvPr/>
        </p:nvSpPr>
        <p:spPr>
          <a:xfrm>
            <a:off x="900000" y="4797360"/>
            <a:ext cx="77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ý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ky merania d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kov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 ekvivalentu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neutrónov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 fant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rupu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sk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 tel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ožiareného zväzkom fotónov lineárneho urýchľovač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ukazujú na prekročenie limitu radiačnej ochrany únikového žiarenia 0,1% dávky v izocent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857920" cy="3333960"/>
          </a:xfrm>
          <a:prstGeom prst="rect">
            <a:avLst/>
          </a:prstGeom>
          <a:ln w="0">
            <a:noFill/>
          </a:ln>
        </p:spPr>
      </p:pic>
      <p:pic>
        <p:nvPicPr>
          <p:cNvPr id="97" name="Nadpis 1" descr=""/>
          <p:cNvPicPr/>
          <p:nvPr/>
        </p:nvPicPr>
        <p:blipFill>
          <a:blip r:embed="rId2"/>
          <a:stretch/>
        </p:blipFill>
        <p:spPr>
          <a:xfrm>
            <a:off x="969840" y="981000"/>
            <a:ext cx="914400" cy="3457800"/>
          </a:xfrm>
          <a:prstGeom prst="rect">
            <a:avLst/>
          </a:prstGeom>
          <a:ln w="0">
            <a:noFill/>
          </a:ln>
        </p:spPr>
      </p:pic>
      <p:sp>
        <p:nvSpPr>
          <p:cNvPr id="98" name="Nadpis 1"/>
          <p:cNvSpPr/>
          <p:nvPr/>
        </p:nvSpPr>
        <p:spPr>
          <a:xfrm>
            <a:off x="2627280" y="4149720"/>
            <a:ext cx="432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zdialenosť od izocent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m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826920" y="5805360"/>
            <a:ext cx="7705800" cy="503280"/>
          </a:xfrm>
          <a:prstGeom prst="rect">
            <a:avLst/>
          </a:prstGeom>
          <a:ln w="0">
            <a:noFill/>
          </a:ln>
        </p:spPr>
      </p:pic>
      <p:sp>
        <p:nvSpPr>
          <p:cNvPr id="100" name="Nadpis 1"/>
          <p:cNvSpPr/>
          <p:nvPr/>
        </p:nvSpPr>
        <p:spPr>
          <a:xfrm>
            <a:off x="1403280" y="0"/>
            <a:ext cx="61214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iaduce ožiarenie pacienta neutrónmi pri rádioterapii lineárnymi urýchľovač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vojitá jednoduchá zátvorka 8"/>
          <p:cNvSpPr/>
          <p:nvPr/>
        </p:nvSpPr>
        <p:spPr>
          <a:xfrm>
            <a:off x="755640" y="5732640"/>
            <a:ext cx="7848720" cy="64908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Nadpis 1"/>
          <p:cNvSpPr/>
          <p:nvPr/>
        </p:nvSpPr>
        <p:spPr>
          <a:xfrm>
            <a:off x="395280" y="765000"/>
            <a:ext cx="8497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V ožarovni pacientov je radiačne pole neutrónov významné v porovnaní poľom  gama žiarenia. Preto pri mapovaní dávkového ekvivalentu gama žiarenia v okolí pacienta je potrebné použiť gama dozimetre, ktoré nie sú citlivé k neutrónom. Teda napríklad gama dávku je vhodné merať TLD700 a nie klasickým TLD1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Ochranné tienenie lineárneho urýchľovača elektrónov musí zabezpečiť ochranu pred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primárnym zväzkom fotónového žiarenia a priamymi neutrónom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x-žiarením a neutrónmi unikajúcim z ožarovacej hla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gama žiarením a neutrónmi rozptýlenými pacient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Nadpis 1"/>
          <p:cNvSpPr/>
          <p:nvPr/>
        </p:nvSpPr>
        <p:spPr>
          <a:xfrm>
            <a:off x="395280" y="765000"/>
            <a:ext cx="8497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V ožarovni pacientov je radiačne pole neutrónov významné v porovnaní poľom  gama žiarenia. Preto pri mapovaní dávkového ekvivalentu gama žiarenia v okolí pacienta je potrebné použiť gama dozimetre, ktoré nie sú citlivé k neutrónom. Teda napríklad gama dávku je vhodné merať TLD700 a nie klasickým TLD1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Ochranné tienenie lineárneho urýchľovača elektrónov musí zabezpečiť ochranu pred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primárnym zväzkom fotónového žiarenia a priamymi neutrónom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x-žiarením a neutrónmi unikajúcim z ožarovacej hla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ahoma"/>
              </a:rPr>
              <a:t>gama žiarením a neutrónmi rozptýlenými pacient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BlokTextu 3"/>
          <p:cNvSpPr/>
          <p:nvPr/>
        </p:nvSpPr>
        <p:spPr>
          <a:xfrm>
            <a:off x="1187280" y="549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nitorova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okamžitých a dlhodobých  polí gama žiarenia a neutrónov v pozíciách 1 až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257560" y="1609560"/>
            <a:ext cx="52671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9"/>
          <p:cNvSpPr/>
          <p:nvPr/>
        </p:nvSpPr>
        <p:spPr>
          <a:xfrm>
            <a:off x="685800" y="4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MERANIE OPERATÍVNYMI MONITORMI NEUTRÓN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A GAMA ŽIAR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052640"/>
          <a:ext cx="7772400" cy="4174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pis a číslo miesta mer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ama dozimeter FH40G-L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[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Sv/h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]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eutrónový dozimeter NM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[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Sv/h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]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i uzávere dverí do ožarovne, miesto č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/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 dv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 vstupu do ožarovne, miesto č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106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1/106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103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103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 dvermi z ožarovne, miesto č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164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d ústim kanála z ožarovne, miesto č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25/120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72"/>
          <p:cNvSpPr/>
          <p:nvPr/>
        </p:nvSpPr>
        <p:spPr>
          <a:xfrm>
            <a:off x="685800" y="5181480"/>
            <a:ext cx="8305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 mieste č.3 je významné pole radiácie neutrónov, preto dvere do labyrintu musia byť vyrobené z materiálu tieniaceho najmä neutrón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 miestnosti riadenia a kontroly ožarovania je dávkový ekvivalent od neutrónov významne nižšia ako od gama žiarenia gama, preto pri monitorovaní osobných dávok personálu stačí monitorovať iba gama dávk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ahoma"/>
                <a:ea typeface="Tahoma"/>
              </a:rPr>
              <a:t>Ďakujem 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ľa posledných odhadov Medzinárodnej agentúry pre výskum rakoviny (IARC) a Svetovej zdravotníckej organizácie (WHO), sa na svete v roku 2015 očakáva  približne 15 miliónov nových prípadov rakoviny. Na Slovensku pribúda ročne asi 22.000 nových prípadov C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bližne polovica všetkých pacientov podstupuje rádioterapiu, a to buď ako súčasť svojho primárneho ošetrenia alebo v súvislosti s recidívou, resp. paliatívnou liečb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ádioterapia ako multidisciplinárna liečebná disciplína, používa pre poskytovanie liečby komplexné a stále sofistikovanejšie zariadenia a zdroje žiarenia .Z tohto dôvodu je okrem klinických aspektov  potrebné rovnakou mierou  rozvíjať postupy týkajúce sa fyzikálnych a technických aspektov liečby pacientov, ktoré musia byť podrobené dôkladnej kontrole a plánovaniu, aby bola zabezpečená vysoká kvalita, životne dôležitá pre dosiahnutie účinnej liečby, s prihliadnutím  na radiačnú ochranu pacientov i personá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PREHLAD ZMIEN QA ,QC, V MEDZINÁRODNÝCH ODPORÚČANI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Rozvoj modernej prístrojovej techniky poskytuje nové liečebné možnosti len vtedy, keď sa dosiahne vysoký stupeň presnosti a spoľahli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Nutnosť systematického a jednotného prístupu pre kontrolu aplikácie vysokej kuratívnej dávky postihnutej oblasti, pri súčasnom znížení dávky do okolitého zdravého tkaniva, vyžaduje dôsledné zavedenie a dodržiavanie QA a QC, vo všetkých aspektoch rádioterapie (od diagnostiky cez liečbu až k postiradiačnému sledovani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 súlade s celosvetovým trendom bola aj na Slovensku prijatá legislatíva pre ochranu zdravia personálu i pacientov pri lekárskom ožiarení(NV č.340/2006), v ktorej je zakotvený nový prístup k zabezpečeniu kvality, optimalizácii ožiarenia, ale aj ku kontrole dodržiavania zásad indikácie liečebných postupov a s nimi súvisiacich programov zabezpečenia kv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Simultánne s legislatívnym zabezpečením požiadaviek na QA vznikla 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MZ SR pre zabezpečenie kvality v rádiológii, v rámci ktorej  b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ypracované jednotné Odborné usmernenia pre zabezpečenie kvality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unkčnosti prístrojov pre radiačnú onkológiu (vestník MZSR Č.32-60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ODPORÚČANIA pre QA  v SR  (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sluhou kolektívu nadšencov- odborníkov v RO boli vytvorené štandardné postupy p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ineárne urýchľovače, röntgenové simulátory, röntgenové terapeutické prístroje,rádionuklidové ožarovač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žarovacie prístroje pre brachyterapiu a plánovacie systémy pre rádiotera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účasne s prípravou týchto Odporúčaní a s využitím podkladov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AE boli realizované nezávislé dozimetrické audity kvality.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sledky korešpondenčného auditu pre kobaltové ožarovače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 pilotný projekt auditov na lineárnych urýchľovačov jednozna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eukázali stále lepšie výsledky ako v predchádzajúcich rokoch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ch prínos pre zabezpečenie a kontrolu kvality je evidentný, keď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máha pri zjednotení postupov pri kontrole kvality a ak má slúžiť ako podklad pre štandardizáciu a výkon štátneho dozoru, musí byť nezávislou previerkou, uskutočnenou odborníkmi s dostatočnou erudíciou aj v radiačnej oc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ZAVÁDZANIE NOVÝCH TECHNOLÓGIÍ A ZMENY V 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abezpečenie kvality nových ožarovacích techník, ktoré sú d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bežne využívané na Slovensku, a to najmä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iečba s modulovaním intenzity žiarenia, si jednoznačne vyžad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ové nástroj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na geometrickú presnosť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na presnosť rozloženia dávk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na portálové zobrazenie presnosti polohy paci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j v tomto prípade sa naliehavo a v súlade s legislatívou očakáva nezávislé preverenie tak dozimetrických parametrov (AD v PTV, AD v kritických orgánoch, fluenčné mapy ap.), ako aj výsledok a stupeň predpokladanej optimalizácie ožia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priek pripravenosti Komisie, využiť poznatky z procesu optimalizácie získané v dizertačnej práci Ing. Marka, je veľmi ťažké získať podp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túto činnosť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NOVÉ ODPORÚČANIA ICRP 103/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74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jnovšie odporúčanie: ICRP Publication 103 (2007), nové Základné štandardy RO vydané MAAE a platné od novembra 2013, ako aj Direktíva EU, vydaná v januári 2014, prinášajú zmeny, ktoré sa dotýkajú aj 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ohľadnenie rizikových faktorov obmedzenia kvality života z údajov o incidencii nádorových ochor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níženie koeficientu celkového rizika úmrtia z 7,3%/Sv na 5,7%/Sv a pre incidenciu používať 4%/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ýšenie citlivosti na žiarenie u pracovníkov vo vekovej skupine (20-50) ro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ššie absolútne riziko pre vznik solídnych nádorov u žien v porovnaní s mužmi  (až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tualizácia radiačných a váhových faktorov pre výpočet E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ahoma"/>
              </a:rPr>
              <a:t>e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smerňovanie ožiarenia pacientov s využitím optimalizácie,  QA a QC a povinnosť   zavedenia pravidelných interných a externých klinických auditov na národnej úro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250920" y="549360"/>
            <a:ext cx="8642160" cy="5674680"/>
            <a:chOff x="250920" y="549360"/>
            <a:chExt cx="8642160" cy="5674680"/>
          </a:xfrm>
        </p:grpSpPr>
        <p:sp>
          <p:nvSpPr>
            <p:cNvPr id="61" name="Text Box 5"/>
            <p:cNvSpPr/>
            <p:nvPr/>
          </p:nvSpPr>
          <p:spPr>
            <a:xfrm>
              <a:off x="2465280" y="3340080"/>
              <a:ext cx="923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00"/>
                  </a:solidFill>
                  <a:latin typeface="Arial"/>
                </a:rPr>
                <a:t>D/ba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00"/>
                  </a:solidFill>
                  <a:latin typeface="Arial"/>
                </a:rPr>
                <a:t>- level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00"/>
                  </a:solidFill>
                  <a:latin typeface="Arial"/>
                </a:rPr>
                <a:t>- trend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" name="Group 6"/>
            <p:cNvGrpSpPr/>
            <p:nvPr/>
          </p:nvGrpSpPr>
          <p:grpSpPr>
            <a:xfrm>
              <a:off x="3671280" y="549360"/>
              <a:ext cx="3009600" cy="1881360"/>
              <a:chOff x="3671280" y="549360"/>
              <a:chExt cx="3009600" cy="1881360"/>
            </a:xfrm>
          </p:grpSpPr>
          <p:pic>
            <p:nvPicPr>
              <p:cNvPr id="63" name="Picture 7" descr="Annals of the ICRP on ScienceDirect(Opens new window)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671280" y="549360"/>
                <a:ext cx="136152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Rectangle 8"/>
              <p:cNvSpPr/>
              <p:nvPr/>
            </p:nvSpPr>
            <p:spPr>
              <a:xfrm>
                <a:off x="4882320" y="689400"/>
                <a:ext cx="1798560" cy="68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666666"/>
                    </a:solidFill>
                    <a:latin typeface="Times New Roman"/>
                  </a:rPr>
                  <a:t>   </a:t>
                </a:r>
                <a:r>
                  <a:rPr b="1" lang="en-GB" sz="2000" spc="-1" strike="noStrike">
                    <a:solidFill>
                      <a:srgbClr val="ffff00"/>
                    </a:solidFill>
                    <a:latin typeface="Times New Roman"/>
                  </a:rPr>
                  <a:t>ICRP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00"/>
                    </a:solidFill>
                    <a:latin typeface="Times New Roman"/>
                  </a:rPr>
                  <a:t>   </a:t>
                </a:r>
                <a:r>
                  <a:rPr b="1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i="1" lang="en-GB" sz="1600" spc="-1" strike="noStrike">
                    <a:solidFill>
                      <a:srgbClr val="666666"/>
                    </a:solidFill>
                    <a:latin typeface="Times New Roman"/>
                  </a:rPr>
                  <a:t>Protection philosoph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600" spc="-1" strike="noStrike">
                    <a:solidFill>
                      <a:srgbClr val="666666"/>
                    </a:solidFill>
                    <a:latin typeface="Times New Roman"/>
                  </a:rPr>
                  <a:t>   </a:t>
                </a:r>
                <a:r>
                  <a:rPr b="1" i="1" lang="en-GB" sz="1600" spc="-1" strike="noStrike">
                    <a:solidFill>
                      <a:srgbClr val="666666"/>
                    </a:solidFill>
                    <a:latin typeface="Times New Roman"/>
                  </a:rPr>
                  <a:t>- Principles and uni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5" name="Line 10"/>
            <p:cNvSpPr/>
            <p:nvPr/>
          </p:nvSpPr>
          <p:spPr>
            <a:xfrm flipV="1">
              <a:off x="2212920" y="1707840"/>
              <a:ext cx="1386720" cy="589320"/>
            </a:xfrm>
            <a:prstGeom prst="line">
              <a:avLst/>
            </a:prstGeom>
            <a:ln w="85680">
              <a:solidFill>
                <a:srgbClr val="005c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 Box 11"/>
            <p:cNvSpPr/>
            <p:nvPr/>
          </p:nvSpPr>
          <p:spPr>
            <a:xfrm>
              <a:off x="2352240" y="1238040"/>
              <a:ext cx="983160" cy="12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00"/>
                  </a:solidFill>
                  <a:latin typeface="Arial"/>
                </a:rPr>
                <a:t>Effec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00"/>
                  </a:solidFill>
                  <a:latin typeface="Arial"/>
                </a:rPr>
                <a:t>Risk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7" name="Group 12" descr=""/>
            <p:cNvPicPr/>
            <p:nvPr/>
          </p:nvPicPr>
          <p:blipFill>
            <a:blip r:embed="rId3"/>
            <a:stretch/>
          </p:blipFill>
          <p:spPr>
            <a:xfrm>
              <a:off x="5391720" y="1999440"/>
              <a:ext cx="3494880" cy="13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16"/>
            <p:cNvSpPr/>
            <p:nvPr/>
          </p:nvSpPr>
          <p:spPr>
            <a:xfrm>
              <a:off x="6775920" y="3271680"/>
              <a:ext cx="2106000" cy="1056960"/>
            </a:xfrm>
            <a:prstGeom prst="flowChartDocument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f7f7f"/>
                  </a:solidFill>
                  <a:latin typeface="Times New Roman"/>
                </a:rPr>
                <a:t>FAO/WH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7f7f7f"/>
                  </a:solidFill>
                  <a:latin typeface="Times New Roman"/>
                </a:rPr>
                <a:t>Codex Alimentarius Commission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7f7f7f"/>
                  </a:solidFill>
                  <a:latin typeface="Times New Roman"/>
                </a:rPr>
                <a:t>(food contamination guides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AutoShape 19"/>
            <p:cNvSpPr/>
            <p:nvPr/>
          </p:nvSpPr>
          <p:spPr>
            <a:xfrm>
              <a:off x="6785280" y="4416480"/>
              <a:ext cx="2107800" cy="1058760"/>
            </a:xfrm>
            <a:prstGeom prst="flowChartDocument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f7f7f"/>
                  </a:solidFill>
                  <a:latin typeface="Times New Roman"/>
                </a:rPr>
                <a:t>UN transport regulations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f7f7f"/>
                  </a:solidFill>
                  <a:latin typeface="Times New Roman"/>
                </a:rPr>
                <a:t>for radioactive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0" name="Group 21"/>
            <p:cNvGrpSpPr/>
            <p:nvPr/>
          </p:nvGrpSpPr>
          <p:grpSpPr>
            <a:xfrm>
              <a:off x="3728520" y="4948560"/>
              <a:ext cx="1958400" cy="1275480"/>
              <a:chOff x="3728520" y="4948560"/>
              <a:chExt cx="1958400" cy="1275480"/>
            </a:xfrm>
          </p:grpSpPr>
          <p:sp>
            <p:nvSpPr>
              <p:cNvPr id="71" name="Line 22"/>
              <p:cNvSpPr/>
              <p:nvPr/>
            </p:nvSpPr>
            <p:spPr>
              <a:xfrm>
                <a:off x="4737600" y="4948560"/>
                <a:ext cx="0" cy="784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Text Box 23"/>
              <p:cNvSpPr/>
              <p:nvPr/>
            </p:nvSpPr>
            <p:spPr>
              <a:xfrm>
                <a:off x="3728520" y="5303160"/>
                <a:ext cx="1958400" cy="9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1" i="1" lang="en-GB" sz="1600" spc="-1" strike="noStrike">
                    <a:solidFill>
                      <a:srgbClr val="ff0000"/>
                    </a:solidFill>
                    <a:latin typeface="Arial"/>
                  </a:rPr>
                  <a:t>Implemented by Member State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250920" y="1454400"/>
              <a:ext cx="2234160" cy="2809080"/>
              <a:chOff x="250920" y="1454400"/>
              <a:chExt cx="2234160" cy="2809080"/>
            </a:xfrm>
          </p:grpSpPr>
          <p:pic>
            <p:nvPicPr>
              <p:cNvPr id="74" name="Picture 28" descr="UNSCEAR_2006_Vol_2"/>
              <p:cNvPicPr/>
              <p:nvPr/>
            </p:nvPicPr>
            <p:blipFill>
              <a:blip r:embed="rId4"/>
              <a:stretch/>
            </p:blipFill>
            <p:spPr>
              <a:xfrm>
                <a:off x="614520" y="1454400"/>
                <a:ext cx="1511640" cy="20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Rectangle 29"/>
              <p:cNvSpPr/>
              <p:nvPr/>
            </p:nvSpPr>
            <p:spPr>
              <a:xfrm>
                <a:off x="250920" y="3558600"/>
                <a:ext cx="223416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Times New Roman"/>
                  </a:rPr>
                  <a:t>UNSCEAR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666666"/>
                    </a:solidFill>
                    <a:latin typeface="Times New Roman"/>
                  </a:rPr>
                  <a:t>- </a:t>
                </a:r>
                <a:r>
                  <a:rPr b="1" i="1" lang="en-GB" sz="1600" spc="-1" strike="noStrike">
                    <a:solidFill>
                      <a:srgbClr val="666666"/>
                    </a:solidFill>
                    <a:latin typeface="Times New Roman"/>
                  </a:rPr>
                  <a:t>Scientific basi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" name="Text Box 31"/>
            <p:cNvSpPr/>
            <p:nvPr/>
          </p:nvSpPr>
          <p:spPr>
            <a:xfrm>
              <a:off x="4376160" y="2436840"/>
              <a:ext cx="19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00"/>
                  </a:solidFill>
                  <a:latin typeface="Arial"/>
                </a:rPr>
                <a:t>Recommendation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" name="Group 34"/>
            <p:cNvGrpSpPr/>
            <p:nvPr/>
          </p:nvGrpSpPr>
          <p:grpSpPr>
            <a:xfrm>
              <a:off x="2249640" y="2855880"/>
              <a:ext cx="3112200" cy="2876040"/>
              <a:chOff x="2249640" y="2855880"/>
              <a:chExt cx="3112200" cy="2876040"/>
            </a:xfrm>
          </p:grpSpPr>
          <p:sp>
            <p:nvSpPr>
              <p:cNvPr id="78" name="Rectangle 35"/>
              <p:cNvSpPr/>
              <p:nvPr/>
            </p:nvSpPr>
            <p:spPr>
              <a:xfrm>
                <a:off x="2249640" y="4937760"/>
                <a:ext cx="2349360" cy="79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Times New Roman"/>
                  </a:rPr>
                  <a:t>IAEA</a:t>
                </a:r>
                <a:r>
                  <a:rPr b="0" lang="en-GB" sz="14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buClr>
                    <a:srgbClr val="666666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600" spc="-1" strike="noStrike">
                    <a:solidFill>
                      <a:srgbClr val="666666"/>
                    </a:solidFill>
                    <a:latin typeface="Times New Roman"/>
                  </a:rPr>
                  <a:t>Safety standard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buClr>
                    <a:srgbClr val="666666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600" spc="-1" strike="noStrike">
                    <a:solidFill>
                      <a:srgbClr val="666666"/>
                    </a:solidFill>
                    <a:latin typeface="Times New Roman"/>
                  </a:rPr>
                  <a:t>Protection programmes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9" name="Picture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3675960" y="2855880"/>
                <a:ext cx="1685880" cy="21114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0" name="Rectangle 1"/>
            <p:cNvSpPr/>
            <p:nvPr/>
          </p:nvSpPr>
          <p:spPr>
            <a:xfrm>
              <a:off x="6361200" y="689040"/>
              <a:ext cx="23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>
              <a:off x="2228400" y="3061080"/>
              <a:ext cx="1380960" cy="478440"/>
            </a:xfrm>
            <a:prstGeom prst="line">
              <a:avLst/>
            </a:prstGeom>
            <a:ln w="85680">
              <a:solidFill>
                <a:srgbClr val="005c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4354560" y="2461680"/>
              <a:ext cx="0" cy="369720"/>
            </a:xfrm>
            <a:prstGeom prst="line">
              <a:avLst/>
            </a:prstGeom>
            <a:ln w="85680">
              <a:solidFill>
                <a:srgbClr val="005c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5403960" y="3811680"/>
              <a:ext cx="1360800" cy="0"/>
            </a:xfrm>
            <a:prstGeom prst="line">
              <a:avLst/>
            </a:prstGeom>
            <a:ln w="50760">
              <a:solidFill>
                <a:srgbClr val="ffc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5404320" y="4264200"/>
              <a:ext cx="1381680" cy="581040"/>
            </a:xfrm>
            <a:prstGeom prst="line">
              <a:avLst/>
            </a:prstGeom>
            <a:ln w="50760">
              <a:solidFill>
                <a:srgbClr val="ffc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LINICKÝ AUDIT AKO  PROSTRIEDOK KONTINUÁLNEHO ZLEPŠOVANIA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irektíva EU (o požiadavkách na zabezpečenie radiačnej ochrany osôb pri lekárskom ožiarení“), v článku 8.4 uvá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znamnou súčasťou programov QA v RO je klinický audit, definovaný ako: systematické preverovanie alebo hodnotenie lekárskych rádiologických postupov, s cieľom zlepšiť kvalitu a výsledky starostlivosti o pacienta, pričom sa rádiologické činnosti, postupy a výsledky porovnávajú so schválenými štandardnými postupmi pre správnu klinickú prax, upravujú a aplikujú sa nové štandardy, ak je to potrebné“. Na národnej úrovni by mali byť vytvorené podmienky pre realizáciu klinických auditov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mplementácia klinického auditu do praxe rádiologických pracovís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možňuje skvalitniť praktickú  činnosť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máha motivovať pracovníkov k zvyšovaniu kval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spieva k zlepšovaniu lokálnych štandardov a dodržiavaniu národných štandardov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lepšuje komunikáciu medzi jednotlivými inštitúci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ilní organizáciu a zabezpečenie klinických služie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ýši profesionálnu úroveň výučby a tréning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EUROPEAN COMMISSION GUIDELINES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N CLINICAL AUDIT FOR MEDICAL    RADIOLOGICAL PRACTICES (159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yklus"/>
          <p:cNvPicPr/>
          <p:nvPr/>
        </p:nvPicPr>
        <p:blipFill>
          <a:blip r:embed="rId1"/>
          <a:stretch/>
        </p:blipFill>
        <p:spPr>
          <a:xfrm>
            <a:off x="684360" y="1773360"/>
            <a:ext cx="78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9:46:38Z</dcterms:created>
  <dc:creator>Denisa Nikodemová</dc:creator>
  <dc:description/>
  <dc:language>en-US</dc:language>
  <cp:lastModifiedBy>Henrix</cp:lastModifiedBy>
  <dcterms:modified xsi:type="dcterms:W3CDTF">2014-05-17T06:55:32Z</dcterms:modified>
  <cp:revision>53</cp:revision>
  <dc:subject/>
  <dc:title>NOVÉ ASPEKTY PRI ZABEZPEČOVANÍ A KONTROLE KVALITY LEKÁRSKYCHURÝCHĽOVAČOV</dc:title>
</cp:coreProperties>
</file>