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EF4D-14FD-4637-8746-B13A5791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ABB8-4D00-4113-A7CC-A073BF94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DA50-BB94-4519-85A3-53430557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34CA-2317-4477-9D80-B0DD8D33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1A16-E1D4-4BBE-A235-E7EAE69D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1E1B-DFE9-4F90-832D-78B369B0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743E-459B-4A33-981D-131A7330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F67F-FBD8-4EF3-8793-EFB8DF49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B8FA-6403-4626-9158-4A77B389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BE95-4F42-48AE-A7F8-C1C53B8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A714-DD14-449A-96BC-567F2C7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5D96-FB57-4B44-A49B-62C8C7E3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237A-D266-4B02-8698-B74F419E69FA}" type="slidenum">
              <a:rPr b="0" lang="sk-SK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e8d8c"/>
                </a:solidFill>
                <a:latin typeface="Arial"/>
                <a:ea typeface="Arial"/>
              </a:rPr>
              <a:t>Pobijaková Margita, Šćepanović Danijela, Masaryková Andre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e8d8c"/>
                </a:solidFill>
                <a:latin typeface="Arial"/>
                <a:ea typeface="Arial"/>
              </a:rPr>
              <a:t>NOÚ, Bratislava, Slovaki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Obdélník 3"/>
          <p:cNvSpPr/>
          <p:nvPr/>
        </p:nvSpPr>
        <p:spPr>
          <a:xfrm>
            <a:off x="3063960" y="2602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f2b20"/>
                </a:solidFill>
                <a:latin typeface="Calibri"/>
                <a:ea typeface="Arial"/>
              </a:rPr>
              <a:t>TCP Project - IAE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675e47"/>
                </a:solidFill>
                <a:latin typeface="Cambria"/>
              </a:rPr>
              <a:t>Karcinóm prsníka: protokol plánovania rádioterapie (Breast Cancer Radiotherapy Protocol)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87480" y="-27000"/>
            <a:ext cx="951264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36360" y="-27000"/>
            <a:ext cx="950724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108000" y="-58680"/>
            <a:ext cx="950760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36360" y="-61920"/>
            <a:ext cx="951228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36360" y="-27000"/>
            <a:ext cx="950724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36360" y="-58680"/>
            <a:ext cx="950724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36360" y="-27000"/>
            <a:ext cx="951228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111240" y="-27000"/>
            <a:ext cx="950760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108000" y="-96840"/>
            <a:ext cx="9558360" cy="70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108000" y="-96840"/>
            <a:ext cx="9558360" cy="70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Indikácia R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Pooperačná rádioterapia po BCS (lumpektomia, tumorektomia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Skoré štádium karcinómu prsníka alebo DCI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Ožarovanie iba prsníka + boost na lôžko tumoru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108000" y="-96840"/>
            <a:ext cx="9558360" cy="70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108000" y="-96840"/>
            <a:ext cx="9558360" cy="70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108000" y="-58680"/>
            <a:ext cx="950760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36360" y="-27000"/>
            <a:ext cx="950724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36360" y="-58680"/>
            <a:ext cx="950724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181080" y="-27000"/>
            <a:ext cx="950760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Indikácia boostu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Vek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 &lt; 40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 a/alebo premenopauz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High grade histol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ógi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Tesné okraje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(&lt; 2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Triple negat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ívny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subty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Her2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+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 subty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T2-T3 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veľkosť tumoru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Exten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zívna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LVI 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alebo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PNI 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alebo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 EIC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Kontúrovanie boostu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GTV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 - ni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CTV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 – seróm (kavita)+ klipy + 10 mm lem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PTV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 – 10 mm lem okolo CTV kraniokaudálne, inak 5 mm v ostatných smeroch – minimálne 5 mm pod kožu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                 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- po m.pectoralis, príp.m.serratus ant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untitled"/>
          <p:cNvPicPr/>
          <p:nvPr/>
        </p:nvPicPr>
        <p:blipFill>
          <a:blip r:embed="rId1"/>
          <a:stretch/>
        </p:blipFill>
        <p:spPr>
          <a:xfrm>
            <a:off x="1476360" y="620640"/>
            <a:ext cx="5829480" cy="4645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478880" y="5276880"/>
            <a:ext cx="495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f2b20"/>
                </a:solidFill>
                <a:latin typeface="Arial"/>
                <a:ea typeface="Arial"/>
              </a:rPr>
              <a:t>Breast Cancer Atlas for Radiation Therapy Planning: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f2b20"/>
                </a:solidFill>
                <a:latin typeface="Arial"/>
                <a:ea typeface="Arial"/>
              </a:rPr>
              <a:t>Consensus Definitions (RTOG)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OA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1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Srdce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: začína hneď pod ľavou pulmonárnou artériou po hornú líniu ľavého hepatálneho lalok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1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ipsilater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álne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pľúca</a:t>
            </a:r>
            <a:r>
              <a:rPr b="0" lang="en-GB" sz="2400" spc="-1" strike="noStrike">
                <a:solidFill>
                  <a:srgbClr val="2f2b20"/>
                </a:solidFill>
                <a:latin typeface="Arial"/>
                <a:ea typeface="Arial"/>
              </a:rPr>
              <a:t>: 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celé ipsilaterálne pľúca </a:t>
            </a:r>
            <a:r>
              <a:rPr b="0" lang="en-GB" sz="2400" spc="-1" strike="noStrike">
                <a:solidFill>
                  <a:srgbClr val="2f2b20"/>
                </a:solidFill>
                <a:latin typeface="Arial"/>
                <a:ea typeface="Arial"/>
              </a:rPr>
              <a:t>(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kraniálne-línia cez zadný oblúk prvého rebra, kaudálne – diafragma)</a:t>
            </a:r>
            <a:r>
              <a:rPr b="0" lang="en-GB" sz="2400" spc="-1" strike="noStrike">
                <a:solidFill>
                  <a:srgbClr val="2f2b2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1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Kontralaterálny prsník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2f2b20"/>
                </a:solidFill>
                <a:latin typeface="Arial"/>
                <a:ea typeface="Arial"/>
              </a:rPr>
              <a:t>– 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 okraje definované ako CTV ožarovaného prsník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Príprava R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Arial"/>
                <a:ea typeface="Arial"/>
              </a:rPr>
              <a:t>Zobrazenie</a:t>
            </a:r>
            <a:r>
              <a:rPr b="0" lang="en-GB" sz="2600" spc="-1" strike="noStrike">
                <a:solidFill>
                  <a:srgbClr val="2f2b20"/>
                </a:solidFill>
                <a:latin typeface="Arial"/>
                <a:ea typeface="Arial"/>
              </a:rPr>
              <a:t>: CT </a:t>
            </a:r>
            <a:r>
              <a:rPr b="0" lang="sk-SK" sz="2600" spc="-1" strike="noStrike">
                <a:solidFill>
                  <a:srgbClr val="2f2b20"/>
                </a:solidFill>
                <a:latin typeface="Arial"/>
                <a:ea typeface="Arial"/>
              </a:rPr>
              <a:t>bez kontrastu, 3 mm hrúbka rezov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1" lang="sk-SK" sz="2600" spc="-1" strike="noStrike">
                <a:solidFill>
                  <a:srgbClr val="ff0000"/>
                </a:solidFill>
                <a:latin typeface="Arial"/>
                <a:ea typeface="Arial"/>
              </a:rPr>
              <a:t>loha</a:t>
            </a:r>
            <a:r>
              <a:rPr b="1" lang="sk-SK" sz="2600" spc="-1" strike="noStrike">
                <a:solidFill>
                  <a:srgbClr val="2f2b20"/>
                </a:solidFill>
                <a:latin typeface="Arial"/>
                <a:ea typeface="Arial"/>
              </a:rPr>
              <a:t>:</a:t>
            </a:r>
            <a:r>
              <a:rPr b="0" lang="en-GB" sz="2600" spc="-1" strike="noStrike">
                <a:solidFill>
                  <a:srgbClr val="2f2b20"/>
                </a:solidFill>
                <a:latin typeface="Arial"/>
                <a:ea typeface="Arial"/>
              </a:rPr>
              <a:t> supin</a:t>
            </a:r>
            <a:r>
              <a:rPr b="0" lang="sk-SK" sz="2600" spc="-1" strike="noStrike">
                <a:solidFill>
                  <a:srgbClr val="2f2b20"/>
                </a:solidFill>
                <a:latin typeface="Arial"/>
                <a:ea typeface="Arial"/>
              </a:rPr>
              <a:t>ačná, ruky nad hlavou, použité imobilizačné pomôcky</a:t>
            </a:r>
            <a:r>
              <a:rPr b="0" lang="en-GB" sz="2600" spc="-1" strike="noStrike">
                <a:solidFill>
                  <a:srgbClr val="2f2b20"/>
                </a:solidFill>
                <a:latin typeface="Arial"/>
                <a:ea typeface="Arial"/>
              </a:rPr>
              <a:t> (wing step, breast board …) </a:t>
            </a:r>
            <a:r>
              <a:rPr b="0" lang="sk-SK" sz="2600" spc="-1" strike="noStrike">
                <a:solidFill>
                  <a:srgbClr val="2f2b20"/>
                </a:solidFill>
                <a:latin typeface="Arial"/>
                <a:ea typeface="Arial"/>
              </a:rPr>
              <a:t>a podložka pod kolená</a:t>
            </a:r>
            <a:r>
              <a:rPr b="0" lang="en-GB" sz="2600" spc="-1" strike="noStrike">
                <a:solidFill>
                  <a:srgbClr val="2f2b2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Arial"/>
                <a:ea typeface="Arial"/>
              </a:rPr>
              <a:t>Kontrastné značky</a:t>
            </a:r>
            <a:r>
              <a:rPr b="1" lang="sk-SK" sz="2600" spc="-1" strike="noStrike">
                <a:solidFill>
                  <a:srgbClr val="2f2b20"/>
                </a:solidFill>
                <a:latin typeface="Arial"/>
                <a:ea typeface="Arial"/>
              </a:rPr>
              <a:t>: </a:t>
            </a:r>
            <a:r>
              <a:rPr b="0" lang="sk-SK" sz="2600" spc="-1" strike="noStrike">
                <a:solidFill>
                  <a:srgbClr val="2f2b20"/>
                </a:solidFill>
                <a:latin typeface="Arial"/>
                <a:ea typeface="Arial"/>
              </a:rPr>
              <a:t>okolo prsníka, jazva, laterálne referenčné body (CT plánovanie)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27317" t="34020" r="44298" b="12600"/>
          <a:stretch/>
        </p:blipFill>
        <p:spPr>
          <a:xfrm>
            <a:off x="1403280" y="-58680"/>
            <a:ext cx="637056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rcRect l="29532" t="34650" r="44298" b="12600"/>
          <a:stretch/>
        </p:blipFill>
        <p:spPr>
          <a:xfrm>
            <a:off x="1619280" y="-27000"/>
            <a:ext cx="594216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29532" t="34650" r="44298" b="12600"/>
          <a:stretch/>
        </p:blipFill>
        <p:spPr>
          <a:xfrm>
            <a:off x="1438200" y="-58680"/>
            <a:ext cx="594216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29532" t="34650" r="44298" b="12600"/>
          <a:stretch/>
        </p:blipFill>
        <p:spPr>
          <a:xfrm>
            <a:off x="1619280" y="-27000"/>
            <a:ext cx="594216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29532" t="34650" r="44298" b="12600"/>
          <a:stretch/>
        </p:blipFill>
        <p:spPr>
          <a:xfrm>
            <a:off x="1654200" y="-27000"/>
            <a:ext cx="594216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Dose constrai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Calibri"/>
              </a:rPr>
              <a:t>srdce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 – </a:t>
            </a:r>
            <a:r>
              <a:rPr b="0" lang="sk-SK" sz="2800" spc="-1" strike="noStrike">
                <a:solidFill>
                  <a:srgbClr val="2f2b20"/>
                </a:solidFill>
                <a:latin typeface="Calibri"/>
              </a:rPr>
              <a:t>V</a:t>
            </a:r>
            <a:r>
              <a:rPr b="0" lang="en-GB" sz="2800" spc="-1" strike="noStrike" baseline="-25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 &lt; 33%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                 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V</a:t>
            </a:r>
            <a:r>
              <a:rPr b="0" lang="en-GB" sz="2800" spc="-1" strike="noStrike" baseline="-25000">
                <a:solidFill>
                  <a:srgbClr val="2f2b20"/>
                </a:solidFill>
                <a:latin typeface="Calibri"/>
              </a:rPr>
              <a:t>20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 &lt; 10%</a:t>
            </a:r>
            <a:r>
              <a:rPr b="0" lang="sk-SK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Calibri"/>
              </a:rPr>
              <a:t>     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V</a:t>
            </a:r>
            <a:r>
              <a:rPr b="0" lang="en-GB" sz="2800" spc="-1" strike="noStrike" baseline="-25000">
                <a:solidFill>
                  <a:srgbClr val="2f2b20"/>
                </a:solidFill>
                <a:latin typeface="Calibri"/>
              </a:rPr>
              <a:t>40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 &lt; 3%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Ipsilater</a:t>
            </a:r>
            <a:r>
              <a:rPr b="1" lang="sk-SK" sz="2800" spc="-1" strike="noStrike">
                <a:solidFill>
                  <a:srgbClr val="ff0000"/>
                </a:solidFill>
                <a:latin typeface="Calibri"/>
              </a:rPr>
              <a:t>álne pľúca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– V</a:t>
            </a:r>
            <a:r>
              <a:rPr b="0" lang="en-GB" sz="2800" spc="-1" strike="noStrike" baseline="-25000">
                <a:solidFill>
                  <a:srgbClr val="2f2b20"/>
                </a:solidFill>
                <a:latin typeface="Calibri"/>
              </a:rPr>
              <a:t>20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 ≤</a:t>
            </a:r>
            <a:r>
              <a:rPr b="0" lang="sk-SK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10%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Calibri"/>
              </a:rPr>
              <a:t>Kontralaterálny prsník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sk-SK" sz="2800" spc="-1" strike="noStrike">
                <a:solidFill>
                  <a:srgbClr val="2f2b20"/>
                </a:solidFill>
                <a:latin typeface="Calibri"/>
              </a:rPr>
              <a:t>vyhnúť sa kontralaterálnemu prsníku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. Medi</a:t>
            </a:r>
            <a:r>
              <a:rPr b="0" lang="sk-SK" sz="2800" spc="-1" strike="noStrike">
                <a:solidFill>
                  <a:srgbClr val="2f2b20"/>
                </a:solidFill>
                <a:latin typeface="Calibri"/>
              </a:rPr>
              <a:t>álny okraj 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CTV (</a:t>
            </a:r>
            <a:r>
              <a:rPr b="0" lang="sk-SK" sz="2800" spc="-1" strike="noStrike">
                <a:solidFill>
                  <a:srgbClr val="2f2b20"/>
                </a:solidFill>
                <a:latin typeface="Calibri"/>
              </a:rPr>
              <a:t>ožarovaný prsník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) </a:t>
            </a:r>
            <a:r>
              <a:rPr b="0" lang="sk-SK" sz="2800" spc="-1" strike="noStrike">
                <a:solidFill>
                  <a:srgbClr val="2f2b20"/>
                </a:solidFill>
                <a:latin typeface="Calibri"/>
              </a:rPr>
              <a:t>by nemal prechádzať stredovou líniou tela</a:t>
            </a: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Plánovan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3D konformné plánovani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Dozimetria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Arial"/>
              </a:rPr>
              <a:t>optimálne V95 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  <a:ea typeface="Arial"/>
              </a:rPr>
              <a:t>&gt;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95%, určite V95 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  <a:ea typeface="Arial"/>
              </a:rPr>
              <a:t>&gt;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90%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Arial"/>
              </a:rPr>
              <a:t>V 105% 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  <a:ea typeface="Arial"/>
              </a:rPr>
              <a:t>&lt;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 7%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Dmax 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  <a:ea typeface="Arial"/>
              </a:rPr>
              <a:t>&lt;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 110%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23995" t="29610" r="20303" b="6300"/>
          <a:stretch/>
        </p:blipFill>
        <p:spPr>
          <a:xfrm>
            <a:off x="-662040" y="-98280"/>
            <a:ext cx="10469520" cy="70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Preskripcia dávk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Celý prsník 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– 50 Gy, frakcionácia 2Gy/fr, 5 frakcií týždenn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Možné hypofrakcionačné režimy (40 Gy/2,67/d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  <a:ea typeface="Arial"/>
              </a:rPr>
              <a:t>;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 42,5 Gy/2,5/Gy/d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Boost</a:t>
            </a:r>
            <a:r>
              <a:rPr b="0" lang="sk-SK" sz="2800" spc="-1" strike="noStrike">
                <a:solidFill>
                  <a:srgbClr val="2f2b20"/>
                </a:solidFill>
                <a:latin typeface="Arial"/>
                <a:ea typeface="Arial"/>
              </a:rPr>
              <a:t> – 10-16 Gy, 2Gy/frakciu, 5 frakcií týždenn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Kontúrovanie prsník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lnSpc>
                <a:spcPct val="15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  <a:ea typeface="Arial"/>
              </a:rPr>
              <a:t>GTV – </a:t>
            </a: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nie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2640" indent="-221400">
              <a:lnSpc>
                <a:spcPct val="15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  <a:ea typeface="Arial"/>
              </a:rPr>
              <a:t>CTV</a:t>
            </a: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 – kraniálny okraj – kaudálny okraj sternoklavikulárneho skĺbeni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2640" indent="-221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           </a:t>
            </a: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- kaudálny okraj- inframamárny sulcu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2640" indent="-221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           </a:t>
            </a: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- laterálny okraj – typicky stredná axilárna línia, mimo m.latissimus dorsi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2640" indent="-221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           </a:t>
            </a: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- mediálny okraj- maximálne k ipsilaterálnemu okraju stern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2640" indent="-221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- ventrálny okraj – 5 mm pod kožu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2640" indent="-221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sk-SK" sz="2000" spc="-1" strike="noStrike">
                <a:solidFill>
                  <a:srgbClr val="2f2b20"/>
                </a:solidFill>
                <a:latin typeface="Arial"/>
                <a:ea typeface="Arial"/>
              </a:rPr>
              <a:t>- dorzálny okraj – m.pectoralis maj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675e47"/>
                </a:solidFill>
                <a:latin typeface="Cambria"/>
              </a:rPr>
              <a:t>Kontúrovanie prsník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PTV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 – 10 mm lem kraniokaudálne, v ostatných smeroch 5 m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 – </a:t>
            </a:r>
            <a:r>
              <a:rPr b="0" lang="sk-SK" sz="2400" spc="-1" strike="noStrike">
                <a:solidFill>
                  <a:srgbClr val="2f2b20"/>
                </a:solidFill>
                <a:latin typeface="Arial"/>
                <a:ea typeface="Arial"/>
              </a:rPr>
              <a:t>upraviť PTV aby nešiel mimo obrysu tela (PTV-eval – kvôli dozimetrii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0" y="23760"/>
            <a:ext cx="8636040" cy="612000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2"/>
          <p:cNvSpPr/>
          <p:nvPr/>
        </p:nvSpPr>
        <p:spPr>
          <a:xfrm>
            <a:off x="395280" y="623412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Marsh R, 2013 - Contouring for Modern Breast Cancer Treatment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22149" t="25200" r="18458" b="0"/>
          <a:stretch/>
        </p:blipFill>
        <p:spPr>
          <a:xfrm>
            <a:off x="-255600" y="-27000"/>
            <a:ext cx="950760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3T12:52:31Z</dcterms:created>
  <dc:creator>Home</dc:creator>
  <dc:description/>
  <dc:language>en-US</dc:language>
  <cp:lastModifiedBy>Home</cp:lastModifiedBy>
  <dcterms:modified xsi:type="dcterms:W3CDTF">2014-05-17T08:08:34Z</dcterms:modified>
  <cp:revision>51</cp:revision>
  <dc:subject/>
  <dc:title>Protocol for radiotherapy of breast cancer planning - draft</dc:title>
</cp:coreProperties>
</file>