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37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54200"/>
            <a:ext cx="5029200" cy="377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56560"/>
            <a:ext cx="297828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3760" y="9556560"/>
            <a:ext cx="297828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9E15-4F23-4615-BAFA-FD6B43EF4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2320" y="754200"/>
            <a:ext cx="5029200" cy="3773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čísla snímky 3"/>
          <p:cNvSpPr/>
          <p:nvPr/>
        </p:nvSpPr>
        <p:spPr>
          <a:xfrm>
            <a:off x="3894120" y="9556920"/>
            <a:ext cx="2978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DCDD-A7D1-4920-A3AB-DDF29976D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269-BFCA-4B3A-8F52-380A0C92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345-6B15-463F-B0E3-05EFB59F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5E5-5177-4EA1-B4DE-336839AF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844-E4C0-4C39-BCCE-4229820B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CDE-9055-48A2-AC51-CB8085BF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09B-1520-41FA-B709-7033D35A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1A6-EBD3-459B-8E2F-6B68010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1CA-8E61-4724-9EE7-2C04C9BC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B6F-6530-4748-97F1-DD8E8831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74A-8115-4A78-A69D-5A43F2B1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29F-4CA0-4E98-B85E-C4A77CC6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654-E935-4F42-9D17-6B70248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4D9E-20F4-4C5F-97BC-0279252E9A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arcinóm prostaty: protokol plánovania rádioterapie </a:t>
            </a:r>
            <a:r>
              <a:rPr b="0" i="1" lang="sk-SK" sz="4400" spc="-1" strike="noStrike">
                <a:solidFill>
                  <a:srgbClr val="000000"/>
                </a:solidFill>
                <a:latin typeface="Arial"/>
              </a:rPr>
              <a:t>Prostate cancer: radiotherapy protocol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Pavol Dubin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Apex – lokalizácia G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2685960" cy="3124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3809880" cy="2552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518148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. levator 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56272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p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vná spojnica 2"/>
          <p:cNvSpPr/>
          <p:nvPr/>
        </p:nvSpPr>
        <p:spPr>
          <a:xfrm flipV="1">
            <a:off x="2209680" y="3962520"/>
            <a:ext cx="0" cy="45720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BlokTextu 3"/>
          <p:cNvSpPr/>
          <p:nvPr/>
        </p:nvSpPr>
        <p:spPr>
          <a:xfrm>
            <a:off x="1143000" y="4038480"/>
            <a:ext cx="13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1-1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Rovná spojovacia šípka 5"/>
          <p:cNvCxnSpPr/>
          <p:nvPr/>
        </p:nvCxnSpPr>
        <p:spPr>
          <a:xfrm flipV="1">
            <a:off x="2209320" y="3962160"/>
            <a:ext cx="1080" cy="457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pex – lokalizácia GUD: </a:t>
            </a:r>
            <a:br>
              <a:rPr sz="28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okalizácia zobrazenia na axiálnych CT rezoch si vyžaduje najviac skúseností: bulbus penis – GUD - ap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584520" cy="4038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172200" y="43434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afrag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572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chú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33440" y="2209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emenné mechúr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9204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. obturatorius inter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80880" y="39625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. levator 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80880" y="4419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 pu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80880" y="4952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ulbus pe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3D plánovanie rádioterapie:             GTV – lokalizácia apexu prost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1204920" y="1600200"/>
            <a:ext cx="25416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1295280" y="3886200"/>
            <a:ext cx="244008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5257800" y="4038480"/>
            <a:ext cx="289548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5334120" y="1676520"/>
            <a:ext cx="2743200" cy="2187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5105520" y="62485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www.prostadood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Báza: MR – CT simulá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862680" cy="3409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2514600" y="1676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867280" y="1600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Určenie bázy – kontrola                             v sagitálnom a transverzálnom re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038480" cy="366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862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Rozhranie rektum/anus - prost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810240" cy="325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4952880" y="2387520"/>
            <a:ext cx="403884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Rozhranie rektum/anus - prost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380880" y="2260440"/>
            <a:ext cx="4210200" cy="349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2"/>
          <a:stretch/>
        </p:blipFill>
        <p:spPr>
          <a:xfrm>
            <a:off x="4648320" y="2259000"/>
            <a:ext cx="420984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TV – lem okolo prost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ízke riziko: malá pravdepodobnosť extrakapsulárneho rastu: bez CTV okr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redné riziko a vysoké riziko: významná pravdepodobnosť: CTV okr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xtraprostatické šírenie - 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01956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38080" y="6172200"/>
            <a:ext cx="5334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zdialenosť radiálneho šírenia pri ECE v mm 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(Davis, BJCancer 1999, 85, 26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934320" y="2057400"/>
            <a:ext cx="2209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yo Cli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05/376 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ián PSA 1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4876920" y="2133720"/>
            <a:ext cx="914400" cy="4038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T/MR lokalizácia prost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609480" y="1238400"/>
            <a:ext cx="7539120" cy="5619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609480" y="45720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09480" y="4572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C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tocol for radiotherapy planning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of prostate cancer -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2209680"/>
          <a:ext cx="5950080" cy="1760760"/>
        </p:xfrm>
        <a:graphic>
          <a:graphicData uri="http://schemas.openxmlformats.org/drawingml/2006/table">
            <a:tbl>
              <a:tblPr/>
              <a:tblGrid>
                <a:gridCol w="1189080"/>
                <a:gridCol w="1020600"/>
                <a:gridCol w="1219320"/>
                <a:gridCol w="1330200"/>
                <a:gridCol w="1190880"/>
              </a:tblGrid>
              <a:tr h="251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 gro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T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T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T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02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m, 8 mm to rec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753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medi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 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3 mm  and </a:t>
                      </a:r>
                      <a:r>
                        <a:rPr b="0" lang="sk-SK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cm of seminal vesic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m, 7 mm to rec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02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 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3 mm and 2 cm  of seminal vesic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m, 7 mm to rec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1"/>
          <p:cNvSpPr/>
          <p:nvPr/>
        </p:nvSpPr>
        <p:spPr>
          <a:xfrm>
            <a:off x="132480" y="911880"/>
            <a:ext cx="89694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Indication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: primary radiotherapy of localised or locally advanced prostate cancer, irradiation of prostate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Imaging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: CT scan without contrast, 3 mm slice thick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Positioning: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 supine, arms on chest, knee and ankle support cush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Marking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: reference points or isocenter in case of V-si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Dose prescription and deline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Organs at risk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ectum - from bottom of ischial bones to sigmoid, watch rectum diameter at the level of bladder neck - maximum 4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bladder - whole 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hip j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Dose constraints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bladder - no hot sp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ectum - V7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  <a:ea typeface="Calibri"/>
              </a:rPr>
              <a:t>20%, V5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  <a:ea typeface="Calibri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femoral heads - V5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 5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Planning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: 3D conformal (at least 5 fields) or IM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Dosimetry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: 95% of PTV covered by ≥ 95% of prescribed dose, avoid dose &gt; 10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of the PTV prescribed dose to more than 2% of patient body vol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T/MR lokalizácia prost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733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038840" cy="36115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2743200" y="5486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RI + 5mm      =    CT + 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TV okr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T zobrazenie + 3 mm                            (pri strednom a vysokom rizi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zotropická exp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kraj nezasahuje do rekta a k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zor na oblasť neurovaskulárneho zväzku – najčastejšie miesto 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TV okr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41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Infiltrácia semenných mechúrikov - S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alá pravdepodobnosť pri nízkom riz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znamná pri strednom a vysokom riz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MR zobrazenie – lokalizácia bázy semenných mechúrik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2705040" cy="304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3733560" cy="2473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40384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chodná zó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31520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chú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733920" y="5715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emenné mechúr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705720" y="57150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eriférna zó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821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zťah medzi rektálnymi komplikáciami a objemom ožiarených semenných mechúriko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934240" cy="4549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5562720" y="63244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ineberg, ASTRO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ostata je pohyblivý org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ávisí od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ideálne je denné sledovanie pomocou intraprostatických markerov a ešte lepšie stopovanie v reálnom č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j pri IGRT protokole musí okraj zostať aspoň         7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ožný anizotropický okr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aR - rek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prostata"/>
          <p:cNvPicPr/>
          <p:nvPr/>
        </p:nvPicPr>
        <p:blipFill>
          <a:blip r:embed="rId1"/>
          <a:stretch/>
        </p:blipFill>
        <p:spPr>
          <a:xfrm>
            <a:off x="2286000" y="1676520"/>
            <a:ext cx="6705720" cy="51814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85800" y="18288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k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chú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C:\Users\uzivatel\AppData\Local\Temp\3.jpg"/>
          <p:cNvPicPr/>
          <p:nvPr/>
        </p:nvPicPr>
        <p:blipFill>
          <a:blip r:embed="rId1"/>
          <a:stretch/>
        </p:blipFill>
        <p:spPr>
          <a:xfrm>
            <a:off x="762120" y="1905120"/>
            <a:ext cx="76816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Protocol for radiotherapy planning</a:t>
            </a:r>
            <a:r>
              <a:rPr b="1" lang="sk-SK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of prostate cancer -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Indica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: primary radiotherapy of localised or locally advanced prostate cancer, irradiation of prostat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Imaging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: CT scan without contrast, 3 mm slice th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Positioning: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supine, arms on chest, knee and ankle support cush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Marking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: reference points or isocenter in case of V-s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Protocol for radiotherapy planning</a:t>
            </a:r>
            <a:r>
              <a:rPr b="1" lang="sk-SK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of prostate can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Organs at risk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rectum - from bottom of ischial bones to sigmoid, watch rectum diameter at the level of bladder neck - maximum 4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bladder - whole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hip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Dose constraint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bladder - no hot sp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rectum - V70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&lt;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  <a:ea typeface="Calibri"/>
              </a:rPr>
              <a:t>20%, V50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&lt;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  <a:ea typeface="Calibri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femoral heads - V50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&lt; 5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Planning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: 3D conformal (at least 5 fields) or IM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Dozime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Dosimet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: 95% of PTV covered by ≥ 95% of prescribed dose, avoid dose &gt; 107%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of the PTV prescribed dose to more than 2% of patient body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Protocol for radiotherapy planning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of prostate canc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905120"/>
          <a:ext cx="8458200" cy="3436920"/>
        </p:xfrm>
        <a:graphic>
          <a:graphicData uri="http://schemas.openxmlformats.org/drawingml/2006/table">
            <a:tbl>
              <a:tblPr/>
              <a:tblGrid>
                <a:gridCol w="1690560"/>
                <a:gridCol w="1451160"/>
                <a:gridCol w="1731960"/>
                <a:gridCol w="1892160"/>
                <a:gridCol w="1692360"/>
              </a:tblGrid>
              <a:tr h="490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 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T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T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T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982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m, 8 mm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rect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981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medi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 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3 mm  and 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cm of seminal vesi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m, 7 mm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rect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982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 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3 mm and 2 cm  of seminal vesi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m, 7 mm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rect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hraničenie cieľových objem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T/MR lokal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pex, báza, rozhranie prostata/rek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asovanie plánov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k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emenné mechúr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ymfatické uzl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operačná rádiotera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T zobraz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loh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loha na chrb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uky na prsi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ložka pod hla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ložka pod kol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xácia člen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omfortne naplnený mechú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yprázdnený koneč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iétny režim proti nafukovan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T zobraz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značenie referenčných bod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ez kontra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valitná akvizí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3 mm CT re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L4/L5 -  pod sedacie k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Náplň rekta: limit AP v oblasti krčka mechúra: 4,5 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038480" cy="3459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91440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jate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029200" y="57150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eprijate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G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GTV = celá pros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ritické obla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p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á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hranie konečníka/anusu a prost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e lepšiu orientáci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R/CT fú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.v. kont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zivatel</dc:creator>
  <dc:description/>
  <dc:language>en-US</dc:language>
  <cp:lastModifiedBy>uzivatel</cp:lastModifiedBy>
  <dcterms:modified xsi:type="dcterms:W3CDTF">2014-05-13T20:02:3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